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D5D-E8F6-470E-BD9A-BD8B6991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800-4C71-4A71-8B32-57BD0B2B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7A7-615E-4C66-9F4B-5CDC0710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DBA-CC74-42DE-BD6F-3675A483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A9D-3980-4C3B-A235-640717C6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3E63-5456-42B1-B4D4-1F62D4F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8DA-B2FA-47D7-AFA6-7937C3E6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9811-DA55-48F8-A99F-A4999CB5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F6DA-E872-4104-84A0-5EEAF4CA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7B76-566C-478D-BE81-44C8648A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1CE-BD62-4586-B481-554768C5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D82-B81C-4052-8FE0-447BC79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26E-029B-41A4-B131-69FE5E3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D9B5-6E14-4156-9F88-1257416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06FA-902B-4762-88FB-1C41C66F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389D-3E9B-433D-8DBB-EF4C20A6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30A0-9513-4D17-8996-009969BB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C6C-A89A-45E1-A3D1-38ACC59D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1E2-062E-4260-9ECE-0FEDCDCE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D13-564E-4BE4-8458-18F5199C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9E9-4EB7-4F3C-9A85-D3D2BAD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32B-E470-40E7-8E2F-8352150F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888-7230-4A68-AC8B-0C56914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0F7-7355-48BC-89FE-FCCD07E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ACB-4E5C-4583-B23C-C3460DEACD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68A-C847-473C-9743-A3CA4E7144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Lesson 9.3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Geometric Sequence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quence where the consecutive terms have a “common ratio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r” is the common ratio that is determined when consecutive terms are divided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04920" y="3517920"/>
            <a:ext cx="2359080" cy="1251000"/>
          </a:xfrm>
          <a:custGeom>
            <a:avLst/>
            <a:gdLst/>
            <a:ahLst/>
            <a:rect l="l" t="t" r="r" b="b"/>
            <a:pathLst>
              <a:path w="6549" h="3474">
                <a:moveTo>
                  <a:pt x="4242" y="10244"/>
                </a:moveTo>
                <a:cubicBezTo>
                  <a:pt x="4242" y="10272"/>
                  <a:pt x="4240" y="10283"/>
                  <a:pt x="4217" y="10294"/>
                </a:cubicBezTo>
                <a:cubicBezTo>
                  <a:pt x="4192" y="10252"/>
                  <a:pt x="4195" y="10246"/>
                  <a:pt x="4192" y="10195"/>
                </a:cubicBezTo>
                <a:cubicBezTo>
                  <a:pt x="4187" y="10110"/>
                  <a:pt x="4195" y="10051"/>
                  <a:pt x="4167" y="9971"/>
                </a:cubicBezTo>
                <a:cubicBezTo>
                  <a:pt x="4148" y="9918"/>
                  <a:pt x="4135" y="9888"/>
                  <a:pt x="4093" y="9847"/>
                </a:cubicBezTo>
                <a:cubicBezTo>
                  <a:pt x="4047" y="9802"/>
                  <a:pt x="4034" y="9777"/>
                  <a:pt x="3969" y="9773"/>
                </a:cubicBezTo>
                <a:cubicBezTo>
                  <a:pt x="3893" y="9768"/>
                  <a:pt x="3839" y="9787"/>
                  <a:pt x="3770" y="9798"/>
                </a:cubicBezTo>
                <a:cubicBezTo>
                  <a:pt x="3697" y="9810"/>
                  <a:pt x="3643" y="9839"/>
                  <a:pt x="3597" y="9897"/>
                </a:cubicBezTo>
                <a:cubicBezTo>
                  <a:pt x="3548" y="9958"/>
                  <a:pt x="3511" y="9996"/>
                  <a:pt x="3473" y="10071"/>
                </a:cubicBezTo>
                <a:cubicBezTo>
                  <a:pt x="3434" y="10149"/>
                  <a:pt x="3425" y="10215"/>
                  <a:pt x="3398" y="10294"/>
                </a:cubicBezTo>
                <a:cubicBezTo>
                  <a:pt x="3368" y="10382"/>
                  <a:pt x="3353" y="10476"/>
                  <a:pt x="3349" y="10567"/>
                </a:cubicBezTo>
                <a:cubicBezTo>
                  <a:pt x="3346" y="10637"/>
                  <a:pt x="3369" y="10710"/>
                  <a:pt x="3398" y="10765"/>
                </a:cubicBezTo>
                <a:cubicBezTo>
                  <a:pt x="3447" y="10856"/>
                  <a:pt x="3446" y="10851"/>
                  <a:pt x="3522" y="10889"/>
                </a:cubicBezTo>
                <a:cubicBezTo>
                  <a:pt x="3585" y="10921"/>
                  <a:pt x="3628" y="10914"/>
                  <a:pt x="3696" y="10889"/>
                </a:cubicBezTo>
                <a:cubicBezTo>
                  <a:pt x="3771" y="10862"/>
                  <a:pt x="3814" y="10812"/>
                  <a:pt x="3870" y="10765"/>
                </a:cubicBezTo>
                <a:cubicBezTo>
                  <a:pt x="3922" y="10721"/>
                  <a:pt x="3963" y="10675"/>
                  <a:pt x="3994" y="10616"/>
                </a:cubicBezTo>
                <a:cubicBezTo>
                  <a:pt x="4021" y="10565"/>
                  <a:pt x="4046" y="10517"/>
                  <a:pt x="4068" y="10468"/>
                </a:cubicBezTo>
                <a:cubicBezTo>
                  <a:pt x="4093" y="10413"/>
                  <a:pt x="4087" y="10399"/>
                  <a:pt x="4093" y="10344"/>
                </a:cubicBezTo>
                <a:cubicBezTo>
                  <a:pt x="4078" y="10405"/>
                  <a:pt x="4090" y="10421"/>
                  <a:pt x="4093" y="10492"/>
                </a:cubicBezTo>
                <a:cubicBezTo>
                  <a:pt x="4096" y="10557"/>
                  <a:pt x="4108" y="10606"/>
                  <a:pt x="4118" y="10666"/>
                </a:cubicBezTo>
                <a:cubicBezTo>
                  <a:pt x="4128" y="10723"/>
                  <a:pt x="4133" y="10786"/>
                  <a:pt x="4167" y="10840"/>
                </a:cubicBezTo>
                <a:cubicBezTo>
                  <a:pt x="4190" y="10862"/>
                  <a:pt x="4198" y="10867"/>
                  <a:pt x="4192" y="10889"/>
                </a:cubicBezTo>
              </a:path>
              <a:path w="6549" h="3474">
                <a:moveTo>
                  <a:pt x="4440" y="10765"/>
                </a:moveTo>
                <a:cubicBezTo>
                  <a:pt x="4453" y="10726"/>
                  <a:pt x="4479" y="10740"/>
                  <a:pt x="4514" y="10716"/>
                </a:cubicBezTo>
                <a:cubicBezTo>
                  <a:pt x="4526" y="10708"/>
                  <a:pt x="4593" y="10665"/>
                  <a:pt x="4614" y="10691"/>
                </a:cubicBezTo>
                <a:cubicBezTo>
                  <a:pt x="4635" y="10717"/>
                  <a:pt x="4672" y="10717"/>
                  <a:pt x="4688" y="10765"/>
                </a:cubicBezTo>
                <a:cubicBezTo>
                  <a:pt x="4703" y="10810"/>
                  <a:pt x="4686" y="10877"/>
                  <a:pt x="4663" y="10914"/>
                </a:cubicBezTo>
                <a:cubicBezTo>
                  <a:pt x="4640" y="10952"/>
                  <a:pt x="4623" y="10979"/>
                  <a:pt x="4589" y="11013"/>
                </a:cubicBezTo>
                <a:cubicBezTo>
                  <a:pt x="4566" y="11036"/>
                  <a:pt x="4553" y="11081"/>
                  <a:pt x="4539" y="11088"/>
                </a:cubicBezTo>
                <a:cubicBezTo>
                  <a:pt x="4531" y="11088"/>
                  <a:pt x="4522" y="11088"/>
                  <a:pt x="4514" y="11088"/>
                </a:cubicBezTo>
                <a:cubicBezTo>
                  <a:pt x="4603" y="11088"/>
                  <a:pt x="4686" y="11096"/>
                  <a:pt x="4762" y="11112"/>
                </a:cubicBezTo>
                <a:cubicBezTo>
                  <a:pt x="4812" y="11122"/>
                  <a:pt x="4856" y="11088"/>
                  <a:pt x="4911" y="11088"/>
                </a:cubicBezTo>
                <a:cubicBezTo>
                  <a:pt x="4954" y="11088"/>
                  <a:pt x="4949" y="11098"/>
                  <a:pt x="4961" y="11063"/>
                </a:cubicBezTo>
              </a:path>
              <a:path w="6549" h="3474">
                <a:moveTo>
                  <a:pt x="3373" y="11336"/>
                </a:moveTo>
                <a:cubicBezTo>
                  <a:pt x="3495" y="11336"/>
                  <a:pt x="3603" y="11347"/>
                  <a:pt x="3721" y="11361"/>
                </a:cubicBezTo>
                <a:cubicBezTo>
                  <a:pt x="3866" y="11378"/>
                  <a:pt x="4021" y="11381"/>
                  <a:pt x="4167" y="11385"/>
                </a:cubicBezTo>
                <a:cubicBezTo>
                  <a:pt x="4490" y="11393"/>
                  <a:pt x="5408" y="11385"/>
                  <a:pt x="5085" y="11385"/>
                </a:cubicBezTo>
                <a:cubicBezTo>
                  <a:pt x="5060" y="11385"/>
                  <a:pt x="5052" y="11385"/>
                  <a:pt x="5035" y="11385"/>
                </a:cubicBezTo>
              </a:path>
              <a:path w="6549" h="3474">
                <a:moveTo>
                  <a:pt x="4093" y="12229"/>
                </a:moveTo>
                <a:cubicBezTo>
                  <a:pt x="4085" y="12245"/>
                  <a:pt x="4076" y="12262"/>
                  <a:pt x="4068" y="12278"/>
                </a:cubicBezTo>
                <a:cubicBezTo>
                  <a:pt x="4068" y="12166"/>
                  <a:pt x="4060" y="12061"/>
                  <a:pt x="4043" y="11956"/>
                </a:cubicBezTo>
                <a:cubicBezTo>
                  <a:pt x="4034" y="11902"/>
                  <a:pt x="4017" y="11828"/>
                  <a:pt x="3994" y="11782"/>
                </a:cubicBezTo>
                <a:cubicBezTo>
                  <a:pt x="3960" y="11714"/>
                  <a:pt x="3882" y="11711"/>
                  <a:pt x="3820" y="11708"/>
                </a:cubicBezTo>
                <a:cubicBezTo>
                  <a:pt x="3777" y="11706"/>
                  <a:pt x="3701" y="11748"/>
                  <a:pt x="3671" y="11782"/>
                </a:cubicBezTo>
                <a:cubicBezTo>
                  <a:pt x="3620" y="11842"/>
                  <a:pt x="3580" y="11915"/>
                  <a:pt x="3547" y="11981"/>
                </a:cubicBezTo>
                <a:cubicBezTo>
                  <a:pt x="3507" y="12060"/>
                  <a:pt x="3477" y="12141"/>
                  <a:pt x="3473" y="12229"/>
                </a:cubicBezTo>
                <a:cubicBezTo>
                  <a:pt x="3469" y="12334"/>
                  <a:pt x="3445" y="12422"/>
                  <a:pt x="3473" y="12526"/>
                </a:cubicBezTo>
                <a:cubicBezTo>
                  <a:pt x="3496" y="12612"/>
                  <a:pt x="3538" y="12686"/>
                  <a:pt x="3597" y="12750"/>
                </a:cubicBezTo>
                <a:cubicBezTo>
                  <a:pt x="3636" y="12792"/>
                  <a:pt x="3693" y="12814"/>
                  <a:pt x="3746" y="12824"/>
                </a:cubicBezTo>
                <a:cubicBezTo>
                  <a:pt x="3815" y="12837"/>
                  <a:pt x="3841" y="12805"/>
                  <a:pt x="3894" y="12774"/>
                </a:cubicBezTo>
                <a:cubicBezTo>
                  <a:pt x="3954" y="12738"/>
                  <a:pt x="3982" y="12711"/>
                  <a:pt x="4018" y="12650"/>
                </a:cubicBezTo>
                <a:cubicBezTo>
                  <a:pt x="4044" y="12607"/>
                  <a:pt x="4072" y="12565"/>
                  <a:pt x="4093" y="12526"/>
                </a:cubicBezTo>
                <a:cubicBezTo>
                  <a:pt x="4113" y="12486"/>
                  <a:pt x="4111" y="12470"/>
                  <a:pt x="4142" y="12477"/>
                </a:cubicBezTo>
                <a:cubicBezTo>
                  <a:pt x="4142" y="12550"/>
                  <a:pt x="4156" y="12608"/>
                  <a:pt x="4167" y="12675"/>
                </a:cubicBezTo>
                <a:cubicBezTo>
                  <a:pt x="4176" y="12734"/>
                  <a:pt x="4183" y="12797"/>
                  <a:pt x="4217" y="12849"/>
                </a:cubicBezTo>
                <a:cubicBezTo>
                  <a:pt x="4249" y="12898"/>
                  <a:pt x="4301" y="12923"/>
                  <a:pt x="4341" y="12948"/>
                </a:cubicBezTo>
              </a:path>
              <a:path w="6549" h="3474">
                <a:moveTo>
                  <a:pt x="4663" y="12824"/>
                </a:moveTo>
                <a:cubicBezTo>
                  <a:pt x="4682" y="12904"/>
                  <a:pt x="4688" y="12944"/>
                  <a:pt x="4688" y="13022"/>
                </a:cubicBezTo>
                <a:cubicBezTo>
                  <a:pt x="4688" y="13081"/>
                  <a:pt x="4698" y="13101"/>
                  <a:pt x="4713" y="13146"/>
                </a:cubicBezTo>
                <a:cubicBezTo>
                  <a:pt x="4713" y="13154"/>
                  <a:pt x="4713" y="13163"/>
                  <a:pt x="4713" y="13171"/>
                </a:cubicBezTo>
              </a:path>
              <a:path w="6549" h="3474">
                <a:moveTo>
                  <a:pt x="5457" y="11261"/>
                </a:moveTo>
                <a:cubicBezTo>
                  <a:pt x="5581" y="11261"/>
                  <a:pt x="5705" y="11261"/>
                  <a:pt x="5829" y="11261"/>
                </a:cubicBezTo>
              </a:path>
              <a:path w="6549" h="3474">
                <a:moveTo>
                  <a:pt x="5482" y="11584"/>
                </a:moveTo>
                <a:cubicBezTo>
                  <a:pt x="5566" y="11629"/>
                  <a:pt x="5632" y="11653"/>
                  <a:pt x="5730" y="11658"/>
                </a:cubicBezTo>
                <a:cubicBezTo>
                  <a:pt x="5746" y="11658"/>
                  <a:pt x="5763" y="11658"/>
                  <a:pt x="5779" y="11658"/>
                </a:cubicBezTo>
              </a:path>
              <a:path w="6549" h="3474">
                <a:moveTo>
                  <a:pt x="7020" y="10517"/>
                </a:moveTo>
                <a:cubicBezTo>
                  <a:pt x="7020" y="10476"/>
                  <a:pt x="7020" y="10484"/>
                  <a:pt x="7020" y="10443"/>
                </a:cubicBezTo>
                <a:cubicBezTo>
                  <a:pt x="7020" y="10367"/>
                  <a:pt x="7007" y="10314"/>
                  <a:pt x="6995" y="10244"/>
                </a:cubicBezTo>
                <a:cubicBezTo>
                  <a:pt x="6981" y="10163"/>
                  <a:pt x="6975" y="10146"/>
                  <a:pt x="6945" y="10071"/>
                </a:cubicBezTo>
                <a:cubicBezTo>
                  <a:pt x="6918" y="10003"/>
                  <a:pt x="6902" y="9997"/>
                  <a:pt x="6846" y="9947"/>
                </a:cubicBezTo>
                <a:cubicBezTo>
                  <a:pt x="6797" y="9904"/>
                  <a:pt x="6732" y="9917"/>
                  <a:pt x="6672" y="9947"/>
                </a:cubicBezTo>
                <a:cubicBezTo>
                  <a:pt x="6632" y="9967"/>
                  <a:pt x="6570" y="10059"/>
                  <a:pt x="6548" y="10096"/>
                </a:cubicBezTo>
                <a:cubicBezTo>
                  <a:pt x="6485" y="10205"/>
                  <a:pt x="6473" y="10251"/>
                  <a:pt x="6449" y="10368"/>
                </a:cubicBezTo>
                <a:cubicBezTo>
                  <a:pt x="6426" y="10477"/>
                  <a:pt x="6379" y="10576"/>
                  <a:pt x="6400" y="10691"/>
                </a:cubicBezTo>
                <a:cubicBezTo>
                  <a:pt x="6417" y="10786"/>
                  <a:pt x="6435" y="10874"/>
                  <a:pt x="6474" y="10964"/>
                </a:cubicBezTo>
                <a:cubicBezTo>
                  <a:pt x="6505" y="11036"/>
                  <a:pt x="6557" y="11077"/>
                  <a:pt x="6623" y="11112"/>
                </a:cubicBezTo>
                <a:cubicBezTo>
                  <a:pt x="6677" y="11141"/>
                  <a:pt x="6723" y="11155"/>
                  <a:pt x="6772" y="11112"/>
                </a:cubicBezTo>
                <a:cubicBezTo>
                  <a:pt x="6832" y="11060"/>
                  <a:pt x="6861" y="11009"/>
                  <a:pt x="6896" y="10939"/>
                </a:cubicBezTo>
                <a:cubicBezTo>
                  <a:pt x="6941" y="10850"/>
                  <a:pt x="6953" y="10712"/>
                  <a:pt x="6970" y="10616"/>
                </a:cubicBezTo>
                <a:cubicBezTo>
                  <a:pt x="6977" y="10579"/>
                  <a:pt x="6970" y="10531"/>
                  <a:pt x="6970" y="10492"/>
                </a:cubicBezTo>
                <a:cubicBezTo>
                  <a:pt x="6958" y="10513"/>
                  <a:pt x="6959" y="10527"/>
                  <a:pt x="6945" y="10567"/>
                </a:cubicBezTo>
                <a:cubicBezTo>
                  <a:pt x="6916" y="10652"/>
                  <a:pt x="6941" y="10679"/>
                  <a:pt x="6945" y="10765"/>
                </a:cubicBezTo>
                <a:cubicBezTo>
                  <a:pt x="6949" y="10849"/>
                  <a:pt x="6962" y="10936"/>
                  <a:pt x="6995" y="11013"/>
                </a:cubicBezTo>
                <a:cubicBezTo>
                  <a:pt x="7019" y="11069"/>
                  <a:pt x="7036" y="11145"/>
                  <a:pt x="7069" y="11187"/>
                </a:cubicBezTo>
                <a:cubicBezTo>
                  <a:pt x="7094" y="11219"/>
                  <a:pt x="7105" y="11204"/>
                  <a:pt x="7144" y="11212"/>
                </a:cubicBezTo>
              </a:path>
              <a:path w="6549" h="3474">
                <a:moveTo>
                  <a:pt x="7268" y="10939"/>
                </a:moveTo>
                <a:cubicBezTo>
                  <a:pt x="7321" y="10912"/>
                  <a:pt x="7358" y="10889"/>
                  <a:pt x="7417" y="10889"/>
                </a:cubicBezTo>
                <a:cubicBezTo>
                  <a:pt x="7449" y="10889"/>
                  <a:pt x="7524" y="10889"/>
                  <a:pt x="7541" y="10914"/>
                </a:cubicBezTo>
                <a:cubicBezTo>
                  <a:pt x="7564" y="10949"/>
                  <a:pt x="7524" y="10990"/>
                  <a:pt x="7516" y="11013"/>
                </a:cubicBezTo>
                <a:cubicBezTo>
                  <a:pt x="7501" y="11056"/>
                  <a:pt x="7476" y="11077"/>
                  <a:pt x="7441" y="11112"/>
                </a:cubicBezTo>
                <a:cubicBezTo>
                  <a:pt x="7426" y="11128"/>
                  <a:pt x="7370" y="11161"/>
                  <a:pt x="7367" y="11162"/>
                </a:cubicBezTo>
                <a:cubicBezTo>
                  <a:pt x="7359" y="11162"/>
                  <a:pt x="7350" y="11162"/>
                  <a:pt x="7342" y="11162"/>
                </a:cubicBezTo>
                <a:cubicBezTo>
                  <a:pt x="7352" y="11133"/>
                  <a:pt x="7376" y="11117"/>
                  <a:pt x="7417" y="11112"/>
                </a:cubicBezTo>
                <a:cubicBezTo>
                  <a:pt x="7465" y="11106"/>
                  <a:pt x="7504" y="11107"/>
                  <a:pt x="7541" y="11137"/>
                </a:cubicBezTo>
                <a:cubicBezTo>
                  <a:pt x="7583" y="11171"/>
                  <a:pt x="7590" y="11212"/>
                  <a:pt x="7590" y="11261"/>
                </a:cubicBezTo>
                <a:cubicBezTo>
                  <a:pt x="7590" y="11316"/>
                  <a:pt x="7600" y="11345"/>
                  <a:pt x="7565" y="11385"/>
                </a:cubicBezTo>
                <a:cubicBezTo>
                  <a:pt x="7541" y="11412"/>
                  <a:pt x="7477" y="11448"/>
                  <a:pt x="7441" y="11460"/>
                </a:cubicBezTo>
                <a:cubicBezTo>
                  <a:pt x="7378" y="11481"/>
                  <a:pt x="7349" y="11494"/>
                  <a:pt x="7293" y="11460"/>
                </a:cubicBezTo>
              </a:path>
              <a:path w="6549" h="3474">
                <a:moveTo>
                  <a:pt x="6449" y="11435"/>
                </a:moveTo>
                <a:cubicBezTo>
                  <a:pt x="6514" y="11435"/>
                  <a:pt x="6560" y="11457"/>
                  <a:pt x="6623" y="11460"/>
                </a:cubicBezTo>
                <a:cubicBezTo>
                  <a:pt x="6956" y="11475"/>
                  <a:pt x="7368" y="11510"/>
                  <a:pt x="7689" y="11435"/>
                </a:cubicBezTo>
                <a:cubicBezTo>
                  <a:pt x="7732" y="11425"/>
                  <a:pt x="7748" y="11461"/>
                  <a:pt x="7714" y="11410"/>
                </a:cubicBezTo>
              </a:path>
              <a:path w="6549" h="3474">
                <a:moveTo>
                  <a:pt x="6896" y="12502"/>
                </a:moveTo>
                <a:cubicBezTo>
                  <a:pt x="6888" y="12535"/>
                  <a:pt x="6879" y="12568"/>
                  <a:pt x="6871" y="12601"/>
                </a:cubicBezTo>
                <a:cubicBezTo>
                  <a:pt x="6916" y="12569"/>
                  <a:pt x="6919" y="12561"/>
                  <a:pt x="6945" y="12502"/>
                </a:cubicBezTo>
                <a:cubicBezTo>
                  <a:pt x="6975" y="12434"/>
                  <a:pt x="6970" y="12378"/>
                  <a:pt x="6970" y="12303"/>
                </a:cubicBezTo>
                <a:cubicBezTo>
                  <a:pt x="6970" y="12222"/>
                  <a:pt x="6967" y="12151"/>
                  <a:pt x="6921" y="12080"/>
                </a:cubicBezTo>
                <a:cubicBezTo>
                  <a:pt x="6894" y="12038"/>
                  <a:pt x="6839" y="11991"/>
                  <a:pt x="6796" y="11981"/>
                </a:cubicBezTo>
                <a:cubicBezTo>
                  <a:pt x="6729" y="11966"/>
                  <a:pt x="6699" y="11999"/>
                  <a:pt x="6648" y="12030"/>
                </a:cubicBezTo>
                <a:cubicBezTo>
                  <a:pt x="6564" y="12080"/>
                  <a:pt x="6494" y="12189"/>
                  <a:pt x="6449" y="12278"/>
                </a:cubicBezTo>
                <a:cubicBezTo>
                  <a:pt x="6412" y="12352"/>
                  <a:pt x="6384" y="12469"/>
                  <a:pt x="6375" y="12551"/>
                </a:cubicBezTo>
                <a:cubicBezTo>
                  <a:pt x="6366" y="12628"/>
                  <a:pt x="6375" y="12710"/>
                  <a:pt x="6424" y="12774"/>
                </a:cubicBezTo>
                <a:cubicBezTo>
                  <a:pt x="6457" y="12817"/>
                  <a:pt x="6482" y="12846"/>
                  <a:pt x="6548" y="12849"/>
                </a:cubicBezTo>
                <a:cubicBezTo>
                  <a:pt x="6619" y="12852"/>
                  <a:pt x="6636" y="12832"/>
                  <a:pt x="6697" y="12799"/>
                </a:cubicBezTo>
                <a:cubicBezTo>
                  <a:pt x="6759" y="12766"/>
                  <a:pt x="6785" y="12709"/>
                  <a:pt x="6821" y="12650"/>
                </a:cubicBezTo>
                <a:cubicBezTo>
                  <a:pt x="6849" y="12604"/>
                  <a:pt x="6871" y="12543"/>
                  <a:pt x="6896" y="12502"/>
                </a:cubicBezTo>
                <a:cubicBezTo>
                  <a:pt x="6918" y="12480"/>
                  <a:pt x="6923" y="12471"/>
                  <a:pt x="6945" y="12477"/>
                </a:cubicBezTo>
                <a:cubicBezTo>
                  <a:pt x="6945" y="12629"/>
                  <a:pt x="6951" y="12774"/>
                  <a:pt x="6970" y="12923"/>
                </a:cubicBezTo>
                <a:cubicBezTo>
                  <a:pt x="6975" y="12964"/>
                  <a:pt x="6967" y="13017"/>
                  <a:pt x="6995" y="13047"/>
                </a:cubicBezTo>
                <a:cubicBezTo>
                  <a:pt x="7022" y="13075"/>
                  <a:pt x="7051" y="13061"/>
                  <a:pt x="7069" y="13047"/>
                </a:cubicBezTo>
                <a:cubicBezTo>
                  <a:pt x="7097" y="13019"/>
                  <a:pt x="7106" y="13006"/>
                  <a:pt x="7094" y="12973"/>
                </a:cubicBezTo>
              </a:path>
              <a:path w="6549" h="3474">
                <a:moveTo>
                  <a:pt x="7243" y="12650"/>
                </a:moveTo>
                <a:cubicBezTo>
                  <a:pt x="7336" y="12677"/>
                  <a:pt x="7376" y="12685"/>
                  <a:pt x="7441" y="12750"/>
                </a:cubicBezTo>
                <a:cubicBezTo>
                  <a:pt x="7490" y="12798"/>
                  <a:pt x="7456" y="12816"/>
                  <a:pt x="7441" y="12874"/>
                </a:cubicBezTo>
                <a:cubicBezTo>
                  <a:pt x="7427" y="12929"/>
                  <a:pt x="7384" y="12934"/>
                  <a:pt x="7342" y="12973"/>
                </a:cubicBezTo>
                <a:cubicBezTo>
                  <a:pt x="7306" y="13007"/>
                  <a:pt x="7223" y="13063"/>
                  <a:pt x="7243" y="13122"/>
                </a:cubicBezTo>
                <a:cubicBezTo>
                  <a:pt x="7256" y="13161"/>
                  <a:pt x="7296" y="13210"/>
                  <a:pt x="7342" y="13221"/>
                </a:cubicBezTo>
                <a:cubicBezTo>
                  <a:pt x="7433" y="13243"/>
                  <a:pt x="7502" y="13251"/>
                  <a:pt x="7590" y="13221"/>
                </a:cubicBezTo>
                <a:cubicBezTo>
                  <a:pt x="7615" y="13213"/>
                  <a:pt x="7640" y="13204"/>
                  <a:pt x="7665" y="13196"/>
                </a:cubicBezTo>
              </a:path>
              <a:path w="6549" h="3474">
                <a:moveTo>
                  <a:pt x="8186" y="11584"/>
                </a:moveTo>
                <a:cubicBezTo>
                  <a:pt x="8231" y="11600"/>
                  <a:pt x="8200" y="11599"/>
                  <a:pt x="8260" y="11584"/>
                </a:cubicBezTo>
              </a:path>
              <a:path w="6549" h="3474">
                <a:moveTo>
                  <a:pt x="8756" y="11609"/>
                </a:moveTo>
                <a:cubicBezTo>
                  <a:pt x="8781" y="11609"/>
                  <a:pt x="8789" y="11609"/>
                  <a:pt x="8781" y="11633"/>
                </a:cubicBezTo>
                <a:cubicBezTo>
                  <a:pt x="8817" y="11607"/>
                  <a:pt x="8864" y="11594"/>
                  <a:pt x="8905" y="11584"/>
                </a:cubicBezTo>
              </a:path>
              <a:path w="6549" h="3474">
                <a:moveTo>
                  <a:pt x="9252" y="11633"/>
                </a:moveTo>
                <a:cubicBezTo>
                  <a:pt x="9299" y="11633"/>
                  <a:pt x="9314" y="11637"/>
                  <a:pt x="9351" y="11609"/>
                </a:cubicBezTo>
              </a:path>
              <a:path w="6549" h="3474">
                <a:moveTo>
                  <a:pt x="9823" y="11733"/>
                </a:moveTo>
                <a:cubicBezTo>
                  <a:pt x="9875" y="11771"/>
                  <a:pt x="9858" y="11765"/>
                  <a:pt x="9897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67120" y="3670200"/>
            <a:ext cx="1320840" cy="1170000"/>
          </a:xfrm>
          <a:custGeom>
            <a:avLst/>
            <a:gdLst/>
            <a:ahLst/>
            <a:rect l="l" t="t" r="r" b="b"/>
            <a:pathLst>
              <a:path w="3673" h="3250">
                <a:moveTo>
                  <a:pt x="11286" y="10641"/>
                </a:moveTo>
                <a:cubicBezTo>
                  <a:pt x="11286" y="10718"/>
                  <a:pt x="11293" y="10777"/>
                  <a:pt x="11311" y="10840"/>
                </a:cubicBezTo>
                <a:cubicBezTo>
                  <a:pt x="11311" y="10848"/>
                  <a:pt x="11311" y="10856"/>
                  <a:pt x="11311" y="10864"/>
                </a:cubicBezTo>
                <a:cubicBezTo>
                  <a:pt x="11319" y="10854"/>
                  <a:pt x="11356" y="10821"/>
                  <a:pt x="11361" y="10790"/>
                </a:cubicBezTo>
                <a:cubicBezTo>
                  <a:pt x="11379" y="10672"/>
                  <a:pt x="11366" y="10526"/>
                  <a:pt x="11336" y="10418"/>
                </a:cubicBezTo>
                <a:cubicBezTo>
                  <a:pt x="11316" y="10347"/>
                  <a:pt x="11306" y="10264"/>
                  <a:pt x="11237" y="10220"/>
                </a:cubicBezTo>
                <a:cubicBezTo>
                  <a:pt x="11162" y="10172"/>
                  <a:pt x="11161" y="10208"/>
                  <a:pt x="11088" y="10220"/>
                </a:cubicBezTo>
                <a:cubicBezTo>
                  <a:pt x="11022" y="10231"/>
                  <a:pt x="10994" y="10251"/>
                  <a:pt x="10964" y="10319"/>
                </a:cubicBezTo>
                <a:cubicBezTo>
                  <a:pt x="10921" y="10415"/>
                  <a:pt x="10874" y="10488"/>
                  <a:pt x="10840" y="10592"/>
                </a:cubicBezTo>
                <a:cubicBezTo>
                  <a:pt x="10806" y="10694"/>
                  <a:pt x="10784" y="10786"/>
                  <a:pt x="10765" y="10889"/>
                </a:cubicBezTo>
                <a:cubicBezTo>
                  <a:pt x="10744" y="10998"/>
                  <a:pt x="10721" y="11083"/>
                  <a:pt x="10765" y="11187"/>
                </a:cubicBezTo>
                <a:cubicBezTo>
                  <a:pt x="10799" y="11268"/>
                  <a:pt x="10816" y="11313"/>
                  <a:pt x="10889" y="11336"/>
                </a:cubicBezTo>
                <a:cubicBezTo>
                  <a:pt x="10980" y="11365"/>
                  <a:pt x="11048" y="11374"/>
                  <a:pt x="11137" y="11336"/>
                </a:cubicBezTo>
                <a:cubicBezTo>
                  <a:pt x="11235" y="11294"/>
                  <a:pt x="11298" y="11234"/>
                  <a:pt x="11336" y="11137"/>
                </a:cubicBezTo>
                <a:cubicBezTo>
                  <a:pt x="11365" y="11064"/>
                  <a:pt x="11382" y="11015"/>
                  <a:pt x="11385" y="10939"/>
                </a:cubicBezTo>
                <a:cubicBezTo>
                  <a:pt x="11387" y="10906"/>
                  <a:pt x="11385" y="10873"/>
                  <a:pt x="11385" y="10840"/>
                </a:cubicBezTo>
                <a:cubicBezTo>
                  <a:pt x="11357" y="10887"/>
                  <a:pt x="11361" y="10903"/>
                  <a:pt x="11361" y="10964"/>
                </a:cubicBezTo>
                <a:cubicBezTo>
                  <a:pt x="11361" y="11054"/>
                  <a:pt x="11375" y="11126"/>
                  <a:pt x="11385" y="11212"/>
                </a:cubicBezTo>
                <a:cubicBezTo>
                  <a:pt x="11394" y="11295"/>
                  <a:pt x="11410" y="11363"/>
                  <a:pt x="11460" y="11435"/>
                </a:cubicBezTo>
                <a:cubicBezTo>
                  <a:pt x="11497" y="11489"/>
                  <a:pt x="11500" y="11499"/>
                  <a:pt x="11559" y="11509"/>
                </a:cubicBezTo>
                <a:cubicBezTo>
                  <a:pt x="11567" y="11509"/>
                  <a:pt x="11576" y="11509"/>
                  <a:pt x="11584" y="11509"/>
                </a:cubicBezTo>
              </a:path>
              <a:path w="3673" h="3250">
                <a:moveTo>
                  <a:pt x="11807" y="11237"/>
                </a:moveTo>
                <a:cubicBezTo>
                  <a:pt x="11807" y="11281"/>
                  <a:pt x="11786" y="11633"/>
                  <a:pt x="11832" y="11633"/>
                </a:cubicBezTo>
                <a:cubicBezTo>
                  <a:pt x="11840" y="11625"/>
                  <a:pt x="11849" y="11617"/>
                  <a:pt x="11857" y="11609"/>
                </a:cubicBezTo>
              </a:path>
              <a:path w="3673" h="3250">
                <a:moveTo>
                  <a:pt x="12030" y="11237"/>
                </a:moveTo>
                <a:cubicBezTo>
                  <a:pt x="12000" y="11334"/>
                  <a:pt x="12014" y="11329"/>
                  <a:pt x="12030" y="11410"/>
                </a:cubicBezTo>
                <a:cubicBezTo>
                  <a:pt x="12045" y="11487"/>
                  <a:pt x="12047" y="11525"/>
                  <a:pt x="12129" y="11559"/>
                </a:cubicBezTo>
                <a:cubicBezTo>
                  <a:pt x="12148" y="11567"/>
                  <a:pt x="12245" y="11603"/>
                  <a:pt x="12278" y="11584"/>
                </a:cubicBezTo>
                <a:cubicBezTo>
                  <a:pt x="12320" y="11560"/>
                  <a:pt x="12350" y="11478"/>
                  <a:pt x="12353" y="11435"/>
                </a:cubicBezTo>
                <a:cubicBezTo>
                  <a:pt x="12358" y="11360"/>
                  <a:pt x="12313" y="11320"/>
                  <a:pt x="12278" y="11261"/>
                </a:cubicBezTo>
                <a:cubicBezTo>
                  <a:pt x="12242" y="11201"/>
                  <a:pt x="12197" y="11179"/>
                  <a:pt x="12129" y="11162"/>
                </a:cubicBezTo>
                <a:cubicBezTo>
                  <a:pt x="12094" y="11162"/>
                  <a:pt x="12077" y="11157"/>
                  <a:pt x="12055" y="11137"/>
                </a:cubicBezTo>
              </a:path>
              <a:path w="3673" h="3250">
                <a:moveTo>
                  <a:pt x="10840" y="11609"/>
                </a:moveTo>
                <a:cubicBezTo>
                  <a:pt x="10967" y="11583"/>
                  <a:pt x="11082" y="11584"/>
                  <a:pt x="11212" y="11584"/>
                </a:cubicBezTo>
                <a:cubicBezTo>
                  <a:pt x="11550" y="11584"/>
                  <a:pt x="11898" y="11605"/>
                  <a:pt x="12229" y="11559"/>
                </a:cubicBezTo>
                <a:cubicBezTo>
                  <a:pt x="12290" y="11551"/>
                  <a:pt x="12353" y="11541"/>
                  <a:pt x="12353" y="11460"/>
                </a:cubicBezTo>
                <a:cubicBezTo>
                  <a:pt x="12345" y="11452"/>
                  <a:pt x="12336" y="11443"/>
                  <a:pt x="12328" y="11435"/>
                </a:cubicBezTo>
              </a:path>
              <a:path w="3673" h="3250">
                <a:moveTo>
                  <a:pt x="11559" y="12576"/>
                </a:moveTo>
                <a:cubicBezTo>
                  <a:pt x="11521" y="12688"/>
                  <a:pt x="11509" y="12737"/>
                  <a:pt x="11509" y="12849"/>
                </a:cubicBezTo>
                <a:cubicBezTo>
                  <a:pt x="11509" y="12874"/>
                  <a:pt x="11509" y="12882"/>
                  <a:pt x="11509" y="12898"/>
                </a:cubicBezTo>
                <a:cubicBezTo>
                  <a:pt x="11518" y="12887"/>
                  <a:pt x="11553" y="12856"/>
                  <a:pt x="11559" y="12824"/>
                </a:cubicBezTo>
                <a:cubicBezTo>
                  <a:pt x="11586" y="12690"/>
                  <a:pt x="11576" y="12477"/>
                  <a:pt x="11534" y="12353"/>
                </a:cubicBezTo>
                <a:cubicBezTo>
                  <a:pt x="11510" y="12281"/>
                  <a:pt x="11486" y="12211"/>
                  <a:pt x="11435" y="12154"/>
                </a:cubicBezTo>
                <a:cubicBezTo>
                  <a:pt x="11387" y="12100"/>
                  <a:pt x="11371" y="12097"/>
                  <a:pt x="11311" y="12129"/>
                </a:cubicBezTo>
                <a:cubicBezTo>
                  <a:pt x="11208" y="12183"/>
                  <a:pt x="11137" y="12247"/>
                  <a:pt x="11088" y="12353"/>
                </a:cubicBezTo>
                <a:cubicBezTo>
                  <a:pt x="11044" y="12449"/>
                  <a:pt x="10998" y="12522"/>
                  <a:pt x="10964" y="12626"/>
                </a:cubicBezTo>
                <a:cubicBezTo>
                  <a:pt x="10926" y="12740"/>
                  <a:pt x="10949" y="12811"/>
                  <a:pt x="10964" y="12923"/>
                </a:cubicBezTo>
                <a:cubicBezTo>
                  <a:pt x="10975" y="13000"/>
                  <a:pt x="11020" y="13057"/>
                  <a:pt x="11088" y="13097"/>
                </a:cubicBezTo>
                <a:cubicBezTo>
                  <a:pt x="11154" y="13136"/>
                  <a:pt x="11246" y="13137"/>
                  <a:pt x="11311" y="13097"/>
                </a:cubicBezTo>
                <a:cubicBezTo>
                  <a:pt x="11373" y="13059"/>
                  <a:pt x="11415" y="13025"/>
                  <a:pt x="11460" y="12973"/>
                </a:cubicBezTo>
                <a:cubicBezTo>
                  <a:pt x="11523" y="12901"/>
                  <a:pt x="11523" y="12850"/>
                  <a:pt x="11559" y="12774"/>
                </a:cubicBezTo>
                <a:cubicBezTo>
                  <a:pt x="11572" y="12746"/>
                  <a:pt x="11581" y="12683"/>
                  <a:pt x="11584" y="12725"/>
                </a:cubicBezTo>
                <a:cubicBezTo>
                  <a:pt x="11590" y="12807"/>
                  <a:pt x="11582" y="12864"/>
                  <a:pt x="11609" y="12948"/>
                </a:cubicBezTo>
                <a:cubicBezTo>
                  <a:pt x="11628" y="13007"/>
                  <a:pt x="11666" y="13077"/>
                  <a:pt x="11708" y="13122"/>
                </a:cubicBezTo>
                <a:cubicBezTo>
                  <a:pt x="11748" y="13166"/>
                  <a:pt x="11748" y="13163"/>
                  <a:pt x="11807" y="13171"/>
                </a:cubicBezTo>
              </a:path>
              <a:path w="3673" h="3250">
                <a:moveTo>
                  <a:pt x="12105" y="12874"/>
                </a:moveTo>
                <a:cubicBezTo>
                  <a:pt x="12085" y="12833"/>
                  <a:pt x="12076" y="12827"/>
                  <a:pt x="12080" y="12799"/>
                </a:cubicBezTo>
                <a:cubicBezTo>
                  <a:pt x="12042" y="12807"/>
                  <a:pt x="11980" y="12815"/>
                  <a:pt x="11956" y="12849"/>
                </a:cubicBezTo>
                <a:cubicBezTo>
                  <a:pt x="11931" y="12885"/>
                  <a:pt x="11881" y="12950"/>
                  <a:pt x="11906" y="12998"/>
                </a:cubicBezTo>
                <a:cubicBezTo>
                  <a:pt x="11925" y="13036"/>
                  <a:pt x="11949" y="13064"/>
                  <a:pt x="11981" y="13097"/>
                </a:cubicBezTo>
                <a:cubicBezTo>
                  <a:pt x="12015" y="13132"/>
                  <a:pt x="12044" y="13121"/>
                  <a:pt x="12080" y="13097"/>
                </a:cubicBezTo>
                <a:cubicBezTo>
                  <a:pt x="12109" y="13078"/>
                  <a:pt x="12144" y="13027"/>
                  <a:pt x="12154" y="12998"/>
                </a:cubicBezTo>
                <a:cubicBezTo>
                  <a:pt x="12154" y="12990"/>
                  <a:pt x="12154" y="12981"/>
                  <a:pt x="12154" y="12973"/>
                </a:cubicBezTo>
                <a:cubicBezTo>
                  <a:pt x="12154" y="13069"/>
                  <a:pt x="12162" y="13163"/>
                  <a:pt x="12179" y="13246"/>
                </a:cubicBezTo>
                <a:cubicBezTo>
                  <a:pt x="12196" y="13329"/>
                  <a:pt x="12192" y="13495"/>
                  <a:pt x="12254" y="13395"/>
                </a:cubicBezTo>
              </a:path>
              <a:path w="3673" h="3250">
                <a:moveTo>
                  <a:pt x="12923" y="11708"/>
                </a:moveTo>
                <a:cubicBezTo>
                  <a:pt x="12987" y="11732"/>
                  <a:pt x="13028" y="11733"/>
                  <a:pt x="13097" y="11733"/>
                </a:cubicBezTo>
                <a:cubicBezTo>
                  <a:pt x="13105" y="11733"/>
                  <a:pt x="13114" y="11733"/>
                  <a:pt x="13122" y="11733"/>
                </a:cubicBezTo>
              </a:path>
              <a:path w="3673" h="3250">
                <a:moveTo>
                  <a:pt x="12923" y="11931"/>
                </a:moveTo>
                <a:cubicBezTo>
                  <a:pt x="13006" y="11931"/>
                  <a:pt x="13088" y="11931"/>
                  <a:pt x="13171" y="11931"/>
                </a:cubicBezTo>
              </a:path>
              <a:path w="3673" h="3250">
                <a:moveTo>
                  <a:pt x="13742" y="11485"/>
                </a:moveTo>
                <a:cubicBezTo>
                  <a:pt x="13742" y="11639"/>
                  <a:pt x="13743" y="11785"/>
                  <a:pt x="13767" y="11931"/>
                </a:cubicBezTo>
                <a:cubicBezTo>
                  <a:pt x="13767" y="11956"/>
                  <a:pt x="13767" y="11964"/>
                  <a:pt x="13767" y="11981"/>
                </a:cubicBezTo>
                <a:cubicBezTo>
                  <a:pt x="13781" y="11952"/>
                  <a:pt x="13791" y="11947"/>
                  <a:pt x="13791" y="11881"/>
                </a:cubicBezTo>
                <a:cubicBezTo>
                  <a:pt x="13791" y="11680"/>
                  <a:pt x="13789" y="11482"/>
                  <a:pt x="13816" y="11286"/>
                </a:cubicBezTo>
                <a:cubicBezTo>
                  <a:pt x="13828" y="11199"/>
                  <a:pt x="13812" y="11141"/>
                  <a:pt x="13866" y="11063"/>
                </a:cubicBezTo>
                <a:cubicBezTo>
                  <a:pt x="13915" y="10993"/>
                  <a:pt x="14041" y="11013"/>
                  <a:pt x="14114" y="11013"/>
                </a:cubicBezTo>
                <a:cubicBezTo>
                  <a:pt x="14195" y="11013"/>
                  <a:pt x="14255" y="11038"/>
                  <a:pt x="14337" y="11038"/>
                </a:cubicBezTo>
                <a:cubicBezTo>
                  <a:pt x="14428" y="11038"/>
                  <a:pt x="14403" y="11010"/>
                  <a:pt x="14412" y="109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s each sequence geometric?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f so, find “r”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, 4, 8, 16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8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3, 6, 18, 64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37080" y="1893960"/>
            <a:ext cx="579600" cy="615960"/>
          </a:xfrm>
          <a:custGeom>
            <a:avLst/>
            <a:gdLst/>
            <a:ahLst/>
            <a:rect l="l" t="t" r="r" b="b"/>
            <a:pathLst>
              <a:path w="1613" h="1712">
                <a:moveTo>
                  <a:pt x="12601" y="5383"/>
                </a:moveTo>
                <a:cubicBezTo>
                  <a:pt x="12601" y="5513"/>
                  <a:pt x="12605" y="5633"/>
                  <a:pt x="12626" y="5755"/>
                </a:cubicBezTo>
                <a:cubicBezTo>
                  <a:pt x="12636" y="5814"/>
                  <a:pt x="12641" y="5876"/>
                  <a:pt x="12675" y="5928"/>
                </a:cubicBezTo>
                <a:cubicBezTo>
                  <a:pt x="12698" y="5964"/>
                  <a:pt x="12737" y="5994"/>
                  <a:pt x="12774" y="6003"/>
                </a:cubicBezTo>
                <a:cubicBezTo>
                  <a:pt x="12835" y="6017"/>
                  <a:pt x="12860" y="5965"/>
                  <a:pt x="12898" y="5928"/>
                </a:cubicBezTo>
                <a:cubicBezTo>
                  <a:pt x="12930" y="5896"/>
                  <a:pt x="12987" y="5825"/>
                  <a:pt x="12998" y="5779"/>
                </a:cubicBezTo>
                <a:cubicBezTo>
                  <a:pt x="13013" y="5716"/>
                  <a:pt x="13036" y="5644"/>
                  <a:pt x="13047" y="5581"/>
                </a:cubicBezTo>
                <a:cubicBezTo>
                  <a:pt x="13057" y="5524"/>
                  <a:pt x="13066" y="5463"/>
                  <a:pt x="13072" y="5407"/>
                </a:cubicBezTo>
                <a:cubicBezTo>
                  <a:pt x="13076" y="5374"/>
                  <a:pt x="13072" y="5391"/>
                  <a:pt x="13072" y="5358"/>
                </a:cubicBezTo>
                <a:cubicBezTo>
                  <a:pt x="13050" y="5402"/>
                  <a:pt x="13031" y="5455"/>
                  <a:pt x="13022" y="5507"/>
                </a:cubicBezTo>
                <a:cubicBezTo>
                  <a:pt x="13009" y="5587"/>
                  <a:pt x="13002" y="5674"/>
                  <a:pt x="12998" y="5755"/>
                </a:cubicBezTo>
                <a:cubicBezTo>
                  <a:pt x="12990" y="5925"/>
                  <a:pt x="12981" y="6112"/>
                  <a:pt x="13022" y="6276"/>
                </a:cubicBezTo>
                <a:cubicBezTo>
                  <a:pt x="13050" y="6389"/>
                  <a:pt x="13068" y="6507"/>
                  <a:pt x="13072" y="6623"/>
                </a:cubicBezTo>
                <a:cubicBezTo>
                  <a:pt x="13076" y="6725"/>
                  <a:pt x="13066" y="6781"/>
                  <a:pt x="13022" y="6871"/>
                </a:cubicBezTo>
                <a:cubicBezTo>
                  <a:pt x="12994" y="6929"/>
                  <a:pt x="12965" y="6958"/>
                  <a:pt x="12898" y="6970"/>
                </a:cubicBezTo>
                <a:cubicBezTo>
                  <a:pt x="12831" y="6982"/>
                  <a:pt x="12783" y="6950"/>
                  <a:pt x="12725" y="6921"/>
                </a:cubicBezTo>
                <a:cubicBezTo>
                  <a:pt x="12665" y="6891"/>
                  <a:pt x="12643" y="6847"/>
                  <a:pt x="12601" y="6796"/>
                </a:cubicBezTo>
              </a:path>
              <a:path w="1613" h="1712">
                <a:moveTo>
                  <a:pt x="13271" y="5730"/>
                </a:moveTo>
                <a:cubicBezTo>
                  <a:pt x="13307" y="5721"/>
                  <a:pt x="13361" y="5703"/>
                  <a:pt x="13395" y="5680"/>
                </a:cubicBezTo>
                <a:cubicBezTo>
                  <a:pt x="13439" y="5650"/>
                  <a:pt x="13481" y="5620"/>
                  <a:pt x="13519" y="5581"/>
                </a:cubicBezTo>
                <a:cubicBezTo>
                  <a:pt x="13546" y="5553"/>
                  <a:pt x="13564" y="5494"/>
                  <a:pt x="13568" y="5457"/>
                </a:cubicBezTo>
                <a:cubicBezTo>
                  <a:pt x="13574" y="5406"/>
                  <a:pt x="13569" y="5403"/>
                  <a:pt x="13543" y="5383"/>
                </a:cubicBezTo>
                <a:cubicBezTo>
                  <a:pt x="13521" y="5366"/>
                  <a:pt x="13478" y="5339"/>
                  <a:pt x="13444" y="5358"/>
                </a:cubicBezTo>
                <a:cubicBezTo>
                  <a:pt x="13404" y="5380"/>
                  <a:pt x="13354" y="5427"/>
                  <a:pt x="13320" y="5457"/>
                </a:cubicBezTo>
                <a:cubicBezTo>
                  <a:pt x="13242" y="5527"/>
                  <a:pt x="13204" y="5659"/>
                  <a:pt x="13171" y="5755"/>
                </a:cubicBezTo>
                <a:cubicBezTo>
                  <a:pt x="13162" y="5781"/>
                  <a:pt x="13205" y="5881"/>
                  <a:pt x="13221" y="5904"/>
                </a:cubicBezTo>
                <a:cubicBezTo>
                  <a:pt x="13247" y="5943"/>
                  <a:pt x="13308" y="5971"/>
                  <a:pt x="13345" y="5978"/>
                </a:cubicBezTo>
                <a:cubicBezTo>
                  <a:pt x="13383" y="5986"/>
                  <a:pt x="13430" y="5978"/>
                  <a:pt x="13469" y="5978"/>
                </a:cubicBezTo>
              </a:path>
              <a:path w="1613" h="1712">
                <a:moveTo>
                  <a:pt x="14188" y="5283"/>
                </a:moveTo>
                <a:cubicBezTo>
                  <a:pt x="14167" y="5273"/>
                  <a:pt x="14102" y="5267"/>
                  <a:pt x="14064" y="5283"/>
                </a:cubicBezTo>
                <a:cubicBezTo>
                  <a:pt x="14022" y="5301"/>
                  <a:pt x="13980" y="5337"/>
                  <a:pt x="13940" y="5358"/>
                </a:cubicBezTo>
                <a:cubicBezTo>
                  <a:pt x="13904" y="5378"/>
                  <a:pt x="13835" y="5415"/>
                  <a:pt x="13816" y="5457"/>
                </a:cubicBezTo>
                <a:cubicBezTo>
                  <a:pt x="13796" y="5502"/>
                  <a:pt x="13835" y="5520"/>
                  <a:pt x="13841" y="5531"/>
                </a:cubicBezTo>
                <a:cubicBezTo>
                  <a:pt x="13855" y="5558"/>
                  <a:pt x="13923" y="5595"/>
                  <a:pt x="13965" y="5606"/>
                </a:cubicBezTo>
                <a:cubicBezTo>
                  <a:pt x="14019" y="5620"/>
                  <a:pt x="14068" y="5619"/>
                  <a:pt x="14114" y="5655"/>
                </a:cubicBezTo>
                <a:cubicBezTo>
                  <a:pt x="14149" y="5683"/>
                  <a:pt x="14197" y="5740"/>
                  <a:pt x="14213" y="5779"/>
                </a:cubicBezTo>
                <a:cubicBezTo>
                  <a:pt x="14224" y="5807"/>
                  <a:pt x="14216" y="5865"/>
                  <a:pt x="14188" y="5879"/>
                </a:cubicBezTo>
                <a:cubicBezTo>
                  <a:pt x="14149" y="5899"/>
                  <a:pt x="14080" y="5943"/>
                  <a:pt x="14039" y="5953"/>
                </a:cubicBezTo>
                <a:cubicBezTo>
                  <a:pt x="13962" y="5972"/>
                  <a:pt x="13878" y="5949"/>
                  <a:pt x="13816" y="5928"/>
                </a:cubicBezTo>
                <a:cubicBezTo>
                  <a:pt x="13788" y="5928"/>
                  <a:pt x="13782" y="5926"/>
                  <a:pt x="13816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0880" y="1768320"/>
            <a:ext cx="635040" cy="393840"/>
          </a:xfrm>
          <a:custGeom>
            <a:avLst/>
            <a:gdLst/>
            <a:ahLst/>
            <a:rect l="l" t="t" r="r" b="b"/>
            <a:pathLst>
              <a:path w="1763" h="1093">
                <a:moveTo>
                  <a:pt x="14883" y="5482"/>
                </a:moveTo>
                <a:cubicBezTo>
                  <a:pt x="14877" y="5550"/>
                  <a:pt x="14876" y="5639"/>
                  <a:pt x="14858" y="5705"/>
                </a:cubicBezTo>
                <a:cubicBezTo>
                  <a:pt x="14840" y="5771"/>
                  <a:pt x="14833" y="5806"/>
                  <a:pt x="14833" y="5879"/>
                </a:cubicBezTo>
                <a:cubicBezTo>
                  <a:pt x="14833" y="5899"/>
                  <a:pt x="14833" y="6016"/>
                  <a:pt x="14833" y="5953"/>
                </a:cubicBezTo>
                <a:cubicBezTo>
                  <a:pt x="14833" y="5816"/>
                  <a:pt x="14830" y="5686"/>
                  <a:pt x="14808" y="5556"/>
                </a:cubicBezTo>
                <a:cubicBezTo>
                  <a:pt x="14799" y="5504"/>
                  <a:pt x="14818" y="5429"/>
                  <a:pt x="14833" y="5383"/>
                </a:cubicBezTo>
                <a:cubicBezTo>
                  <a:pt x="14848" y="5338"/>
                  <a:pt x="14920" y="5235"/>
                  <a:pt x="14957" y="5209"/>
                </a:cubicBezTo>
                <a:cubicBezTo>
                  <a:pt x="15002" y="5177"/>
                  <a:pt x="15059" y="5148"/>
                  <a:pt x="15106" y="5135"/>
                </a:cubicBezTo>
                <a:cubicBezTo>
                  <a:pt x="15114" y="5133"/>
                  <a:pt x="15202" y="5113"/>
                  <a:pt x="15205" y="5110"/>
                </a:cubicBezTo>
                <a:cubicBezTo>
                  <a:pt x="15205" y="5102"/>
                  <a:pt x="15205" y="5093"/>
                  <a:pt x="15205" y="5085"/>
                </a:cubicBezTo>
              </a:path>
              <a:path w="1763" h="1093">
                <a:moveTo>
                  <a:pt x="15354" y="5283"/>
                </a:moveTo>
                <a:cubicBezTo>
                  <a:pt x="15414" y="5258"/>
                  <a:pt x="15438" y="5259"/>
                  <a:pt x="15503" y="5259"/>
                </a:cubicBezTo>
                <a:cubicBezTo>
                  <a:pt x="15561" y="5259"/>
                  <a:pt x="15619" y="5259"/>
                  <a:pt x="15677" y="5259"/>
                </a:cubicBezTo>
              </a:path>
              <a:path w="1763" h="1093">
                <a:moveTo>
                  <a:pt x="15205" y="5581"/>
                </a:moveTo>
                <a:cubicBezTo>
                  <a:pt x="15313" y="5581"/>
                  <a:pt x="15420" y="5581"/>
                  <a:pt x="15528" y="5581"/>
                </a:cubicBezTo>
              </a:path>
              <a:path w="1763" h="1093">
                <a:moveTo>
                  <a:pt x="15999" y="5135"/>
                </a:moveTo>
                <a:cubicBezTo>
                  <a:pt x="16050" y="5068"/>
                  <a:pt x="16091" y="5018"/>
                  <a:pt x="16148" y="4961"/>
                </a:cubicBezTo>
                <a:cubicBezTo>
                  <a:pt x="16177" y="4932"/>
                  <a:pt x="16233" y="4918"/>
                  <a:pt x="16272" y="4911"/>
                </a:cubicBezTo>
                <a:cubicBezTo>
                  <a:pt x="16338" y="4900"/>
                  <a:pt x="16345" y="4923"/>
                  <a:pt x="16371" y="4936"/>
                </a:cubicBezTo>
                <a:cubicBezTo>
                  <a:pt x="16417" y="4959"/>
                  <a:pt x="16418" y="4953"/>
                  <a:pt x="16421" y="5011"/>
                </a:cubicBezTo>
                <a:cubicBezTo>
                  <a:pt x="16424" y="5082"/>
                  <a:pt x="16403" y="5098"/>
                  <a:pt x="16371" y="5159"/>
                </a:cubicBezTo>
                <a:cubicBezTo>
                  <a:pt x="16339" y="5219"/>
                  <a:pt x="16303" y="5273"/>
                  <a:pt x="16272" y="5333"/>
                </a:cubicBezTo>
                <a:cubicBezTo>
                  <a:pt x="16232" y="5409"/>
                  <a:pt x="16170" y="5461"/>
                  <a:pt x="16123" y="5531"/>
                </a:cubicBezTo>
                <a:cubicBezTo>
                  <a:pt x="16076" y="5601"/>
                  <a:pt x="16014" y="5637"/>
                  <a:pt x="15974" y="5705"/>
                </a:cubicBezTo>
                <a:cubicBezTo>
                  <a:pt x="15939" y="5765"/>
                  <a:pt x="15887" y="5832"/>
                  <a:pt x="15850" y="5879"/>
                </a:cubicBezTo>
                <a:cubicBezTo>
                  <a:pt x="15818" y="5920"/>
                  <a:pt x="15831" y="5929"/>
                  <a:pt x="15825" y="5978"/>
                </a:cubicBezTo>
                <a:cubicBezTo>
                  <a:pt x="15878" y="5978"/>
                  <a:pt x="15908" y="5995"/>
                  <a:pt x="15949" y="6003"/>
                </a:cubicBezTo>
                <a:cubicBezTo>
                  <a:pt x="16088" y="6031"/>
                  <a:pt x="16266" y="6000"/>
                  <a:pt x="16396" y="5978"/>
                </a:cubicBezTo>
                <a:cubicBezTo>
                  <a:pt x="16443" y="5970"/>
                  <a:pt x="16535" y="5983"/>
                  <a:pt x="16570" y="5953"/>
                </a:cubicBezTo>
                <a:cubicBezTo>
                  <a:pt x="16608" y="5920"/>
                  <a:pt x="16501" y="5929"/>
                  <a:pt x="1649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2803680"/>
            <a:ext cx="544680" cy="509400"/>
          </a:xfrm>
          <a:custGeom>
            <a:avLst/>
            <a:gdLst/>
            <a:ahLst/>
            <a:rect l="l" t="t" r="r" b="b"/>
            <a:pathLst>
              <a:path w="1514" h="1415">
                <a:moveTo>
                  <a:pt x="17338" y="7789"/>
                </a:moveTo>
                <a:cubicBezTo>
                  <a:pt x="17332" y="7829"/>
                  <a:pt x="17319" y="7851"/>
                  <a:pt x="17314" y="7888"/>
                </a:cubicBezTo>
                <a:cubicBezTo>
                  <a:pt x="17295" y="8036"/>
                  <a:pt x="17317" y="8194"/>
                  <a:pt x="17338" y="8334"/>
                </a:cubicBezTo>
                <a:cubicBezTo>
                  <a:pt x="17346" y="8388"/>
                  <a:pt x="17352" y="8418"/>
                  <a:pt x="17388" y="8458"/>
                </a:cubicBezTo>
                <a:cubicBezTo>
                  <a:pt x="17405" y="8476"/>
                  <a:pt x="17459" y="8502"/>
                  <a:pt x="17487" y="8483"/>
                </a:cubicBezTo>
                <a:cubicBezTo>
                  <a:pt x="17490" y="8481"/>
                  <a:pt x="17553" y="8398"/>
                  <a:pt x="17562" y="8384"/>
                </a:cubicBezTo>
                <a:cubicBezTo>
                  <a:pt x="17595" y="8333"/>
                  <a:pt x="17646" y="8212"/>
                  <a:pt x="17661" y="8161"/>
                </a:cubicBezTo>
                <a:cubicBezTo>
                  <a:pt x="17676" y="8109"/>
                  <a:pt x="17702" y="8033"/>
                  <a:pt x="17711" y="7987"/>
                </a:cubicBezTo>
                <a:cubicBezTo>
                  <a:pt x="17722" y="7932"/>
                  <a:pt x="17728" y="7891"/>
                  <a:pt x="17735" y="7838"/>
                </a:cubicBezTo>
                <a:cubicBezTo>
                  <a:pt x="17727" y="7901"/>
                  <a:pt x="17715" y="7871"/>
                  <a:pt x="17711" y="7938"/>
                </a:cubicBezTo>
                <a:cubicBezTo>
                  <a:pt x="17706" y="8033"/>
                  <a:pt x="17698" y="8121"/>
                  <a:pt x="17686" y="8210"/>
                </a:cubicBezTo>
                <a:cubicBezTo>
                  <a:pt x="17663" y="8389"/>
                  <a:pt x="17691" y="8583"/>
                  <a:pt x="17711" y="8756"/>
                </a:cubicBezTo>
                <a:cubicBezTo>
                  <a:pt x="17721" y="8845"/>
                  <a:pt x="17691" y="8918"/>
                  <a:pt x="17686" y="9004"/>
                </a:cubicBezTo>
                <a:cubicBezTo>
                  <a:pt x="17682" y="9077"/>
                  <a:pt x="17660" y="9103"/>
                  <a:pt x="17611" y="9153"/>
                </a:cubicBezTo>
                <a:cubicBezTo>
                  <a:pt x="17550" y="9216"/>
                  <a:pt x="17497" y="9200"/>
                  <a:pt x="17413" y="9203"/>
                </a:cubicBezTo>
                <a:cubicBezTo>
                  <a:pt x="17355" y="9205"/>
                  <a:pt x="17289" y="9175"/>
                  <a:pt x="17239" y="9153"/>
                </a:cubicBezTo>
                <a:cubicBezTo>
                  <a:pt x="17171" y="9123"/>
                  <a:pt x="17193" y="9090"/>
                  <a:pt x="17165" y="9029"/>
                </a:cubicBezTo>
              </a:path>
              <a:path w="1514" h="1415">
                <a:moveTo>
                  <a:pt x="17934" y="8086"/>
                </a:moveTo>
                <a:cubicBezTo>
                  <a:pt x="17961" y="8107"/>
                  <a:pt x="17994" y="8125"/>
                  <a:pt x="18033" y="8111"/>
                </a:cubicBezTo>
                <a:cubicBezTo>
                  <a:pt x="18086" y="8092"/>
                  <a:pt x="18133" y="8056"/>
                  <a:pt x="18182" y="8037"/>
                </a:cubicBezTo>
                <a:cubicBezTo>
                  <a:pt x="18233" y="8017"/>
                  <a:pt x="18261" y="7968"/>
                  <a:pt x="18281" y="7913"/>
                </a:cubicBezTo>
                <a:cubicBezTo>
                  <a:pt x="18295" y="7876"/>
                  <a:pt x="18265" y="7828"/>
                  <a:pt x="18231" y="7813"/>
                </a:cubicBezTo>
                <a:cubicBezTo>
                  <a:pt x="18187" y="7793"/>
                  <a:pt x="18087" y="7815"/>
                  <a:pt x="18058" y="7838"/>
                </a:cubicBezTo>
                <a:cubicBezTo>
                  <a:pt x="18018" y="7870"/>
                  <a:pt x="17963" y="7893"/>
                  <a:pt x="17934" y="7938"/>
                </a:cubicBezTo>
                <a:cubicBezTo>
                  <a:pt x="17910" y="7975"/>
                  <a:pt x="17845" y="8047"/>
                  <a:pt x="17835" y="8086"/>
                </a:cubicBezTo>
                <a:cubicBezTo>
                  <a:pt x="17822" y="8135"/>
                  <a:pt x="17790" y="8232"/>
                  <a:pt x="17810" y="8285"/>
                </a:cubicBezTo>
                <a:cubicBezTo>
                  <a:pt x="17833" y="8343"/>
                  <a:pt x="17858" y="8384"/>
                  <a:pt x="17909" y="8434"/>
                </a:cubicBezTo>
                <a:cubicBezTo>
                  <a:pt x="17958" y="8482"/>
                  <a:pt x="17964" y="8483"/>
                  <a:pt x="18033" y="8483"/>
                </a:cubicBezTo>
                <a:cubicBezTo>
                  <a:pt x="18066" y="8483"/>
                  <a:pt x="18099" y="8483"/>
                  <a:pt x="18132" y="8483"/>
                </a:cubicBezTo>
              </a:path>
              <a:path w="1514" h="1415">
                <a:moveTo>
                  <a:pt x="18678" y="7813"/>
                </a:moveTo>
                <a:cubicBezTo>
                  <a:pt x="18639" y="7804"/>
                  <a:pt x="18623" y="7789"/>
                  <a:pt x="18579" y="7789"/>
                </a:cubicBezTo>
                <a:cubicBezTo>
                  <a:pt x="18527" y="7789"/>
                  <a:pt x="18494" y="7829"/>
                  <a:pt x="18455" y="7838"/>
                </a:cubicBezTo>
                <a:cubicBezTo>
                  <a:pt x="18420" y="7846"/>
                  <a:pt x="18351" y="7847"/>
                  <a:pt x="18331" y="7888"/>
                </a:cubicBezTo>
                <a:cubicBezTo>
                  <a:pt x="18315" y="7922"/>
                  <a:pt x="18318" y="7902"/>
                  <a:pt x="18306" y="7938"/>
                </a:cubicBezTo>
                <a:cubicBezTo>
                  <a:pt x="18318" y="7974"/>
                  <a:pt x="18329" y="7967"/>
                  <a:pt x="18355" y="7987"/>
                </a:cubicBezTo>
                <a:cubicBezTo>
                  <a:pt x="18401" y="8022"/>
                  <a:pt x="18419" y="8047"/>
                  <a:pt x="18479" y="8062"/>
                </a:cubicBezTo>
                <a:cubicBezTo>
                  <a:pt x="18506" y="8069"/>
                  <a:pt x="18564" y="8082"/>
                  <a:pt x="18579" y="8111"/>
                </a:cubicBezTo>
                <a:cubicBezTo>
                  <a:pt x="18597" y="8148"/>
                  <a:pt x="18610" y="8200"/>
                  <a:pt x="18628" y="8235"/>
                </a:cubicBezTo>
                <a:cubicBezTo>
                  <a:pt x="18646" y="8271"/>
                  <a:pt x="18673" y="8292"/>
                  <a:pt x="18678" y="8334"/>
                </a:cubicBezTo>
                <a:cubicBezTo>
                  <a:pt x="18682" y="8370"/>
                  <a:pt x="18653" y="8406"/>
                  <a:pt x="18628" y="8409"/>
                </a:cubicBezTo>
                <a:cubicBezTo>
                  <a:pt x="18588" y="8414"/>
                  <a:pt x="18575" y="8434"/>
                  <a:pt x="18529" y="8434"/>
                </a:cubicBezTo>
                <a:cubicBezTo>
                  <a:pt x="18463" y="8434"/>
                  <a:pt x="18416" y="8415"/>
                  <a:pt x="18355" y="8409"/>
                </a:cubicBezTo>
                <a:cubicBezTo>
                  <a:pt x="18312" y="8405"/>
                  <a:pt x="18294" y="8394"/>
                  <a:pt x="18256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62840" y="2394000"/>
            <a:ext cx="974520" cy="731880"/>
          </a:xfrm>
          <a:custGeom>
            <a:avLst/>
            <a:gdLst/>
            <a:ahLst/>
            <a:rect l="l" t="t" r="r" b="b"/>
            <a:pathLst>
              <a:path w="2704" h="2035">
                <a:moveTo>
                  <a:pt x="19695" y="7888"/>
                </a:moveTo>
                <a:cubicBezTo>
                  <a:pt x="19675" y="7962"/>
                  <a:pt x="19670" y="8010"/>
                  <a:pt x="19670" y="8086"/>
                </a:cubicBezTo>
                <a:cubicBezTo>
                  <a:pt x="19670" y="8194"/>
                  <a:pt x="19670" y="8301"/>
                  <a:pt x="19670" y="8409"/>
                </a:cubicBezTo>
                <a:cubicBezTo>
                  <a:pt x="19640" y="8369"/>
                  <a:pt x="19665" y="8347"/>
                  <a:pt x="19645" y="8310"/>
                </a:cubicBezTo>
                <a:cubicBezTo>
                  <a:pt x="19612" y="8249"/>
                  <a:pt x="19621" y="8183"/>
                  <a:pt x="19621" y="8111"/>
                </a:cubicBezTo>
                <a:cubicBezTo>
                  <a:pt x="19621" y="8029"/>
                  <a:pt x="19628" y="7965"/>
                  <a:pt x="19645" y="7888"/>
                </a:cubicBezTo>
                <a:cubicBezTo>
                  <a:pt x="19657" y="7835"/>
                  <a:pt x="19686" y="7784"/>
                  <a:pt x="19720" y="7739"/>
                </a:cubicBezTo>
                <a:cubicBezTo>
                  <a:pt x="19751" y="7698"/>
                  <a:pt x="19802" y="7666"/>
                  <a:pt x="19844" y="7640"/>
                </a:cubicBezTo>
                <a:cubicBezTo>
                  <a:pt x="19879" y="7619"/>
                  <a:pt x="19933" y="7581"/>
                  <a:pt x="19968" y="7565"/>
                </a:cubicBezTo>
                <a:cubicBezTo>
                  <a:pt x="19995" y="7553"/>
                  <a:pt x="20039" y="7548"/>
                  <a:pt x="20067" y="7541"/>
                </a:cubicBezTo>
              </a:path>
              <a:path w="2704" h="2035">
                <a:moveTo>
                  <a:pt x="20191" y="7764"/>
                </a:moveTo>
                <a:cubicBezTo>
                  <a:pt x="20328" y="7764"/>
                  <a:pt x="20453" y="7756"/>
                  <a:pt x="20588" y="7739"/>
                </a:cubicBezTo>
                <a:cubicBezTo>
                  <a:pt x="20597" y="7738"/>
                  <a:pt x="20754" y="7739"/>
                  <a:pt x="20687" y="7739"/>
                </a:cubicBezTo>
                <a:cubicBezTo>
                  <a:pt x="20662" y="7739"/>
                  <a:pt x="20654" y="7739"/>
                  <a:pt x="20638" y="7739"/>
                </a:cubicBezTo>
              </a:path>
              <a:path w="2704" h="2035">
                <a:moveTo>
                  <a:pt x="20092" y="7987"/>
                </a:moveTo>
                <a:cubicBezTo>
                  <a:pt x="20269" y="7987"/>
                  <a:pt x="20444" y="7991"/>
                  <a:pt x="20613" y="8012"/>
                </a:cubicBezTo>
                <a:cubicBezTo>
                  <a:pt x="20687" y="8021"/>
                  <a:pt x="20778" y="7921"/>
                  <a:pt x="20811" y="7987"/>
                </a:cubicBezTo>
                <a:cubicBezTo>
                  <a:pt x="20826" y="8017"/>
                  <a:pt x="20844" y="8012"/>
                  <a:pt x="20811" y="8012"/>
                </a:cubicBezTo>
              </a:path>
              <a:path w="2704" h="2035">
                <a:moveTo>
                  <a:pt x="21084" y="7367"/>
                </a:moveTo>
                <a:cubicBezTo>
                  <a:pt x="21159" y="7359"/>
                  <a:pt x="21230" y="7342"/>
                  <a:pt x="21307" y="7342"/>
                </a:cubicBezTo>
                <a:cubicBezTo>
                  <a:pt x="21324" y="7342"/>
                  <a:pt x="21340" y="7342"/>
                  <a:pt x="21357" y="7342"/>
                </a:cubicBezTo>
              </a:path>
              <a:path w="2704" h="2035">
                <a:moveTo>
                  <a:pt x="22051" y="6648"/>
                </a:moveTo>
                <a:cubicBezTo>
                  <a:pt x="22045" y="6737"/>
                  <a:pt x="22027" y="6807"/>
                  <a:pt x="22027" y="6896"/>
                </a:cubicBezTo>
                <a:cubicBezTo>
                  <a:pt x="22027" y="6969"/>
                  <a:pt x="22047" y="7024"/>
                  <a:pt x="22051" y="7094"/>
                </a:cubicBezTo>
                <a:cubicBezTo>
                  <a:pt x="22055" y="7167"/>
                  <a:pt x="22065" y="7225"/>
                  <a:pt x="22076" y="7293"/>
                </a:cubicBezTo>
                <a:cubicBezTo>
                  <a:pt x="22088" y="7362"/>
                  <a:pt x="22076" y="7445"/>
                  <a:pt x="22076" y="7516"/>
                </a:cubicBezTo>
              </a:path>
              <a:path w="2704" h="2035">
                <a:moveTo>
                  <a:pt x="21654" y="7640"/>
                </a:moveTo>
                <a:cubicBezTo>
                  <a:pt x="21762" y="7640"/>
                  <a:pt x="21852" y="7632"/>
                  <a:pt x="21952" y="7615"/>
                </a:cubicBezTo>
                <a:cubicBezTo>
                  <a:pt x="22026" y="7603"/>
                  <a:pt x="22111" y="7603"/>
                  <a:pt x="22175" y="7590"/>
                </a:cubicBezTo>
                <a:cubicBezTo>
                  <a:pt x="22219" y="7581"/>
                  <a:pt x="22278" y="7590"/>
                  <a:pt x="22324" y="7590"/>
                </a:cubicBezTo>
              </a:path>
              <a:path w="2704" h="2035">
                <a:moveTo>
                  <a:pt x="21828" y="7938"/>
                </a:moveTo>
                <a:cubicBezTo>
                  <a:pt x="21872" y="7938"/>
                  <a:pt x="21879" y="7932"/>
                  <a:pt x="21903" y="7913"/>
                </a:cubicBezTo>
                <a:cubicBezTo>
                  <a:pt x="21937" y="7887"/>
                  <a:pt x="21963" y="7851"/>
                  <a:pt x="22002" y="7838"/>
                </a:cubicBezTo>
                <a:cubicBezTo>
                  <a:pt x="22046" y="7823"/>
                  <a:pt x="22073" y="7813"/>
                  <a:pt x="22126" y="7813"/>
                </a:cubicBezTo>
                <a:cubicBezTo>
                  <a:pt x="22151" y="7813"/>
                  <a:pt x="22175" y="7813"/>
                  <a:pt x="22200" y="7813"/>
                </a:cubicBezTo>
                <a:cubicBezTo>
                  <a:pt x="22200" y="7873"/>
                  <a:pt x="22190" y="7913"/>
                  <a:pt x="22175" y="7962"/>
                </a:cubicBezTo>
                <a:cubicBezTo>
                  <a:pt x="22166" y="7991"/>
                  <a:pt x="22127" y="8066"/>
                  <a:pt x="22101" y="8086"/>
                </a:cubicBezTo>
                <a:cubicBezTo>
                  <a:pt x="22085" y="8098"/>
                  <a:pt x="22059" y="8147"/>
                  <a:pt x="22027" y="8161"/>
                </a:cubicBezTo>
                <a:cubicBezTo>
                  <a:pt x="22002" y="8161"/>
                  <a:pt x="21994" y="8161"/>
                  <a:pt x="22002" y="8186"/>
                </a:cubicBezTo>
                <a:cubicBezTo>
                  <a:pt x="22033" y="8163"/>
                  <a:pt x="22062" y="8140"/>
                  <a:pt x="22101" y="8136"/>
                </a:cubicBezTo>
                <a:cubicBezTo>
                  <a:pt x="22157" y="8130"/>
                  <a:pt x="22181" y="8146"/>
                  <a:pt x="22225" y="8161"/>
                </a:cubicBezTo>
                <a:cubicBezTo>
                  <a:pt x="22265" y="8174"/>
                  <a:pt x="22257" y="8214"/>
                  <a:pt x="22275" y="8260"/>
                </a:cubicBezTo>
                <a:cubicBezTo>
                  <a:pt x="22308" y="8346"/>
                  <a:pt x="22292" y="8364"/>
                  <a:pt x="22275" y="8458"/>
                </a:cubicBezTo>
                <a:cubicBezTo>
                  <a:pt x="22265" y="8515"/>
                  <a:pt x="22239" y="8563"/>
                  <a:pt x="22200" y="8607"/>
                </a:cubicBezTo>
                <a:cubicBezTo>
                  <a:pt x="22171" y="8639"/>
                  <a:pt x="22117" y="8679"/>
                  <a:pt x="22076" y="8682"/>
                </a:cubicBezTo>
                <a:cubicBezTo>
                  <a:pt x="22002" y="8687"/>
                  <a:pt x="21940" y="8676"/>
                  <a:pt x="21878" y="8657"/>
                </a:cubicBezTo>
                <a:cubicBezTo>
                  <a:pt x="21853" y="8649"/>
                  <a:pt x="21809" y="8619"/>
                  <a:pt x="21803" y="8607"/>
                </a:cubicBezTo>
                <a:cubicBezTo>
                  <a:pt x="21780" y="8562"/>
                  <a:pt x="21788" y="8579"/>
                  <a:pt x="21779" y="8582"/>
                </a:cubicBezTo>
                <a:cubicBezTo>
                  <a:pt x="21771" y="8582"/>
                  <a:pt x="21762" y="8582"/>
                  <a:pt x="21754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41920" y="3402000"/>
            <a:ext cx="633240" cy="492120"/>
          </a:xfrm>
          <a:custGeom>
            <a:avLst/>
            <a:gdLst/>
            <a:ahLst/>
            <a:rect l="l" t="t" r="r" b="b"/>
            <a:pathLst>
              <a:path w="1762" h="1365">
                <a:moveTo>
                  <a:pt x="13171" y="9798"/>
                </a:moveTo>
                <a:cubicBezTo>
                  <a:pt x="13171" y="9888"/>
                  <a:pt x="13193" y="9959"/>
                  <a:pt x="13196" y="10046"/>
                </a:cubicBezTo>
                <a:cubicBezTo>
                  <a:pt x="13200" y="10141"/>
                  <a:pt x="13221" y="10220"/>
                  <a:pt x="13221" y="10319"/>
                </a:cubicBezTo>
                <a:cubicBezTo>
                  <a:pt x="13221" y="10390"/>
                  <a:pt x="13187" y="10647"/>
                  <a:pt x="13246" y="10666"/>
                </a:cubicBezTo>
                <a:cubicBezTo>
                  <a:pt x="13246" y="10658"/>
                  <a:pt x="13246" y="10649"/>
                  <a:pt x="13246" y="10641"/>
                </a:cubicBezTo>
                <a:cubicBezTo>
                  <a:pt x="13246" y="10543"/>
                  <a:pt x="13224" y="10469"/>
                  <a:pt x="13221" y="10368"/>
                </a:cubicBezTo>
                <a:cubicBezTo>
                  <a:pt x="13218" y="10265"/>
                  <a:pt x="13201" y="10172"/>
                  <a:pt x="13196" y="10071"/>
                </a:cubicBezTo>
                <a:cubicBezTo>
                  <a:pt x="13192" y="9974"/>
                  <a:pt x="13175" y="9891"/>
                  <a:pt x="13171" y="9798"/>
                </a:cubicBezTo>
                <a:cubicBezTo>
                  <a:pt x="13168" y="9742"/>
                  <a:pt x="13147" y="9611"/>
                  <a:pt x="13196" y="9575"/>
                </a:cubicBezTo>
                <a:cubicBezTo>
                  <a:pt x="13204" y="9575"/>
                  <a:pt x="13213" y="9575"/>
                  <a:pt x="13221" y="9575"/>
                </a:cubicBezTo>
                <a:cubicBezTo>
                  <a:pt x="13245" y="9616"/>
                  <a:pt x="13255" y="9653"/>
                  <a:pt x="13271" y="9699"/>
                </a:cubicBezTo>
                <a:cubicBezTo>
                  <a:pt x="13301" y="9787"/>
                  <a:pt x="13364" y="9852"/>
                  <a:pt x="13395" y="9947"/>
                </a:cubicBezTo>
                <a:cubicBezTo>
                  <a:pt x="13433" y="10062"/>
                  <a:pt x="13495" y="10161"/>
                  <a:pt x="13543" y="10269"/>
                </a:cubicBezTo>
                <a:cubicBezTo>
                  <a:pt x="13578" y="10348"/>
                  <a:pt x="13616" y="10473"/>
                  <a:pt x="13667" y="10542"/>
                </a:cubicBezTo>
                <a:cubicBezTo>
                  <a:pt x="13711" y="10602"/>
                  <a:pt x="13763" y="10635"/>
                  <a:pt x="13816" y="10666"/>
                </a:cubicBezTo>
                <a:cubicBezTo>
                  <a:pt x="13832" y="10617"/>
                  <a:pt x="13838" y="10601"/>
                  <a:pt x="13841" y="10542"/>
                </a:cubicBezTo>
                <a:cubicBezTo>
                  <a:pt x="13847" y="10405"/>
                  <a:pt x="13834" y="10277"/>
                  <a:pt x="13816" y="10145"/>
                </a:cubicBezTo>
                <a:cubicBezTo>
                  <a:pt x="13804" y="10056"/>
                  <a:pt x="13801" y="9959"/>
                  <a:pt x="13791" y="9872"/>
                </a:cubicBezTo>
                <a:cubicBezTo>
                  <a:pt x="13779" y="9769"/>
                  <a:pt x="13764" y="9586"/>
                  <a:pt x="13816" y="9500"/>
                </a:cubicBezTo>
              </a:path>
              <a:path w="1762" h="1365">
                <a:moveTo>
                  <a:pt x="13990" y="10145"/>
                </a:moveTo>
                <a:cubicBezTo>
                  <a:pt x="13995" y="10243"/>
                  <a:pt x="13991" y="10373"/>
                  <a:pt x="14015" y="10468"/>
                </a:cubicBezTo>
                <a:cubicBezTo>
                  <a:pt x="14030" y="10526"/>
                  <a:pt x="14075" y="10597"/>
                  <a:pt x="14114" y="10641"/>
                </a:cubicBezTo>
                <a:cubicBezTo>
                  <a:pt x="14158" y="10689"/>
                  <a:pt x="14231" y="10695"/>
                  <a:pt x="14288" y="10666"/>
                </a:cubicBezTo>
                <a:cubicBezTo>
                  <a:pt x="14323" y="10648"/>
                  <a:pt x="14379" y="10578"/>
                  <a:pt x="14387" y="10542"/>
                </a:cubicBezTo>
                <a:cubicBezTo>
                  <a:pt x="14405" y="10465"/>
                  <a:pt x="14372" y="10391"/>
                  <a:pt x="14362" y="10319"/>
                </a:cubicBezTo>
                <a:cubicBezTo>
                  <a:pt x="14353" y="10259"/>
                  <a:pt x="14325" y="10200"/>
                  <a:pt x="14288" y="10145"/>
                </a:cubicBezTo>
                <a:cubicBezTo>
                  <a:pt x="14266" y="10113"/>
                  <a:pt x="14199" y="10073"/>
                  <a:pt x="14163" y="10071"/>
                </a:cubicBezTo>
                <a:cubicBezTo>
                  <a:pt x="14098" y="10068"/>
                  <a:pt x="14022" y="10073"/>
                  <a:pt x="13990" y="10145"/>
                </a:cubicBezTo>
                <a:cubicBezTo>
                  <a:pt x="13971" y="10188"/>
                  <a:pt x="13992" y="10263"/>
                  <a:pt x="14015" y="10294"/>
                </a:cubicBezTo>
              </a:path>
              <a:path w="1762" h="1365">
                <a:moveTo>
                  <a:pt x="14759" y="9451"/>
                </a:moveTo>
                <a:cubicBezTo>
                  <a:pt x="14793" y="9540"/>
                  <a:pt x="14791" y="9611"/>
                  <a:pt x="14784" y="9699"/>
                </a:cubicBezTo>
                <a:cubicBezTo>
                  <a:pt x="14776" y="9803"/>
                  <a:pt x="14804" y="9894"/>
                  <a:pt x="14808" y="9996"/>
                </a:cubicBezTo>
                <a:cubicBezTo>
                  <a:pt x="14811" y="10090"/>
                  <a:pt x="14810" y="10179"/>
                  <a:pt x="14833" y="10269"/>
                </a:cubicBezTo>
                <a:cubicBezTo>
                  <a:pt x="14850" y="10337"/>
                  <a:pt x="14850" y="10414"/>
                  <a:pt x="14883" y="10468"/>
                </a:cubicBezTo>
              </a:path>
              <a:path w="1762" h="1365">
                <a:moveTo>
                  <a:pt x="14932" y="10790"/>
                </a:moveTo>
                <a:cubicBezTo>
                  <a:pt x="14932" y="10818"/>
                  <a:pt x="14930" y="10824"/>
                  <a:pt x="1490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a geometric sequence is determined by:</a:t>
            </a:r>
            <a:br>
              <a:rPr sz="4000"/>
            </a:b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n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= 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1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  <a:ea typeface="Arial"/>
              </a:rPr>
              <a:t>• r</a:t>
            </a:r>
            <a:r>
              <a:rPr b="1" lang="en-US" sz="5500" spc="-1" strike="noStrike" baseline="30000">
                <a:solidFill>
                  <a:srgbClr val="d1d1df"/>
                </a:solidFill>
                <a:latin typeface="Tahoma"/>
                <a:ea typeface="Arial"/>
              </a:rPr>
              <a:t>n-1</a:t>
            </a:r>
            <a:endParaRPr b="0" lang="en-US" sz="55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973840" y="2625840"/>
            <a:ext cx="117360" cy="347400"/>
          </a:xfrm>
          <a:custGeom>
            <a:avLst/>
            <a:gdLst/>
            <a:ahLst/>
            <a:rect l="l" t="t" r="r" b="b"/>
            <a:pathLst>
              <a:path w="324" h="968">
                <a:moveTo>
                  <a:pt x="16917" y="7317"/>
                </a:moveTo>
                <a:cubicBezTo>
                  <a:pt x="16909" y="7309"/>
                  <a:pt x="16900" y="7301"/>
                  <a:pt x="16892" y="7293"/>
                </a:cubicBezTo>
                <a:cubicBezTo>
                  <a:pt x="16882" y="7322"/>
                  <a:pt x="16871" y="7334"/>
                  <a:pt x="16842" y="7367"/>
                </a:cubicBezTo>
                <a:cubicBezTo>
                  <a:pt x="16803" y="7412"/>
                  <a:pt x="16771" y="7464"/>
                  <a:pt x="16743" y="7516"/>
                </a:cubicBezTo>
                <a:cubicBezTo>
                  <a:pt x="16699" y="7599"/>
                  <a:pt x="16637" y="7696"/>
                  <a:pt x="16619" y="7789"/>
                </a:cubicBezTo>
                <a:cubicBezTo>
                  <a:pt x="16602" y="7875"/>
                  <a:pt x="16590" y="7980"/>
                  <a:pt x="16619" y="8062"/>
                </a:cubicBezTo>
                <a:cubicBezTo>
                  <a:pt x="16636" y="8110"/>
                  <a:pt x="16654" y="8146"/>
                  <a:pt x="16694" y="8186"/>
                </a:cubicBezTo>
                <a:cubicBezTo>
                  <a:pt x="16730" y="8222"/>
                  <a:pt x="16870" y="8260"/>
                  <a:pt x="16818" y="8260"/>
                </a:cubicBezTo>
                <a:cubicBezTo>
                  <a:pt x="16810" y="8260"/>
                  <a:pt x="16801" y="8260"/>
                  <a:pt x="16793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77000" y="2598840"/>
            <a:ext cx="162000" cy="401400"/>
          </a:xfrm>
          <a:custGeom>
            <a:avLst/>
            <a:gdLst/>
            <a:ahLst/>
            <a:rect l="l" t="t" r="r" b="b"/>
            <a:pathLst>
              <a:path w="447" h="1117">
                <a:moveTo>
                  <a:pt x="18976" y="7218"/>
                </a:moveTo>
                <a:cubicBezTo>
                  <a:pt x="19014" y="7231"/>
                  <a:pt x="18991" y="7256"/>
                  <a:pt x="19025" y="7293"/>
                </a:cubicBezTo>
                <a:cubicBezTo>
                  <a:pt x="19064" y="7336"/>
                  <a:pt x="19123" y="7416"/>
                  <a:pt x="19149" y="7466"/>
                </a:cubicBezTo>
                <a:cubicBezTo>
                  <a:pt x="19198" y="7560"/>
                  <a:pt x="19223" y="7669"/>
                  <a:pt x="19248" y="7764"/>
                </a:cubicBezTo>
                <a:cubicBezTo>
                  <a:pt x="19269" y="7843"/>
                  <a:pt x="19292" y="7961"/>
                  <a:pt x="19248" y="8037"/>
                </a:cubicBezTo>
                <a:cubicBezTo>
                  <a:pt x="19210" y="8102"/>
                  <a:pt x="19137" y="8169"/>
                  <a:pt x="19075" y="8210"/>
                </a:cubicBezTo>
                <a:cubicBezTo>
                  <a:pt x="19028" y="8242"/>
                  <a:pt x="18955" y="8271"/>
                  <a:pt x="18901" y="8285"/>
                </a:cubicBezTo>
                <a:cubicBezTo>
                  <a:pt x="18891" y="8288"/>
                  <a:pt x="18802" y="8316"/>
                  <a:pt x="18827" y="8334"/>
                </a:cubicBezTo>
                <a:cubicBezTo>
                  <a:pt x="18852" y="8334"/>
                  <a:pt x="18860" y="8334"/>
                  <a:pt x="18827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2960" y="4197240"/>
            <a:ext cx="241200" cy="446040"/>
          </a:xfrm>
          <a:custGeom>
            <a:avLst/>
            <a:gdLst/>
            <a:ahLst/>
            <a:rect l="l" t="t" r="r" b="b"/>
            <a:pathLst>
              <a:path w="671" h="1241">
                <a:moveTo>
                  <a:pt x="1786" y="11782"/>
                </a:moveTo>
                <a:cubicBezTo>
                  <a:pt x="1823" y="11753"/>
                  <a:pt x="1888" y="11696"/>
                  <a:pt x="1935" y="11683"/>
                </a:cubicBezTo>
                <a:cubicBezTo>
                  <a:pt x="1979" y="11671"/>
                  <a:pt x="2091" y="11651"/>
                  <a:pt x="2133" y="11658"/>
                </a:cubicBezTo>
                <a:cubicBezTo>
                  <a:pt x="2236" y="11676"/>
                  <a:pt x="2252" y="11704"/>
                  <a:pt x="2332" y="11757"/>
                </a:cubicBezTo>
                <a:cubicBezTo>
                  <a:pt x="2375" y="11786"/>
                  <a:pt x="2426" y="11866"/>
                  <a:pt x="2406" y="11931"/>
                </a:cubicBezTo>
                <a:cubicBezTo>
                  <a:pt x="2395" y="11967"/>
                  <a:pt x="2332" y="12047"/>
                  <a:pt x="2307" y="12080"/>
                </a:cubicBezTo>
                <a:cubicBezTo>
                  <a:pt x="2268" y="12133"/>
                  <a:pt x="2188" y="12154"/>
                  <a:pt x="2133" y="12179"/>
                </a:cubicBezTo>
                <a:cubicBezTo>
                  <a:pt x="2105" y="12179"/>
                  <a:pt x="2094" y="12181"/>
                  <a:pt x="2084" y="12204"/>
                </a:cubicBezTo>
                <a:cubicBezTo>
                  <a:pt x="2134" y="12210"/>
                  <a:pt x="2188" y="12203"/>
                  <a:pt x="2232" y="12229"/>
                </a:cubicBezTo>
                <a:cubicBezTo>
                  <a:pt x="2301" y="12270"/>
                  <a:pt x="2346" y="12360"/>
                  <a:pt x="2381" y="12427"/>
                </a:cubicBezTo>
                <a:cubicBezTo>
                  <a:pt x="2422" y="12504"/>
                  <a:pt x="2452" y="12589"/>
                  <a:pt x="2456" y="12675"/>
                </a:cubicBezTo>
                <a:cubicBezTo>
                  <a:pt x="2459" y="12746"/>
                  <a:pt x="2421" y="12843"/>
                  <a:pt x="2356" y="12874"/>
                </a:cubicBezTo>
                <a:cubicBezTo>
                  <a:pt x="2303" y="12899"/>
                  <a:pt x="2193" y="12910"/>
                  <a:pt x="2133" y="12898"/>
                </a:cubicBezTo>
                <a:cubicBezTo>
                  <a:pt x="2063" y="12884"/>
                  <a:pt x="1969" y="12840"/>
                  <a:pt x="1910" y="12799"/>
                </a:cubicBezTo>
                <a:cubicBezTo>
                  <a:pt x="1860" y="12765"/>
                  <a:pt x="1837" y="12678"/>
                  <a:pt x="1811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5800" y="4054320"/>
            <a:ext cx="142920" cy="21456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2679" y="11435"/>
                </a:moveTo>
                <a:cubicBezTo>
                  <a:pt x="2685" y="11411"/>
                  <a:pt x="2692" y="11357"/>
                  <a:pt x="2704" y="11336"/>
                </a:cubicBezTo>
                <a:cubicBezTo>
                  <a:pt x="2723" y="11302"/>
                  <a:pt x="2768" y="11265"/>
                  <a:pt x="2803" y="11261"/>
                </a:cubicBezTo>
                <a:cubicBezTo>
                  <a:pt x="2851" y="11256"/>
                  <a:pt x="2889" y="11282"/>
                  <a:pt x="2927" y="11311"/>
                </a:cubicBezTo>
                <a:cubicBezTo>
                  <a:pt x="2971" y="11344"/>
                  <a:pt x="2975" y="11456"/>
                  <a:pt x="2977" y="11509"/>
                </a:cubicBezTo>
                <a:cubicBezTo>
                  <a:pt x="2980" y="11571"/>
                  <a:pt x="2965" y="11681"/>
                  <a:pt x="2927" y="11733"/>
                </a:cubicBezTo>
                <a:cubicBezTo>
                  <a:pt x="2917" y="11746"/>
                  <a:pt x="2826" y="11852"/>
                  <a:pt x="2803" y="11857"/>
                </a:cubicBezTo>
                <a:cubicBezTo>
                  <a:pt x="2736" y="11871"/>
                  <a:pt x="2709" y="11855"/>
                  <a:pt x="2679" y="11832"/>
                </a:cubicBezTo>
                <a:cubicBezTo>
                  <a:pt x="2657" y="11815"/>
                  <a:pt x="2638" y="11762"/>
                  <a:pt x="2654" y="11733"/>
                </a:cubicBezTo>
                <a:cubicBezTo>
                  <a:pt x="2686" y="11676"/>
                  <a:pt x="2726" y="11673"/>
                  <a:pt x="2778" y="11708"/>
                </a:cubicBezTo>
                <a:cubicBezTo>
                  <a:pt x="2816" y="11734"/>
                  <a:pt x="2861" y="11789"/>
                  <a:pt x="2902" y="11807"/>
                </a:cubicBezTo>
                <a:cubicBezTo>
                  <a:pt x="2932" y="11820"/>
                  <a:pt x="2971" y="11847"/>
                  <a:pt x="3001" y="11857"/>
                </a:cubicBezTo>
                <a:cubicBezTo>
                  <a:pt x="3029" y="11857"/>
                  <a:pt x="3040" y="11855"/>
                  <a:pt x="3051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0000" y="4170240"/>
            <a:ext cx="6192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3249" y="11584"/>
                </a:moveTo>
                <a:cubicBezTo>
                  <a:pt x="3348" y="11584"/>
                  <a:pt x="3365" y="11584"/>
                  <a:pt x="3423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20840" y="404496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3671" y="11237"/>
                </a:moveTo>
                <a:cubicBezTo>
                  <a:pt x="3671" y="11368"/>
                  <a:pt x="3681" y="11465"/>
                  <a:pt x="3696" y="11584"/>
                </a:cubicBezTo>
                <a:cubicBezTo>
                  <a:pt x="3704" y="11648"/>
                  <a:pt x="3717" y="11721"/>
                  <a:pt x="3721" y="11782"/>
                </a:cubicBezTo>
                <a:cubicBezTo>
                  <a:pt x="3721" y="11824"/>
                  <a:pt x="3721" y="11832"/>
                  <a:pt x="3721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960" y="5000760"/>
            <a:ext cx="233280" cy="384120"/>
          </a:xfrm>
          <a:custGeom>
            <a:avLst/>
            <a:gdLst/>
            <a:ahLst/>
            <a:rect l="l" t="t" r="r" b="b"/>
            <a:pathLst>
              <a:path w="646" h="1067">
                <a:moveTo>
                  <a:pt x="1588" y="13915"/>
                </a:moveTo>
                <a:cubicBezTo>
                  <a:pt x="1621" y="13899"/>
                  <a:pt x="1601" y="13898"/>
                  <a:pt x="1637" y="13891"/>
                </a:cubicBezTo>
                <a:cubicBezTo>
                  <a:pt x="1743" y="13871"/>
                  <a:pt x="1859" y="13902"/>
                  <a:pt x="1960" y="13915"/>
                </a:cubicBezTo>
                <a:cubicBezTo>
                  <a:pt x="2029" y="13924"/>
                  <a:pt x="2098" y="13948"/>
                  <a:pt x="2158" y="13990"/>
                </a:cubicBezTo>
                <a:cubicBezTo>
                  <a:pt x="2203" y="14021"/>
                  <a:pt x="2197" y="14086"/>
                  <a:pt x="2183" y="14114"/>
                </a:cubicBezTo>
                <a:cubicBezTo>
                  <a:pt x="2151" y="14177"/>
                  <a:pt x="2121" y="14205"/>
                  <a:pt x="2059" y="14238"/>
                </a:cubicBezTo>
                <a:cubicBezTo>
                  <a:pt x="2003" y="14268"/>
                  <a:pt x="1939" y="14261"/>
                  <a:pt x="1885" y="14288"/>
                </a:cubicBezTo>
                <a:cubicBezTo>
                  <a:pt x="1842" y="14309"/>
                  <a:pt x="1836" y="14306"/>
                  <a:pt x="1786" y="14312"/>
                </a:cubicBezTo>
                <a:cubicBezTo>
                  <a:pt x="1851" y="14312"/>
                  <a:pt x="1899" y="14310"/>
                  <a:pt x="1960" y="14337"/>
                </a:cubicBezTo>
                <a:cubicBezTo>
                  <a:pt x="2064" y="14384"/>
                  <a:pt x="2118" y="14439"/>
                  <a:pt x="2183" y="14536"/>
                </a:cubicBezTo>
                <a:cubicBezTo>
                  <a:pt x="2229" y="14605"/>
                  <a:pt x="2214" y="14690"/>
                  <a:pt x="2183" y="14759"/>
                </a:cubicBezTo>
                <a:cubicBezTo>
                  <a:pt x="2148" y="14837"/>
                  <a:pt x="2087" y="14878"/>
                  <a:pt x="2009" y="14908"/>
                </a:cubicBezTo>
                <a:cubicBezTo>
                  <a:pt x="1892" y="14953"/>
                  <a:pt x="1851" y="14949"/>
                  <a:pt x="1736" y="14932"/>
                </a:cubicBezTo>
                <a:cubicBezTo>
                  <a:pt x="1666" y="14922"/>
                  <a:pt x="1619" y="14911"/>
                  <a:pt x="1612" y="14833"/>
                </a:cubicBezTo>
                <a:cubicBezTo>
                  <a:pt x="1607" y="14780"/>
                  <a:pt x="1619" y="14758"/>
                  <a:pt x="1637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7160" y="4929120"/>
            <a:ext cx="295200" cy="438120"/>
          </a:xfrm>
          <a:custGeom>
            <a:avLst/>
            <a:gdLst/>
            <a:ahLst/>
            <a:rect l="l" t="t" r="r" b="b"/>
            <a:pathLst>
              <a:path w="820" h="1217">
                <a:moveTo>
                  <a:pt x="2530" y="14536"/>
                </a:moveTo>
                <a:cubicBezTo>
                  <a:pt x="2501" y="14622"/>
                  <a:pt x="2428" y="14749"/>
                  <a:pt x="2406" y="14833"/>
                </a:cubicBezTo>
                <a:cubicBezTo>
                  <a:pt x="2406" y="14878"/>
                  <a:pt x="2409" y="14891"/>
                  <a:pt x="2381" y="14908"/>
                </a:cubicBezTo>
                <a:cubicBezTo>
                  <a:pt x="2402" y="14853"/>
                  <a:pt x="2411" y="14798"/>
                  <a:pt x="2431" y="14734"/>
                </a:cubicBezTo>
                <a:cubicBezTo>
                  <a:pt x="2468" y="14615"/>
                  <a:pt x="2478" y="14507"/>
                  <a:pt x="2505" y="14387"/>
                </a:cubicBezTo>
                <a:cubicBezTo>
                  <a:pt x="2533" y="14263"/>
                  <a:pt x="2569" y="14137"/>
                  <a:pt x="2604" y="14015"/>
                </a:cubicBezTo>
                <a:cubicBezTo>
                  <a:pt x="2628" y="13933"/>
                  <a:pt x="2661" y="13848"/>
                  <a:pt x="2679" y="13767"/>
                </a:cubicBezTo>
                <a:cubicBezTo>
                  <a:pt x="2679" y="13722"/>
                  <a:pt x="2676" y="13709"/>
                  <a:pt x="2704" y="13692"/>
                </a:cubicBezTo>
                <a:cubicBezTo>
                  <a:pt x="2757" y="13745"/>
                  <a:pt x="2760" y="13772"/>
                  <a:pt x="2778" y="13841"/>
                </a:cubicBezTo>
                <a:cubicBezTo>
                  <a:pt x="2810" y="13962"/>
                  <a:pt x="2842" y="14072"/>
                  <a:pt x="2877" y="14188"/>
                </a:cubicBezTo>
                <a:cubicBezTo>
                  <a:pt x="2918" y="14324"/>
                  <a:pt x="2950" y="14453"/>
                  <a:pt x="3001" y="14585"/>
                </a:cubicBezTo>
                <a:cubicBezTo>
                  <a:pt x="3033" y="14667"/>
                  <a:pt x="3074" y="14759"/>
                  <a:pt x="3125" y="14833"/>
                </a:cubicBezTo>
                <a:cubicBezTo>
                  <a:pt x="3172" y="14901"/>
                  <a:pt x="3180" y="14828"/>
                  <a:pt x="3200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4956120"/>
            <a:ext cx="223920" cy="419040"/>
          </a:xfrm>
          <a:custGeom>
            <a:avLst/>
            <a:gdLst/>
            <a:ahLst/>
            <a:rect l="l" t="t" r="r" b="b"/>
            <a:pathLst>
              <a:path w="621" h="1166">
                <a:moveTo>
                  <a:pt x="3448" y="13816"/>
                </a:moveTo>
                <a:cubicBezTo>
                  <a:pt x="3544" y="13778"/>
                  <a:pt x="3539" y="13775"/>
                  <a:pt x="3621" y="13791"/>
                </a:cubicBezTo>
                <a:cubicBezTo>
                  <a:pt x="3706" y="13807"/>
                  <a:pt x="3731" y="13827"/>
                  <a:pt x="3795" y="13891"/>
                </a:cubicBezTo>
                <a:cubicBezTo>
                  <a:pt x="3863" y="13958"/>
                  <a:pt x="3890" y="14018"/>
                  <a:pt x="3894" y="14114"/>
                </a:cubicBezTo>
                <a:cubicBezTo>
                  <a:pt x="3899" y="14241"/>
                  <a:pt x="3882" y="14280"/>
                  <a:pt x="3820" y="14387"/>
                </a:cubicBezTo>
                <a:cubicBezTo>
                  <a:pt x="3775" y="14466"/>
                  <a:pt x="3710" y="14521"/>
                  <a:pt x="3646" y="14585"/>
                </a:cubicBezTo>
                <a:cubicBezTo>
                  <a:pt x="3597" y="14634"/>
                  <a:pt x="3567" y="14684"/>
                  <a:pt x="3522" y="14734"/>
                </a:cubicBezTo>
                <a:cubicBezTo>
                  <a:pt x="3498" y="14760"/>
                  <a:pt x="3485" y="14795"/>
                  <a:pt x="3497" y="14833"/>
                </a:cubicBezTo>
                <a:cubicBezTo>
                  <a:pt x="3510" y="14874"/>
                  <a:pt x="3614" y="14881"/>
                  <a:pt x="3646" y="14883"/>
                </a:cubicBezTo>
                <a:cubicBezTo>
                  <a:pt x="3717" y="14887"/>
                  <a:pt x="3771" y="14908"/>
                  <a:pt x="3845" y="14908"/>
                </a:cubicBezTo>
                <a:cubicBezTo>
                  <a:pt x="3908" y="14908"/>
                  <a:pt x="3955" y="14913"/>
                  <a:pt x="3994" y="14908"/>
                </a:cubicBezTo>
                <a:cubicBezTo>
                  <a:pt x="4026" y="14903"/>
                  <a:pt x="4049" y="14959"/>
                  <a:pt x="4068" y="14932"/>
                </a:cubicBezTo>
                <a:cubicBezTo>
                  <a:pt x="4068" y="14908"/>
                  <a:pt x="4068" y="14899"/>
                  <a:pt x="4068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5760" y="5160960"/>
            <a:ext cx="179280" cy="9360"/>
          </a:xfrm>
          <a:custGeom>
            <a:avLst/>
            <a:gdLst/>
            <a:ahLst/>
            <a:rect l="l" t="t" r="r" b="b"/>
            <a:pathLst>
              <a:path w="498" h="26">
                <a:moveTo>
                  <a:pt x="4514" y="14362"/>
                </a:moveTo>
                <a:cubicBezTo>
                  <a:pt x="4685" y="14362"/>
                  <a:pt x="4847" y="14375"/>
                  <a:pt x="5011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4894200"/>
            <a:ext cx="44280" cy="687600"/>
          </a:xfrm>
          <a:custGeom>
            <a:avLst/>
            <a:gdLst/>
            <a:ahLst/>
            <a:rect l="l" t="t" r="r" b="b"/>
            <a:pathLst>
              <a:path w="125" h="1911">
                <a:moveTo>
                  <a:pt x="5581" y="13593"/>
                </a:moveTo>
                <a:cubicBezTo>
                  <a:pt x="5643" y="13700"/>
                  <a:pt x="5631" y="13753"/>
                  <a:pt x="5631" y="13891"/>
                </a:cubicBezTo>
                <a:cubicBezTo>
                  <a:pt x="5631" y="14035"/>
                  <a:pt x="5644" y="14170"/>
                  <a:pt x="5655" y="14312"/>
                </a:cubicBezTo>
                <a:cubicBezTo>
                  <a:pt x="5672" y="14544"/>
                  <a:pt x="5659" y="14776"/>
                  <a:pt x="5680" y="15007"/>
                </a:cubicBezTo>
                <a:cubicBezTo>
                  <a:pt x="5690" y="15117"/>
                  <a:pt x="5690" y="15222"/>
                  <a:pt x="5705" y="15329"/>
                </a:cubicBezTo>
                <a:cubicBezTo>
                  <a:pt x="5709" y="15356"/>
                  <a:pt x="5705" y="15529"/>
                  <a:pt x="5705" y="15478"/>
                </a:cubicBezTo>
                <a:cubicBezTo>
                  <a:pt x="5705" y="15470"/>
                  <a:pt x="5705" y="15461"/>
                  <a:pt x="5705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5581800"/>
            <a:ext cx="179280" cy="509400"/>
          </a:xfrm>
          <a:custGeom>
            <a:avLst/>
            <a:gdLst/>
            <a:ahLst/>
            <a:rect l="l" t="t" r="r" b="b"/>
            <a:pathLst>
              <a:path w="497" h="1415">
                <a:moveTo>
                  <a:pt x="1588" y="15503"/>
                </a:moveTo>
                <a:cubicBezTo>
                  <a:pt x="1648" y="15503"/>
                  <a:pt x="1687" y="15512"/>
                  <a:pt x="1736" y="15528"/>
                </a:cubicBezTo>
                <a:cubicBezTo>
                  <a:pt x="1850" y="15565"/>
                  <a:pt x="1895" y="15544"/>
                  <a:pt x="1984" y="15627"/>
                </a:cubicBezTo>
                <a:cubicBezTo>
                  <a:pt x="2034" y="15674"/>
                  <a:pt x="2055" y="15735"/>
                  <a:pt x="2059" y="15801"/>
                </a:cubicBezTo>
                <a:cubicBezTo>
                  <a:pt x="2062" y="15851"/>
                  <a:pt x="2027" y="15918"/>
                  <a:pt x="1984" y="15949"/>
                </a:cubicBezTo>
                <a:cubicBezTo>
                  <a:pt x="1933" y="15985"/>
                  <a:pt x="1864" y="16018"/>
                  <a:pt x="1811" y="16049"/>
                </a:cubicBezTo>
                <a:cubicBezTo>
                  <a:pt x="1764" y="16076"/>
                  <a:pt x="1726" y="16092"/>
                  <a:pt x="1687" y="16123"/>
                </a:cubicBezTo>
                <a:cubicBezTo>
                  <a:pt x="1702" y="16132"/>
                  <a:pt x="1732" y="16134"/>
                  <a:pt x="1761" y="16148"/>
                </a:cubicBezTo>
                <a:cubicBezTo>
                  <a:pt x="1807" y="16171"/>
                  <a:pt x="1894" y="16178"/>
                  <a:pt x="1935" y="16222"/>
                </a:cubicBezTo>
                <a:cubicBezTo>
                  <a:pt x="1978" y="16268"/>
                  <a:pt x="2044" y="16356"/>
                  <a:pt x="2059" y="16421"/>
                </a:cubicBezTo>
                <a:cubicBezTo>
                  <a:pt x="2093" y="16562"/>
                  <a:pt x="2087" y="16638"/>
                  <a:pt x="2034" y="16768"/>
                </a:cubicBezTo>
                <a:cubicBezTo>
                  <a:pt x="2014" y="16817"/>
                  <a:pt x="1893" y="16904"/>
                  <a:pt x="1836" y="16917"/>
                </a:cubicBezTo>
                <a:cubicBezTo>
                  <a:pt x="1760" y="16934"/>
                  <a:pt x="1692" y="16917"/>
                  <a:pt x="1637" y="16867"/>
                </a:cubicBezTo>
                <a:cubicBezTo>
                  <a:pt x="1566" y="16803"/>
                  <a:pt x="1591" y="16750"/>
                  <a:pt x="1612" y="166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6880" y="5554800"/>
            <a:ext cx="428400" cy="571320"/>
          </a:xfrm>
          <a:custGeom>
            <a:avLst/>
            <a:gdLst/>
            <a:ahLst/>
            <a:rect l="l" t="t" r="r" b="b"/>
            <a:pathLst>
              <a:path w="1192" h="1588">
                <a:moveTo>
                  <a:pt x="2530" y="16247"/>
                </a:moveTo>
                <a:cubicBezTo>
                  <a:pt x="2506" y="16356"/>
                  <a:pt x="2480" y="16465"/>
                  <a:pt x="2456" y="16570"/>
                </a:cubicBezTo>
                <a:cubicBezTo>
                  <a:pt x="2443" y="16626"/>
                  <a:pt x="2421" y="16688"/>
                  <a:pt x="2406" y="16743"/>
                </a:cubicBezTo>
                <a:cubicBezTo>
                  <a:pt x="2406" y="16640"/>
                  <a:pt x="2404" y="16546"/>
                  <a:pt x="2431" y="16446"/>
                </a:cubicBezTo>
                <a:cubicBezTo>
                  <a:pt x="2471" y="16297"/>
                  <a:pt x="2516" y="16149"/>
                  <a:pt x="2555" y="15999"/>
                </a:cubicBezTo>
                <a:cubicBezTo>
                  <a:pt x="2587" y="15878"/>
                  <a:pt x="2629" y="15767"/>
                  <a:pt x="2679" y="15652"/>
                </a:cubicBezTo>
                <a:cubicBezTo>
                  <a:pt x="2707" y="15588"/>
                  <a:pt x="2718" y="15512"/>
                  <a:pt x="2753" y="15453"/>
                </a:cubicBezTo>
                <a:cubicBezTo>
                  <a:pt x="2777" y="15412"/>
                  <a:pt x="2757" y="15449"/>
                  <a:pt x="2803" y="15429"/>
                </a:cubicBezTo>
                <a:cubicBezTo>
                  <a:pt x="2825" y="15472"/>
                  <a:pt x="2857" y="15526"/>
                  <a:pt x="2877" y="15577"/>
                </a:cubicBezTo>
                <a:cubicBezTo>
                  <a:pt x="2938" y="15733"/>
                  <a:pt x="2964" y="15874"/>
                  <a:pt x="3051" y="16024"/>
                </a:cubicBezTo>
                <a:cubicBezTo>
                  <a:pt x="3153" y="16199"/>
                  <a:pt x="3241" y="16367"/>
                  <a:pt x="3324" y="16545"/>
                </a:cubicBezTo>
                <a:cubicBezTo>
                  <a:pt x="3372" y="16647"/>
                  <a:pt x="3449" y="16746"/>
                  <a:pt x="3497" y="16842"/>
                </a:cubicBezTo>
                <a:cubicBezTo>
                  <a:pt x="3523" y="16894"/>
                  <a:pt x="3531" y="16963"/>
                  <a:pt x="3547" y="17016"/>
                </a:cubicBezTo>
                <a:cubicBezTo>
                  <a:pt x="3554" y="16948"/>
                  <a:pt x="3574" y="16887"/>
                  <a:pt x="3597" y="168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634000"/>
            <a:ext cx="88920" cy="465120"/>
          </a:xfrm>
          <a:custGeom>
            <a:avLst/>
            <a:gdLst/>
            <a:ahLst/>
            <a:rect l="l" t="t" r="r" b="b"/>
            <a:pathLst>
              <a:path w="249" h="1291">
                <a:moveTo>
                  <a:pt x="3820" y="15652"/>
                </a:moveTo>
                <a:cubicBezTo>
                  <a:pt x="3775" y="15696"/>
                  <a:pt x="3744" y="15740"/>
                  <a:pt x="3721" y="15801"/>
                </a:cubicBezTo>
                <a:cubicBezTo>
                  <a:pt x="3678" y="15918"/>
                  <a:pt x="3611" y="16070"/>
                  <a:pt x="3597" y="16197"/>
                </a:cubicBezTo>
                <a:cubicBezTo>
                  <a:pt x="3583" y="16327"/>
                  <a:pt x="3593" y="16468"/>
                  <a:pt x="3621" y="16594"/>
                </a:cubicBezTo>
                <a:cubicBezTo>
                  <a:pt x="3643" y="16696"/>
                  <a:pt x="3666" y="16841"/>
                  <a:pt x="3746" y="16917"/>
                </a:cubicBezTo>
                <a:cubicBezTo>
                  <a:pt x="3794" y="16941"/>
                  <a:pt x="3808" y="16950"/>
                  <a:pt x="3845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0760" y="5670720"/>
            <a:ext cx="24120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4142" y="15925"/>
                </a:moveTo>
                <a:cubicBezTo>
                  <a:pt x="4188" y="15850"/>
                  <a:pt x="4227" y="15724"/>
                  <a:pt x="4341" y="15751"/>
                </a:cubicBezTo>
                <a:cubicBezTo>
                  <a:pt x="4418" y="15769"/>
                  <a:pt x="4484" y="15830"/>
                  <a:pt x="4514" y="15900"/>
                </a:cubicBezTo>
                <a:cubicBezTo>
                  <a:pt x="4555" y="15996"/>
                  <a:pt x="4595" y="16145"/>
                  <a:pt x="4589" y="16247"/>
                </a:cubicBezTo>
                <a:cubicBezTo>
                  <a:pt x="4583" y="16360"/>
                  <a:pt x="4565" y="16515"/>
                  <a:pt x="4514" y="16619"/>
                </a:cubicBezTo>
                <a:cubicBezTo>
                  <a:pt x="4491" y="16666"/>
                  <a:pt x="4422" y="16799"/>
                  <a:pt x="4366" y="16818"/>
                </a:cubicBezTo>
                <a:cubicBezTo>
                  <a:pt x="4274" y="16849"/>
                  <a:pt x="4264" y="16775"/>
                  <a:pt x="4242" y="16718"/>
                </a:cubicBezTo>
                <a:cubicBezTo>
                  <a:pt x="4222" y="16668"/>
                  <a:pt x="4202" y="16603"/>
                  <a:pt x="4217" y="16545"/>
                </a:cubicBezTo>
                <a:cubicBezTo>
                  <a:pt x="4227" y="16506"/>
                  <a:pt x="4234" y="16479"/>
                  <a:pt x="4266" y="16470"/>
                </a:cubicBezTo>
                <a:cubicBezTo>
                  <a:pt x="4339" y="16449"/>
                  <a:pt x="4350" y="16513"/>
                  <a:pt x="4390" y="16545"/>
                </a:cubicBezTo>
                <a:cubicBezTo>
                  <a:pt x="4461" y="16602"/>
                  <a:pt x="4499" y="16673"/>
                  <a:pt x="4564" y="16743"/>
                </a:cubicBezTo>
                <a:cubicBezTo>
                  <a:pt x="4672" y="16860"/>
                  <a:pt x="4682" y="16916"/>
                  <a:pt x="4812" y="168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1040" y="5840280"/>
            <a:ext cx="150840" cy="17640"/>
          </a:xfrm>
          <a:custGeom>
            <a:avLst/>
            <a:gdLst/>
            <a:ahLst/>
            <a:rect l="l" t="t" r="r" b="b"/>
            <a:pathLst>
              <a:path w="422" h="51">
                <a:moveTo>
                  <a:pt x="4862" y="16222"/>
                </a:moveTo>
                <a:cubicBezTo>
                  <a:pt x="4971" y="16228"/>
                  <a:pt x="5054" y="16268"/>
                  <a:pt x="5159" y="16272"/>
                </a:cubicBezTo>
                <a:cubicBezTo>
                  <a:pt x="5225" y="16272"/>
                  <a:pt x="5242" y="16272"/>
                  <a:pt x="5283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90800" y="5742000"/>
            <a:ext cx="28440" cy="36684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5531" y="15949"/>
                </a:moveTo>
                <a:cubicBezTo>
                  <a:pt x="5531" y="16095"/>
                  <a:pt x="5552" y="16227"/>
                  <a:pt x="5556" y="16371"/>
                </a:cubicBezTo>
                <a:cubicBezTo>
                  <a:pt x="5560" y="16506"/>
                  <a:pt x="5576" y="16635"/>
                  <a:pt x="5581" y="16768"/>
                </a:cubicBezTo>
                <a:cubicBezTo>
                  <a:pt x="5581" y="16779"/>
                  <a:pt x="5564" y="16979"/>
                  <a:pt x="5606" y="16966"/>
                </a:cubicBezTo>
                <a:cubicBezTo>
                  <a:pt x="5606" y="16958"/>
                  <a:pt x="5606" y="16950"/>
                  <a:pt x="5606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3080" y="5653080"/>
            <a:ext cx="142920" cy="642960"/>
          </a:xfrm>
          <a:custGeom>
            <a:avLst/>
            <a:gdLst/>
            <a:ahLst/>
            <a:rect l="l" t="t" r="r" b="b"/>
            <a:pathLst>
              <a:path w="398" h="1787">
                <a:moveTo>
                  <a:pt x="5953" y="15751"/>
                </a:moveTo>
                <a:cubicBezTo>
                  <a:pt x="6003" y="15734"/>
                  <a:pt x="6052" y="15718"/>
                  <a:pt x="6102" y="15701"/>
                </a:cubicBezTo>
                <a:cubicBezTo>
                  <a:pt x="6151" y="15818"/>
                  <a:pt x="6207" y="15929"/>
                  <a:pt x="6251" y="16049"/>
                </a:cubicBezTo>
                <a:cubicBezTo>
                  <a:pt x="6320" y="16237"/>
                  <a:pt x="6346" y="16420"/>
                  <a:pt x="6350" y="16619"/>
                </a:cubicBezTo>
                <a:cubicBezTo>
                  <a:pt x="6353" y="16792"/>
                  <a:pt x="6334" y="17000"/>
                  <a:pt x="6276" y="17165"/>
                </a:cubicBezTo>
                <a:cubicBezTo>
                  <a:pt x="6229" y="17298"/>
                  <a:pt x="6169" y="17401"/>
                  <a:pt x="6052" y="17462"/>
                </a:cubicBezTo>
                <a:cubicBezTo>
                  <a:pt x="6004" y="17486"/>
                  <a:pt x="5990" y="17495"/>
                  <a:pt x="5953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00" y="5072040"/>
            <a:ext cx="1177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719" y="14536"/>
                </a:moveTo>
                <a:cubicBezTo>
                  <a:pt x="719" y="14469"/>
                  <a:pt x="705" y="14424"/>
                  <a:pt x="695" y="14362"/>
                </a:cubicBezTo>
                <a:cubicBezTo>
                  <a:pt x="683" y="14288"/>
                  <a:pt x="723" y="14180"/>
                  <a:pt x="670" y="14114"/>
                </a:cubicBezTo>
                <a:cubicBezTo>
                  <a:pt x="642" y="14114"/>
                  <a:pt x="631" y="14112"/>
                  <a:pt x="620" y="14089"/>
                </a:cubicBezTo>
                <a:cubicBezTo>
                  <a:pt x="584" y="14098"/>
                  <a:pt x="544" y="14127"/>
                  <a:pt x="521" y="14163"/>
                </a:cubicBezTo>
                <a:cubicBezTo>
                  <a:pt x="496" y="14202"/>
                  <a:pt x="456" y="14293"/>
                  <a:pt x="446" y="14337"/>
                </a:cubicBezTo>
                <a:cubicBezTo>
                  <a:pt x="432" y="14399"/>
                  <a:pt x="446" y="14473"/>
                  <a:pt x="446" y="14536"/>
                </a:cubicBezTo>
                <a:cubicBezTo>
                  <a:pt x="488" y="14546"/>
                  <a:pt x="519" y="14572"/>
                  <a:pt x="546" y="14511"/>
                </a:cubicBezTo>
                <a:cubicBezTo>
                  <a:pt x="559" y="14482"/>
                  <a:pt x="568" y="14418"/>
                  <a:pt x="571" y="14387"/>
                </a:cubicBezTo>
                <a:cubicBezTo>
                  <a:pt x="571" y="14362"/>
                  <a:pt x="571" y="14354"/>
                  <a:pt x="571" y="14387"/>
                </a:cubicBezTo>
                <a:cubicBezTo>
                  <a:pt x="589" y="14429"/>
                  <a:pt x="609" y="14505"/>
                  <a:pt x="645" y="14536"/>
                </a:cubicBezTo>
                <a:cubicBezTo>
                  <a:pt x="683" y="14568"/>
                  <a:pt x="724" y="14560"/>
                  <a:pt x="769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200" y="4875120"/>
            <a:ext cx="115920" cy="438120"/>
          </a:xfrm>
          <a:custGeom>
            <a:avLst/>
            <a:gdLst/>
            <a:ahLst/>
            <a:rect l="l" t="t" r="r" b="b"/>
            <a:pathLst>
              <a:path w="323" h="1217">
                <a:moveTo>
                  <a:pt x="670" y="13543"/>
                </a:moveTo>
                <a:cubicBezTo>
                  <a:pt x="686" y="13622"/>
                  <a:pt x="729" y="13652"/>
                  <a:pt x="769" y="13717"/>
                </a:cubicBezTo>
                <a:cubicBezTo>
                  <a:pt x="837" y="13828"/>
                  <a:pt x="899" y="13991"/>
                  <a:pt x="943" y="14114"/>
                </a:cubicBezTo>
                <a:cubicBezTo>
                  <a:pt x="997" y="14265"/>
                  <a:pt x="1011" y="14452"/>
                  <a:pt x="992" y="14610"/>
                </a:cubicBezTo>
                <a:cubicBezTo>
                  <a:pt x="967" y="14684"/>
                  <a:pt x="959" y="14709"/>
                  <a:pt x="943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5572080"/>
            <a:ext cx="169920" cy="393840"/>
          </a:xfrm>
          <a:custGeom>
            <a:avLst/>
            <a:gdLst/>
            <a:ahLst/>
            <a:rect l="l" t="t" r="r" b="b"/>
            <a:pathLst>
              <a:path w="472" h="1093">
                <a:moveTo>
                  <a:pt x="595" y="15478"/>
                </a:moveTo>
                <a:cubicBezTo>
                  <a:pt x="595" y="15573"/>
                  <a:pt x="580" y="15660"/>
                  <a:pt x="571" y="15751"/>
                </a:cubicBezTo>
                <a:cubicBezTo>
                  <a:pt x="548" y="15973"/>
                  <a:pt x="704" y="16554"/>
                  <a:pt x="546" y="16396"/>
                </a:cubicBezTo>
                <a:cubicBezTo>
                  <a:pt x="546" y="16388"/>
                  <a:pt x="546" y="16379"/>
                  <a:pt x="546" y="16371"/>
                </a:cubicBezTo>
                <a:cubicBezTo>
                  <a:pt x="546" y="16333"/>
                  <a:pt x="556" y="16278"/>
                  <a:pt x="571" y="16247"/>
                </a:cubicBezTo>
                <a:cubicBezTo>
                  <a:pt x="600" y="16188"/>
                  <a:pt x="649" y="16167"/>
                  <a:pt x="695" y="16148"/>
                </a:cubicBezTo>
                <a:cubicBezTo>
                  <a:pt x="767" y="16118"/>
                  <a:pt x="848" y="16102"/>
                  <a:pt x="918" y="16148"/>
                </a:cubicBezTo>
                <a:cubicBezTo>
                  <a:pt x="957" y="16174"/>
                  <a:pt x="1007" y="16276"/>
                  <a:pt x="1017" y="16321"/>
                </a:cubicBezTo>
                <a:cubicBezTo>
                  <a:pt x="1028" y="16369"/>
                  <a:pt x="979" y="16464"/>
                  <a:pt x="943" y="16495"/>
                </a:cubicBezTo>
                <a:cubicBezTo>
                  <a:pt x="893" y="16538"/>
                  <a:pt x="833" y="16566"/>
                  <a:pt x="769" y="16570"/>
                </a:cubicBezTo>
                <a:cubicBezTo>
                  <a:pt x="706" y="16574"/>
                  <a:pt x="657" y="16578"/>
                  <a:pt x="620" y="16520"/>
                </a:cubicBezTo>
                <a:cubicBezTo>
                  <a:pt x="584" y="16464"/>
                  <a:pt x="595" y="16411"/>
                  <a:pt x="595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8840" y="5446800"/>
            <a:ext cx="142920" cy="617400"/>
          </a:xfrm>
          <a:custGeom>
            <a:avLst/>
            <a:gdLst/>
            <a:ahLst/>
            <a:rect l="l" t="t" r="r" b="b"/>
            <a:pathLst>
              <a:path w="398" h="1712">
                <a:moveTo>
                  <a:pt x="719" y="15156"/>
                </a:moveTo>
                <a:cubicBezTo>
                  <a:pt x="889" y="15140"/>
                  <a:pt x="924" y="15297"/>
                  <a:pt x="992" y="15453"/>
                </a:cubicBezTo>
                <a:cubicBezTo>
                  <a:pt x="1064" y="15619"/>
                  <a:pt x="1103" y="15818"/>
                  <a:pt x="1116" y="15999"/>
                </a:cubicBezTo>
                <a:cubicBezTo>
                  <a:pt x="1129" y="16178"/>
                  <a:pt x="1095" y="16398"/>
                  <a:pt x="1042" y="16570"/>
                </a:cubicBezTo>
                <a:cubicBezTo>
                  <a:pt x="1006" y="16687"/>
                  <a:pt x="939" y="16748"/>
                  <a:pt x="868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920" y="587520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48" y="16321"/>
                </a:moveTo>
                <a:cubicBezTo>
                  <a:pt x="256" y="16329"/>
                  <a:pt x="265" y="16338"/>
                  <a:pt x="273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" y="5197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2" y="14436"/>
                </a:moveTo>
                <a:lnTo>
                  <a:pt x="372" y="1443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5232240"/>
            <a:ext cx="792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322" y="14536"/>
                </a:moveTo>
                <a:cubicBezTo>
                  <a:pt x="314" y="14536"/>
                  <a:pt x="306" y="14536"/>
                  <a:pt x="298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920" y="523224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322" y="14536"/>
                </a:moveTo>
                <a:cubicBezTo>
                  <a:pt x="322" y="14544"/>
                  <a:pt x="322" y="14552"/>
                  <a:pt x="322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241960"/>
            <a:ext cx="79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322" y="14560"/>
                </a:moveTo>
                <a:cubicBezTo>
                  <a:pt x="314" y="14568"/>
                  <a:pt x="306" y="14577"/>
                  <a:pt x="298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5249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98" y="14585"/>
                </a:moveTo>
                <a:lnTo>
                  <a:pt x="298" y="1458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240" y="5348160"/>
            <a:ext cx="1908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1761" y="14858"/>
                </a:moveTo>
                <a:cubicBezTo>
                  <a:pt x="1786" y="14858"/>
                  <a:pt x="1794" y="14858"/>
                  <a:pt x="1811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3240" y="5348160"/>
            <a:ext cx="1908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1761" y="14858"/>
                </a:moveTo>
                <a:cubicBezTo>
                  <a:pt x="1778" y="14858"/>
                  <a:pt x="1794" y="14858"/>
                  <a:pt x="1811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53481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811" y="14858"/>
                </a:moveTo>
                <a:cubicBezTo>
                  <a:pt x="1811" y="14883"/>
                  <a:pt x="1811" y="14891"/>
                  <a:pt x="181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3240" y="5348160"/>
            <a:ext cx="19080" cy="19080"/>
          </a:xfrm>
          <a:custGeom>
            <a:avLst/>
            <a:gdLst/>
            <a:ahLst/>
            <a:rect l="l" t="t" r="r" b="b"/>
            <a:pathLst>
              <a:path w="51" h="51">
                <a:moveTo>
                  <a:pt x="1811" y="14858"/>
                </a:moveTo>
                <a:cubicBezTo>
                  <a:pt x="1794" y="14875"/>
                  <a:pt x="1778" y="14891"/>
                  <a:pt x="176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000" y="4786200"/>
            <a:ext cx="446040" cy="625680"/>
          </a:xfrm>
          <a:custGeom>
            <a:avLst/>
            <a:gdLst/>
            <a:ahLst/>
            <a:rect l="l" t="t" r="r" b="b"/>
            <a:pathLst>
              <a:path w="1241" h="1738">
                <a:moveTo>
                  <a:pt x="149" y="13295"/>
                </a:moveTo>
                <a:cubicBezTo>
                  <a:pt x="161" y="13392"/>
                  <a:pt x="214" y="13439"/>
                  <a:pt x="273" y="13519"/>
                </a:cubicBezTo>
                <a:cubicBezTo>
                  <a:pt x="380" y="13664"/>
                  <a:pt x="481" y="13829"/>
                  <a:pt x="595" y="13965"/>
                </a:cubicBezTo>
                <a:cubicBezTo>
                  <a:pt x="790" y="14196"/>
                  <a:pt x="967" y="14438"/>
                  <a:pt x="1141" y="14684"/>
                </a:cubicBezTo>
                <a:cubicBezTo>
                  <a:pt x="1224" y="14801"/>
                  <a:pt x="1306" y="15149"/>
                  <a:pt x="1389" y="15032"/>
                </a:cubicBezTo>
                <a:cubicBezTo>
                  <a:pt x="1389" y="14999"/>
                  <a:pt x="1389" y="14982"/>
                  <a:pt x="1389" y="149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5920" y="4813200"/>
            <a:ext cx="304920" cy="527040"/>
          </a:xfrm>
          <a:custGeom>
            <a:avLst/>
            <a:gdLst/>
            <a:ahLst/>
            <a:rect l="l" t="t" r="r" b="b"/>
            <a:pathLst>
              <a:path w="845" h="1464">
                <a:moveTo>
                  <a:pt x="1166" y="13370"/>
                </a:moveTo>
                <a:cubicBezTo>
                  <a:pt x="1134" y="13423"/>
                  <a:pt x="1110" y="13502"/>
                  <a:pt x="1091" y="13568"/>
                </a:cubicBezTo>
                <a:cubicBezTo>
                  <a:pt x="1049" y="13713"/>
                  <a:pt x="969" y="13811"/>
                  <a:pt x="893" y="13940"/>
                </a:cubicBezTo>
                <a:cubicBezTo>
                  <a:pt x="814" y="14075"/>
                  <a:pt x="723" y="14170"/>
                  <a:pt x="645" y="14312"/>
                </a:cubicBezTo>
                <a:cubicBezTo>
                  <a:pt x="574" y="14441"/>
                  <a:pt x="497" y="14565"/>
                  <a:pt x="422" y="14684"/>
                </a:cubicBezTo>
                <a:cubicBezTo>
                  <a:pt x="399" y="14721"/>
                  <a:pt x="370" y="14778"/>
                  <a:pt x="347" y="14808"/>
                </a:cubicBezTo>
                <a:cubicBezTo>
                  <a:pt x="335" y="14824"/>
                  <a:pt x="301" y="14854"/>
                  <a:pt x="347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Write the first four terms.  Find their common ratio.  Write an expression for 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5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+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-2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08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633760"/>
            <a:ext cx="2813040" cy="1573200"/>
          </a:xfrm>
          <a:custGeom>
            <a:avLst/>
            <a:gdLst/>
            <a:ahLst/>
            <a:rect l="l" t="t" r="r" b="b"/>
            <a:pathLst>
              <a:path w="7814" h="4367">
                <a:moveTo>
                  <a:pt x="1637" y="7317"/>
                </a:moveTo>
                <a:cubicBezTo>
                  <a:pt x="1606" y="7330"/>
                  <a:pt x="1568" y="7329"/>
                  <a:pt x="1538" y="7342"/>
                </a:cubicBezTo>
                <a:cubicBezTo>
                  <a:pt x="1495" y="7361"/>
                  <a:pt x="1454" y="7395"/>
                  <a:pt x="1414" y="7417"/>
                </a:cubicBezTo>
                <a:cubicBezTo>
                  <a:pt x="1357" y="7448"/>
                  <a:pt x="1288" y="7499"/>
                  <a:pt x="1240" y="7541"/>
                </a:cubicBezTo>
                <a:cubicBezTo>
                  <a:pt x="1181" y="7592"/>
                  <a:pt x="1124" y="7637"/>
                  <a:pt x="1067" y="7689"/>
                </a:cubicBezTo>
                <a:cubicBezTo>
                  <a:pt x="1005" y="7744"/>
                  <a:pt x="948" y="7818"/>
                  <a:pt x="893" y="7888"/>
                </a:cubicBezTo>
                <a:cubicBezTo>
                  <a:pt x="837" y="7960"/>
                  <a:pt x="794" y="8033"/>
                  <a:pt x="744" y="8111"/>
                </a:cubicBezTo>
                <a:cubicBezTo>
                  <a:pt x="691" y="8193"/>
                  <a:pt x="631" y="8293"/>
                  <a:pt x="595" y="8384"/>
                </a:cubicBezTo>
                <a:cubicBezTo>
                  <a:pt x="533" y="8542"/>
                  <a:pt x="501" y="8716"/>
                  <a:pt x="471" y="8880"/>
                </a:cubicBezTo>
                <a:cubicBezTo>
                  <a:pt x="448" y="9005"/>
                  <a:pt x="425" y="9124"/>
                  <a:pt x="422" y="9252"/>
                </a:cubicBezTo>
                <a:cubicBezTo>
                  <a:pt x="419" y="9372"/>
                  <a:pt x="460" y="9483"/>
                  <a:pt x="471" y="9599"/>
                </a:cubicBezTo>
                <a:cubicBezTo>
                  <a:pt x="484" y="9741"/>
                  <a:pt x="520" y="9837"/>
                  <a:pt x="571" y="9971"/>
                </a:cubicBezTo>
                <a:cubicBezTo>
                  <a:pt x="613" y="10081"/>
                  <a:pt x="678" y="10170"/>
                  <a:pt x="744" y="10269"/>
                </a:cubicBezTo>
                <a:cubicBezTo>
                  <a:pt x="817" y="10379"/>
                  <a:pt x="867" y="10477"/>
                  <a:pt x="967" y="10567"/>
                </a:cubicBezTo>
                <a:cubicBezTo>
                  <a:pt x="1043" y="10636"/>
                  <a:pt x="1110" y="10701"/>
                  <a:pt x="1191" y="10765"/>
                </a:cubicBezTo>
                <a:cubicBezTo>
                  <a:pt x="1252" y="10814"/>
                  <a:pt x="1320" y="10865"/>
                  <a:pt x="1389" y="10889"/>
                </a:cubicBezTo>
                <a:cubicBezTo>
                  <a:pt x="1463" y="10914"/>
                  <a:pt x="1403" y="10896"/>
                  <a:pt x="1463" y="10889"/>
                </a:cubicBezTo>
              </a:path>
              <a:path w="7814" h="4367">
                <a:moveTo>
                  <a:pt x="1339" y="10492"/>
                </a:moveTo>
                <a:cubicBezTo>
                  <a:pt x="1373" y="10526"/>
                  <a:pt x="1407" y="10545"/>
                  <a:pt x="1439" y="10567"/>
                </a:cubicBezTo>
                <a:cubicBezTo>
                  <a:pt x="1480" y="10595"/>
                  <a:pt x="1526" y="10633"/>
                  <a:pt x="1563" y="10666"/>
                </a:cubicBezTo>
                <a:cubicBezTo>
                  <a:pt x="1604" y="10703"/>
                  <a:pt x="1647" y="10729"/>
                  <a:pt x="1687" y="10765"/>
                </a:cubicBezTo>
                <a:cubicBezTo>
                  <a:pt x="1711" y="10787"/>
                  <a:pt x="1757" y="10825"/>
                  <a:pt x="1736" y="10864"/>
                </a:cubicBezTo>
                <a:cubicBezTo>
                  <a:pt x="1703" y="10925"/>
                  <a:pt x="1613" y="10946"/>
                  <a:pt x="1563" y="10988"/>
                </a:cubicBezTo>
                <a:cubicBezTo>
                  <a:pt x="1487" y="11052"/>
                  <a:pt x="1422" y="11107"/>
                  <a:pt x="1339" y="11162"/>
                </a:cubicBezTo>
              </a:path>
              <a:path w="7814" h="4367">
                <a:moveTo>
                  <a:pt x="1984" y="10145"/>
                </a:moveTo>
                <a:cubicBezTo>
                  <a:pt x="2174" y="10145"/>
                  <a:pt x="2695" y="10145"/>
                  <a:pt x="2505" y="10145"/>
                </a:cubicBezTo>
                <a:cubicBezTo>
                  <a:pt x="2497" y="10145"/>
                  <a:pt x="2488" y="10145"/>
                  <a:pt x="2480" y="10145"/>
                </a:cubicBezTo>
              </a:path>
              <a:path w="7814" h="4367">
                <a:moveTo>
                  <a:pt x="1984" y="10170"/>
                </a:moveTo>
                <a:cubicBezTo>
                  <a:pt x="1979" y="10216"/>
                  <a:pt x="1967" y="10250"/>
                  <a:pt x="1960" y="10294"/>
                </a:cubicBezTo>
                <a:cubicBezTo>
                  <a:pt x="1954" y="10333"/>
                  <a:pt x="1940" y="10382"/>
                  <a:pt x="1935" y="10418"/>
                </a:cubicBezTo>
                <a:cubicBezTo>
                  <a:pt x="1923" y="10506"/>
                  <a:pt x="1935" y="10602"/>
                  <a:pt x="1935" y="10691"/>
                </a:cubicBezTo>
                <a:cubicBezTo>
                  <a:pt x="1942" y="10684"/>
                  <a:pt x="1978" y="10645"/>
                  <a:pt x="1984" y="10641"/>
                </a:cubicBezTo>
                <a:cubicBezTo>
                  <a:pt x="2001" y="10630"/>
                  <a:pt x="2063" y="10597"/>
                  <a:pt x="2084" y="10592"/>
                </a:cubicBezTo>
                <a:cubicBezTo>
                  <a:pt x="2147" y="10576"/>
                  <a:pt x="2233" y="10592"/>
                  <a:pt x="2282" y="10616"/>
                </a:cubicBezTo>
                <a:cubicBezTo>
                  <a:pt x="2323" y="10636"/>
                  <a:pt x="2367" y="10656"/>
                  <a:pt x="2406" y="10691"/>
                </a:cubicBezTo>
                <a:cubicBezTo>
                  <a:pt x="2456" y="10736"/>
                  <a:pt x="2444" y="10762"/>
                  <a:pt x="2480" y="10815"/>
                </a:cubicBezTo>
                <a:cubicBezTo>
                  <a:pt x="2510" y="10859"/>
                  <a:pt x="2527" y="10909"/>
                  <a:pt x="2530" y="10964"/>
                </a:cubicBezTo>
                <a:cubicBezTo>
                  <a:pt x="2534" y="11033"/>
                  <a:pt x="2531" y="11075"/>
                  <a:pt x="2505" y="11137"/>
                </a:cubicBezTo>
                <a:cubicBezTo>
                  <a:pt x="2488" y="11177"/>
                  <a:pt x="2466" y="11202"/>
                  <a:pt x="2431" y="11237"/>
                </a:cubicBezTo>
                <a:cubicBezTo>
                  <a:pt x="2397" y="11270"/>
                  <a:pt x="2329" y="11284"/>
                  <a:pt x="2282" y="11286"/>
                </a:cubicBezTo>
                <a:cubicBezTo>
                  <a:pt x="2232" y="11288"/>
                  <a:pt x="2176" y="11282"/>
                  <a:pt x="2133" y="11261"/>
                </a:cubicBezTo>
                <a:cubicBezTo>
                  <a:pt x="2104" y="11247"/>
                  <a:pt x="2029" y="11232"/>
                  <a:pt x="2009" y="11212"/>
                </a:cubicBezTo>
                <a:cubicBezTo>
                  <a:pt x="2017" y="11212"/>
                  <a:pt x="2026" y="11212"/>
                  <a:pt x="2034" y="11212"/>
                </a:cubicBezTo>
              </a:path>
              <a:path w="7814" h="4367">
                <a:moveTo>
                  <a:pt x="2729" y="11237"/>
                </a:moveTo>
                <a:cubicBezTo>
                  <a:pt x="2729" y="11343"/>
                  <a:pt x="2725" y="11432"/>
                  <a:pt x="2704" y="11534"/>
                </a:cubicBezTo>
                <a:cubicBezTo>
                  <a:pt x="2699" y="11557"/>
                  <a:pt x="2690" y="11613"/>
                  <a:pt x="2679" y="11633"/>
                </a:cubicBezTo>
                <a:cubicBezTo>
                  <a:pt x="2665" y="11658"/>
                  <a:pt x="2654" y="11703"/>
                  <a:pt x="2654" y="11658"/>
                </a:cubicBezTo>
              </a:path>
              <a:path w="7814" h="4367">
                <a:moveTo>
                  <a:pt x="2927" y="10716"/>
                </a:moveTo>
                <a:cubicBezTo>
                  <a:pt x="2994" y="10716"/>
                  <a:pt x="3233" y="10742"/>
                  <a:pt x="3249" y="10691"/>
                </a:cubicBezTo>
              </a:path>
              <a:path w="7814" h="4367">
                <a:moveTo>
                  <a:pt x="3497" y="10269"/>
                </a:moveTo>
                <a:cubicBezTo>
                  <a:pt x="3497" y="10390"/>
                  <a:pt x="3503" y="10502"/>
                  <a:pt x="3522" y="10616"/>
                </a:cubicBezTo>
                <a:cubicBezTo>
                  <a:pt x="3560" y="10844"/>
                  <a:pt x="3522" y="11493"/>
                  <a:pt x="3522" y="11261"/>
                </a:cubicBezTo>
                <a:cubicBezTo>
                  <a:pt x="3522" y="11237"/>
                  <a:pt x="3522" y="11228"/>
                  <a:pt x="3522" y="11212"/>
                </a:cubicBezTo>
              </a:path>
              <a:path w="7814" h="4367">
                <a:moveTo>
                  <a:pt x="3870" y="10517"/>
                </a:moveTo>
                <a:cubicBezTo>
                  <a:pt x="3840" y="10557"/>
                  <a:pt x="3865" y="10580"/>
                  <a:pt x="3845" y="10616"/>
                </a:cubicBezTo>
                <a:cubicBezTo>
                  <a:pt x="3824" y="10653"/>
                  <a:pt x="3803" y="10719"/>
                  <a:pt x="3795" y="10765"/>
                </a:cubicBezTo>
                <a:cubicBezTo>
                  <a:pt x="3779" y="10858"/>
                  <a:pt x="3789" y="10986"/>
                  <a:pt x="3820" y="11063"/>
                </a:cubicBezTo>
                <a:cubicBezTo>
                  <a:pt x="3843" y="11121"/>
                  <a:pt x="3863" y="11176"/>
                  <a:pt x="3919" y="11212"/>
                </a:cubicBezTo>
                <a:cubicBezTo>
                  <a:pt x="3949" y="11232"/>
                  <a:pt x="4033" y="11272"/>
                  <a:pt x="4068" y="11261"/>
                </a:cubicBezTo>
                <a:cubicBezTo>
                  <a:pt x="4099" y="11251"/>
                  <a:pt x="4165" y="11209"/>
                  <a:pt x="4192" y="11187"/>
                </a:cubicBezTo>
                <a:cubicBezTo>
                  <a:pt x="4229" y="11157"/>
                  <a:pt x="4279" y="11059"/>
                  <a:pt x="4291" y="11013"/>
                </a:cubicBezTo>
                <a:cubicBezTo>
                  <a:pt x="4313" y="10931"/>
                  <a:pt x="4309" y="10737"/>
                  <a:pt x="4266" y="10666"/>
                </a:cubicBezTo>
                <a:cubicBezTo>
                  <a:pt x="4237" y="10618"/>
                  <a:pt x="4224" y="10569"/>
                  <a:pt x="4192" y="10517"/>
                </a:cubicBezTo>
                <a:cubicBezTo>
                  <a:pt x="4157" y="10459"/>
                  <a:pt x="4112" y="10402"/>
                  <a:pt x="4068" y="10368"/>
                </a:cubicBezTo>
                <a:cubicBezTo>
                  <a:pt x="4017" y="10329"/>
                  <a:pt x="3985" y="10335"/>
                  <a:pt x="3944" y="10344"/>
                </a:cubicBezTo>
                <a:cubicBezTo>
                  <a:pt x="3892" y="10356"/>
                  <a:pt x="3888" y="10350"/>
                  <a:pt x="3845" y="10393"/>
                </a:cubicBezTo>
                <a:cubicBezTo>
                  <a:pt x="3810" y="10428"/>
                  <a:pt x="3795" y="10449"/>
                  <a:pt x="3770" y="10492"/>
                </a:cubicBezTo>
              </a:path>
              <a:path w="7814" h="4367">
                <a:moveTo>
                  <a:pt x="4490" y="11187"/>
                </a:moveTo>
                <a:cubicBezTo>
                  <a:pt x="4490" y="11266"/>
                  <a:pt x="4478" y="11320"/>
                  <a:pt x="4465" y="11385"/>
                </a:cubicBezTo>
                <a:cubicBezTo>
                  <a:pt x="4454" y="11439"/>
                  <a:pt x="4444" y="11483"/>
                  <a:pt x="4440" y="11534"/>
                </a:cubicBezTo>
                <a:cubicBezTo>
                  <a:pt x="4437" y="11570"/>
                  <a:pt x="4415" y="11669"/>
                  <a:pt x="4415" y="11633"/>
                </a:cubicBezTo>
                <a:cubicBezTo>
                  <a:pt x="4415" y="11625"/>
                  <a:pt x="4415" y="11617"/>
                  <a:pt x="4415" y="11609"/>
                </a:cubicBezTo>
              </a:path>
              <a:path w="7814" h="4367">
                <a:moveTo>
                  <a:pt x="4713" y="10492"/>
                </a:moveTo>
                <a:cubicBezTo>
                  <a:pt x="4751" y="10429"/>
                  <a:pt x="4763" y="10393"/>
                  <a:pt x="4812" y="10344"/>
                </a:cubicBezTo>
                <a:cubicBezTo>
                  <a:pt x="4843" y="10314"/>
                  <a:pt x="4892" y="10298"/>
                  <a:pt x="4936" y="10294"/>
                </a:cubicBezTo>
                <a:cubicBezTo>
                  <a:pt x="4982" y="10289"/>
                  <a:pt x="5020" y="10292"/>
                  <a:pt x="5060" y="10319"/>
                </a:cubicBezTo>
                <a:cubicBezTo>
                  <a:pt x="5093" y="10341"/>
                  <a:pt x="5122" y="10353"/>
                  <a:pt x="5135" y="10393"/>
                </a:cubicBezTo>
                <a:cubicBezTo>
                  <a:pt x="5162" y="10473"/>
                  <a:pt x="5124" y="10575"/>
                  <a:pt x="5110" y="10641"/>
                </a:cubicBezTo>
                <a:cubicBezTo>
                  <a:pt x="5098" y="10699"/>
                  <a:pt x="5071" y="10768"/>
                  <a:pt x="5035" y="10815"/>
                </a:cubicBezTo>
                <a:cubicBezTo>
                  <a:pt x="5017" y="10837"/>
                  <a:pt x="4969" y="10911"/>
                  <a:pt x="4961" y="10939"/>
                </a:cubicBezTo>
                <a:cubicBezTo>
                  <a:pt x="4943" y="11000"/>
                  <a:pt x="4908" y="11025"/>
                  <a:pt x="4887" y="11088"/>
                </a:cubicBezTo>
                <a:cubicBezTo>
                  <a:pt x="4874" y="11129"/>
                  <a:pt x="4842" y="11179"/>
                  <a:pt x="4812" y="11212"/>
                </a:cubicBezTo>
                <a:cubicBezTo>
                  <a:pt x="4790" y="11234"/>
                  <a:pt x="4781" y="11239"/>
                  <a:pt x="4787" y="11261"/>
                </a:cubicBezTo>
                <a:cubicBezTo>
                  <a:pt x="4842" y="11261"/>
                  <a:pt x="4822" y="11242"/>
                  <a:pt x="4862" y="11237"/>
                </a:cubicBezTo>
                <a:cubicBezTo>
                  <a:pt x="4922" y="11230"/>
                  <a:pt x="4956" y="11248"/>
                  <a:pt x="5011" y="11261"/>
                </a:cubicBezTo>
                <a:cubicBezTo>
                  <a:pt x="5058" y="11272"/>
                  <a:pt x="5093" y="11272"/>
                  <a:pt x="5135" y="11286"/>
                </a:cubicBezTo>
                <a:cubicBezTo>
                  <a:pt x="5174" y="11299"/>
                  <a:pt x="5202" y="11269"/>
                  <a:pt x="5234" y="11261"/>
                </a:cubicBezTo>
              </a:path>
              <a:path w="7814" h="4367">
                <a:moveTo>
                  <a:pt x="5507" y="10393"/>
                </a:moveTo>
                <a:cubicBezTo>
                  <a:pt x="5507" y="10439"/>
                  <a:pt x="5487" y="10452"/>
                  <a:pt x="5482" y="10492"/>
                </a:cubicBezTo>
                <a:cubicBezTo>
                  <a:pt x="5477" y="10541"/>
                  <a:pt x="5440" y="10578"/>
                  <a:pt x="5432" y="10616"/>
                </a:cubicBezTo>
                <a:cubicBezTo>
                  <a:pt x="5419" y="10677"/>
                  <a:pt x="5397" y="10726"/>
                  <a:pt x="5383" y="10790"/>
                </a:cubicBezTo>
                <a:cubicBezTo>
                  <a:pt x="5358" y="10904"/>
                  <a:pt x="5388" y="11061"/>
                  <a:pt x="5407" y="11162"/>
                </a:cubicBezTo>
                <a:cubicBezTo>
                  <a:pt x="5416" y="11208"/>
                  <a:pt x="5427" y="11262"/>
                  <a:pt x="5482" y="11286"/>
                </a:cubicBezTo>
                <a:cubicBezTo>
                  <a:pt x="5523" y="11304"/>
                  <a:pt x="5555" y="11311"/>
                  <a:pt x="5606" y="11311"/>
                </a:cubicBezTo>
                <a:cubicBezTo>
                  <a:pt x="5676" y="11311"/>
                  <a:pt x="5726" y="11282"/>
                  <a:pt x="5779" y="11237"/>
                </a:cubicBezTo>
                <a:cubicBezTo>
                  <a:pt x="5821" y="11202"/>
                  <a:pt x="5853" y="11136"/>
                  <a:pt x="5879" y="11088"/>
                </a:cubicBezTo>
                <a:cubicBezTo>
                  <a:pt x="5921" y="11009"/>
                  <a:pt x="5912" y="10915"/>
                  <a:pt x="5904" y="10840"/>
                </a:cubicBezTo>
                <a:cubicBezTo>
                  <a:pt x="5898" y="10781"/>
                  <a:pt x="5898" y="10722"/>
                  <a:pt x="5879" y="10666"/>
                </a:cubicBezTo>
                <a:cubicBezTo>
                  <a:pt x="5860" y="10608"/>
                  <a:pt x="5815" y="10540"/>
                  <a:pt x="5779" y="10492"/>
                </a:cubicBezTo>
                <a:cubicBezTo>
                  <a:pt x="5745" y="10447"/>
                  <a:pt x="5695" y="10430"/>
                  <a:pt x="5655" y="10393"/>
                </a:cubicBezTo>
                <a:cubicBezTo>
                  <a:pt x="5617" y="10358"/>
                  <a:pt x="5581" y="10368"/>
                  <a:pt x="5531" y="10368"/>
                </a:cubicBezTo>
                <a:cubicBezTo>
                  <a:pt x="5471" y="10368"/>
                  <a:pt x="5480" y="10396"/>
                  <a:pt x="5432" y="10418"/>
                </a:cubicBezTo>
                <a:cubicBezTo>
                  <a:pt x="5399" y="10433"/>
                  <a:pt x="5411" y="10430"/>
                  <a:pt x="5383" y="10468"/>
                </a:cubicBezTo>
              </a:path>
              <a:path w="7814" h="4367">
                <a:moveTo>
                  <a:pt x="6077" y="11212"/>
                </a:moveTo>
                <a:cubicBezTo>
                  <a:pt x="6067" y="11251"/>
                  <a:pt x="6052" y="11266"/>
                  <a:pt x="6052" y="11311"/>
                </a:cubicBezTo>
                <a:cubicBezTo>
                  <a:pt x="6052" y="11377"/>
                  <a:pt x="6033" y="11398"/>
                  <a:pt x="6028" y="11460"/>
                </a:cubicBezTo>
                <a:cubicBezTo>
                  <a:pt x="6024" y="11505"/>
                  <a:pt x="6003" y="11536"/>
                  <a:pt x="6003" y="11584"/>
                </a:cubicBezTo>
                <a:cubicBezTo>
                  <a:pt x="6003" y="11616"/>
                  <a:pt x="5986" y="11628"/>
                  <a:pt x="5978" y="11658"/>
                </a:cubicBezTo>
                <a:cubicBezTo>
                  <a:pt x="5978" y="11633"/>
                  <a:pt x="5978" y="11625"/>
                  <a:pt x="5978" y="11609"/>
                </a:cubicBezTo>
              </a:path>
              <a:path w="7814" h="4367">
                <a:moveTo>
                  <a:pt x="6325" y="10691"/>
                </a:moveTo>
                <a:cubicBezTo>
                  <a:pt x="6417" y="10691"/>
                  <a:pt x="6572" y="10729"/>
                  <a:pt x="6648" y="10716"/>
                </a:cubicBezTo>
                <a:cubicBezTo>
                  <a:pt x="6670" y="10693"/>
                  <a:pt x="6675" y="10685"/>
                  <a:pt x="6697" y="10691"/>
                </a:cubicBezTo>
              </a:path>
              <a:path w="7814" h="4367">
                <a:moveTo>
                  <a:pt x="6995" y="10468"/>
                </a:moveTo>
                <a:cubicBezTo>
                  <a:pt x="7003" y="10468"/>
                  <a:pt x="7012" y="10468"/>
                  <a:pt x="7020" y="10468"/>
                </a:cubicBezTo>
                <a:cubicBezTo>
                  <a:pt x="7010" y="10507"/>
                  <a:pt x="6995" y="10522"/>
                  <a:pt x="6995" y="10567"/>
                </a:cubicBezTo>
                <a:cubicBezTo>
                  <a:pt x="6966" y="10577"/>
                  <a:pt x="6935" y="10622"/>
                  <a:pt x="6921" y="10666"/>
                </a:cubicBezTo>
                <a:cubicBezTo>
                  <a:pt x="6909" y="10703"/>
                  <a:pt x="6896" y="10722"/>
                  <a:pt x="6896" y="10765"/>
                </a:cubicBezTo>
                <a:cubicBezTo>
                  <a:pt x="6896" y="10773"/>
                  <a:pt x="6896" y="10782"/>
                  <a:pt x="6896" y="10790"/>
                </a:cubicBezTo>
                <a:cubicBezTo>
                  <a:pt x="6930" y="10801"/>
                  <a:pt x="6926" y="10825"/>
                  <a:pt x="6970" y="10840"/>
                </a:cubicBezTo>
                <a:cubicBezTo>
                  <a:pt x="7005" y="10852"/>
                  <a:pt x="7058" y="10861"/>
                  <a:pt x="7094" y="10864"/>
                </a:cubicBezTo>
                <a:cubicBezTo>
                  <a:pt x="7178" y="10872"/>
                  <a:pt x="7241" y="10859"/>
                  <a:pt x="7317" y="10840"/>
                </a:cubicBezTo>
                <a:cubicBezTo>
                  <a:pt x="7354" y="10831"/>
                  <a:pt x="7363" y="10819"/>
                  <a:pt x="7392" y="10790"/>
                </a:cubicBezTo>
              </a:path>
              <a:path w="7814" h="4367">
                <a:moveTo>
                  <a:pt x="7392" y="10319"/>
                </a:moveTo>
                <a:cubicBezTo>
                  <a:pt x="7354" y="10332"/>
                  <a:pt x="7367" y="10348"/>
                  <a:pt x="7367" y="10393"/>
                </a:cubicBezTo>
                <a:cubicBezTo>
                  <a:pt x="7367" y="10435"/>
                  <a:pt x="7342" y="10465"/>
                  <a:pt x="7342" y="10517"/>
                </a:cubicBezTo>
                <a:cubicBezTo>
                  <a:pt x="7342" y="10600"/>
                  <a:pt x="7328" y="10661"/>
                  <a:pt x="7317" y="10740"/>
                </a:cubicBezTo>
                <a:cubicBezTo>
                  <a:pt x="7303" y="10836"/>
                  <a:pt x="7327" y="10925"/>
                  <a:pt x="7342" y="11013"/>
                </a:cubicBezTo>
                <a:cubicBezTo>
                  <a:pt x="7361" y="11125"/>
                  <a:pt x="7333" y="11235"/>
                  <a:pt x="7367" y="11336"/>
                </a:cubicBezTo>
                <a:cubicBezTo>
                  <a:pt x="7377" y="11366"/>
                  <a:pt x="7363" y="11350"/>
                  <a:pt x="7392" y="11311"/>
                </a:cubicBezTo>
              </a:path>
              <a:path w="7814" h="4367">
                <a:moveTo>
                  <a:pt x="7714" y="10443"/>
                </a:moveTo>
                <a:cubicBezTo>
                  <a:pt x="7709" y="10475"/>
                  <a:pt x="7706" y="10531"/>
                  <a:pt x="7689" y="10567"/>
                </a:cubicBezTo>
                <a:cubicBezTo>
                  <a:pt x="7668" y="10611"/>
                  <a:pt x="7660" y="10673"/>
                  <a:pt x="7640" y="10716"/>
                </a:cubicBezTo>
                <a:cubicBezTo>
                  <a:pt x="7615" y="10769"/>
                  <a:pt x="7594" y="10823"/>
                  <a:pt x="7590" y="10889"/>
                </a:cubicBezTo>
                <a:cubicBezTo>
                  <a:pt x="7585" y="10978"/>
                  <a:pt x="7576" y="11089"/>
                  <a:pt x="7615" y="11162"/>
                </a:cubicBezTo>
                <a:cubicBezTo>
                  <a:pt x="7639" y="11206"/>
                  <a:pt x="7672" y="11281"/>
                  <a:pt x="7714" y="11311"/>
                </a:cubicBezTo>
                <a:cubicBezTo>
                  <a:pt x="7765" y="11347"/>
                  <a:pt x="7803" y="11382"/>
                  <a:pt x="7863" y="11385"/>
                </a:cubicBezTo>
                <a:cubicBezTo>
                  <a:pt x="7925" y="11389"/>
                  <a:pt x="7961" y="11381"/>
                  <a:pt x="8012" y="11361"/>
                </a:cubicBezTo>
                <a:cubicBezTo>
                  <a:pt x="8059" y="11342"/>
                  <a:pt x="8104" y="11335"/>
                  <a:pt x="8136" y="11286"/>
                </a:cubicBezTo>
                <a:cubicBezTo>
                  <a:pt x="8169" y="11235"/>
                  <a:pt x="8222" y="11117"/>
                  <a:pt x="8235" y="11063"/>
                </a:cubicBezTo>
                <a:cubicBezTo>
                  <a:pt x="8263" y="10940"/>
                  <a:pt x="8229" y="10781"/>
                  <a:pt x="8210" y="10666"/>
                </a:cubicBezTo>
                <a:cubicBezTo>
                  <a:pt x="8198" y="10596"/>
                  <a:pt x="8178" y="10476"/>
                  <a:pt x="8136" y="10418"/>
                </a:cubicBezTo>
                <a:cubicBezTo>
                  <a:pt x="8094" y="10360"/>
                  <a:pt x="8041" y="10334"/>
                  <a:pt x="7987" y="10294"/>
                </a:cubicBezTo>
                <a:cubicBezTo>
                  <a:pt x="7931" y="10252"/>
                  <a:pt x="7907" y="10247"/>
                  <a:pt x="7838" y="10244"/>
                </a:cubicBezTo>
                <a:cubicBezTo>
                  <a:pt x="7774" y="10241"/>
                  <a:pt x="7741" y="10254"/>
                  <a:pt x="7689" y="10294"/>
                </a:cubicBezTo>
                <a:cubicBezTo>
                  <a:pt x="7660" y="10324"/>
                  <a:pt x="7646" y="10336"/>
                  <a:pt x="7615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3240" y="3125880"/>
            <a:ext cx="374760" cy="901440"/>
          </a:xfrm>
          <a:custGeom>
            <a:avLst/>
            <a:gdLst/>
            <a:ahLst/>
            <a:rect l="l" t="t" r="r" b="b"/>
            <a:pathLst>
              <a:path w="1043" h="2506">
                <a:moveTo>
                  <a:pt x="11509" y="8682"/>
                </a:moveTo>
                <a:cubicBezTo>
                  <a:pt x="11549" y="8687"/>
                  <a:pt x="11574" y="8691"/>
                  <a:pt x="11609" y="8706"/>
                </a:cubicBezTo>
                <a:cubicBezTo>
                  <a:pt x="11682" y="8738"/>
                  <a:pt x="11770" y="8781"/>
                  <a:pt x="11832" y="8830"/>
                </a:cubicBezTo>
                <a:cubicBezTo>
                  <a:pt x="11903" y="8887"/>
                  <a:pt x="11997" y="8960"/>
                  <a:pt x="12055" y="9029"/>
                </a:cubicBezTo>
                <a:cubicBezTo>
                  <a:pt x="12129" y="9118"/>
                  <a:pt x="12224" y="9225"/>
                  <a:pt x="12278" y="9327"/>
                </a:cubicBezTo>
                <a:cubicBezTo>
                  <a:pt x="12341" y="9445"/>
                  <a:pt x="12354" y="9549"/>
                  <a:pt x="12378" y="9674"/>
                </a:cubicBezTo>
                <a:cubicBezTo>
                  <a:pt x="12400" y="9784"/>
                  <a:pt x="12418" y="9906"/>
                  <a:pt x="12402" y="10021"/>
                </a:cubicBezTo>
                <a:cubicBezTo>
                  <a:pt x="12387" y="10128"/>
                  <a:pt x="12354" y="10240"/>
                  <a:pt x="12328" y="10344"/>
                </a:cubicBezTo>
                <a:cubicBezTo>
                  <a:pt x="12301" y="10449"/>
                  <a:pt x="12282" y="10565"/>
                  <a:pt x="12254" y="10666"/>
                </a:cubicBezTo>
                <a:cubicBezTo>
                  <a:pt x="12237" y="10730"/>
                  <a:pt x="12229" y="10771"/>
                  <a:pt x="12229" y="10840"/>
                </a:cubicBezTo>
                <a:cubicBezTo>
                  <a:pt x="12229" y="10892"/>
                  <a:pt x="12238" y="10931"/>
                  <a:pt x="12204" y="10889"/>
                </a:cubicBezTo>
                <a:cubicBezTo>
                  <a:pt x="12172" y="10849"/>
                  <a:pt x="12154" y="10828"/>
                  <a:pt x="12105" y="10790"/>
                </a:cubicBezTo>
                <a:cubicBezTo>
                  <a:pt x="12097" y="10782"/>
                  <a:pt x="12088" y="10773"/>
                  <a:pt x="12080" y="10765"/>
                </a:cubicBezTo>
              </a:path>
              <a:path w="1043" h="2506">
                <a:moveTo>
                  <a:pt x="11881" y="10616"/>
                </a:moveTo>
                <a:cubicBezTo>
                  <a:pt x="11881" y="10663"/>
                  <a:pt x="11886" y="10726"/>
                  <a:pt x="11906" y="10765"/>
                </a:cubicBezTo>
                <a:cubicBezTo>
                  <a:pt x="11949" y="10850"/>
                  <a:pt x="11983" y="10921"/>
                  <a:pt x="12030" y="11013"/>
                </a:cubicBezTo>
                <a:cubicBezTo>
                  <a:pt x="12053" y="11058"/>
                  <a:pt x="12087" y="11118"/>
                  <a:pt x="12105" y="11162"/>
                </a:cubicBezTo>
                <a:cubicBezTo>
                  <a:pt x="12105" y="11187"/>
                  <a:pt x="12105" y="11195"/>
                  <a:pt x="12129" y="11187"/>
                </a:cubicBezTo>
                <a:cubicBezTo>
                  <a:pt x="12159" y="11147"/>
                  <a:pt x="12167" y="11103"/>
                  <a:pt x="12204" y="11063"/>
                </a:cubicBezTo>
                <a:cubicBezTo>
                  <a:pt x="12262" y="10999"/>
                  <a:pt x="12290" y="10927"/>
                  <a:pt x="12353" y="10864"/>
                </a:cubicBezTo>
                <a:cubicBezTo>
                  <a:pt x="12414" y="10803"/>
                  <a:pt x="12486" y="10772"/>
                  <a:pt x="12551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7840" y="3687840"/>
            <a:ext cx="1393560" cy="527040"/>
          </a:xfrm>
          <a:custGeom>
            <a:avLst/>
            <a:gdLst/>
            <a:ahLst/>
            <a:rect l="l" t="t" r="r" b="b"/>
            <a:pathLst>
              <a:path w="3870" h="1465">
                <a:moveTo>
                  <a:pt x="13618" y="10344"/>
                </a:moveTo>
                <a:cubicBezTo>
                  <a:pt x="13602" y="10412"/>
                  <a:pt x="13611" y="10503"/>
                  <a:pt x="13593" y="10567"/>
                </a:cubicBezTo>
                <a:cubicBezTo>
                  <a:pt x="13577" y="10624"/>
                  <a:pt x="13584" y="10684"/>
                  <a:pt x="13568" y="10740"/>
                </a:cubicBezTo>
                <a:cubicBezTo>
                  <a:pt x="13549" y="10806"/>
                  <a:pt x="13543" y="10841"/>
                  <a:pt x="13543" y="10914"/>
                </a:cubicBezTo>
                <a:cubicBezTo>
                  <a:pt x="13543" y="11011"/>
                  <a:pt x="13536" y="11103"/>
                  <a:pt x="13519" y="11187"/>
                </a:cubicBezTo>
                <a:cubicBezTo>
                  <a:pt x="13508" y="11240"/>
                  <a:pt x="13542" y="11270"/>
                  <a:pt x="13494" y="11286"/>
                </a:cubicBezTo>
              </a:path>
              <a:path w="3870" h="1465">
                <a:moveTo>
                  <a:pt x="13965" y="10468"/>
                </a:moveTo>
                <a:cubicBezTo>
                  <a:pt x="13944" y="10517"/>
                  <a:pt x="13911" y="10547"/>
                  <a:pt x="13891" y="10592"/>
                </a:cubicBezTo>
                <a:cubicBezTo>
                  <a:pt x="13875" y="10628"/>
                  <a:pt x="13852" y="10674"/>
                  <a:pt x="13841" y="10716"/>
                </a:cubicBezTo>
                <a:cubicBezTo>
                  <a:pt x="13827" y="10770"/>
                  <a:pt x="13820" y="10803"/>
                  <a:pt x="13816" y="10864"/>
                </a:cubicBezTo>
                <a:cubicBezTo>
                  <a:pt x="13813" y="10905"/>
                  <a:pt x="13775" y="10945"/>
                  <a:pt x="13791" y="10988"/>
                </a:cubicBezTo>
                <a:cubicBezTo>
                  <a:pt x="13805" y="11027"/>
                  <a:pt x="13800" y="11105"/>
                  <a:pt x="13816" y="11137"/>
                </a:cubicBezTo>
                <a:cubicBezTo>
                  <a:pt x="13830" y="11165"/>
                  <a:pt x="13850" y="11213"/>
                  <a:pt x="13866" y="11237"/>
                </a:cubicBezTo>
                <a:cubicBezTo>
                  <a:pt x="13893" y="11276"/>
                  <a:pt x="13934" y="11291"/>
                  <a:pt x="13965" y="11311"/>
                </a:cubicBezTo>
                <a:cubicBezTo>
                  <a:pt x="14028" y="11353"/>
                  <a:pt x="14045" y="11318"/>
                  <a:pt x="14114" y="11311"/>
                </a:cubicBezTo>
                <a:cubicBezTo>
                  <a:pt x="14157" y="11307"/>
                  <a:pt x="14204" y="11267"/>
                  <a:pt x="14238" y="11237"/>
                </a:cubicBezTo>
                <a:cubicBezTo>
                  <a:pt x="14272" y="11207"/>
                  <a:pt x="14342" y="11174"/>
                  <a:pt x="14362" y="11137"/>
                </a:cubicBezTo>
                <a:cubicBezTo>
                  <a:pt x="14381" y="11103"/>
                  <a:pt x="14397" y="11048"/>
                  <a:pt x="14412" y="11013"/>
                </a:cubicBezTo>
                <a:cubicBezTo>
                  <a:pt x="14437" y="10953"/>
                  <a:pt x="14436" y="10929"/>
                  <a:pt x="14436" y="10864"/>
                </a:cubicBezTo>
                <a:cubicBezTo>
                  <a:pt x="14436" y="10805"/>
                  <a:pt x="14426" y="10765"/>
                  <a:pt x="14412" y="10716"/>
                </a:cubicBezTo>
                <a:cubicBezTo>
                  <a:pt x="14399" y="10673"/>
                  <a:pt x="14412" y="10629"/>
                  <a:pt x="14387" y="10592"/>
                </a:cubicBezTo>
                <a:cubicBezTo>
                  <a:pt x="14356" y="10546"/>
                  <a:pt x="14325" y="10509"/>
                  <a:pt x="14288" y="10468"/>
                </a:cubicBezTo>
                <a:cubicBezTo>
                  <a:pt x="14257" y="10434"/>
                  <a:pt x="14231" y="10443"/>
                  <a:pt x="14188" y="10443"/>
                </a:cubicBezTo>
                <a:cubicBezTo>
                  <a:pt x="14119" y="10443"/>
                  <a:pt x="14071" y="10439"/>
                  <a:pt x="14015" y="10468"/>
                </a:cubicBezTo>
                <a:cubicBezTo>
                  <a:pt x="13960" y="10497"/>
                  <a:pt x="13917" y="10503"/>
                  <a:pt x="13866" y="10542"/>
                </a:cubicBezTo>
                <a:cubicBezTo>
                  <a:pt x="13830" y="10570"/>
                  <a:pt x="13827" y="10558"/>
                  <a:pt x="13816" y="10592"/>
                </a:cubicBezTo>
              </a:path>
              <a:path w="3870" h="1465">
                <a:moveTo>
                  <a:pt x="14660" y="10716"/>
                </a:moveTo>
                <a:cubicBezTo>
                  <a:pt x="14689" y="10784"/>
                  <a:pt x="14684" y="10782"/>
                  <a:pt x="14734" y="10815"/>
                </a:cubicBezTo>
                <a:cubicBezTo>
                  <a:pt x="14767" y="10837"/>
                  <a:pt x="14793" y="10860"/>
                  <a:pt x="14833" y="10864"/>
                </a:cubicBezTo>
                <a:cubicBezTo>
                  <a:pt x="14905" y="10872"/>
                  <a:pt x="14943" y="10851"/>
                  <a:pt x="15007" y="10840"/>
                </a:cubicBezTo>
                <a:cubicBezTo>
                  <a:pt x="15067" y="10830"/>
                  <a:pt x="15104" y="10804"/>
                  <a:pt x="15156" y="10790"/>
                </a:cubicBezTo>
                <a:cubicBezTo>
                  <a:pt x="15232" y="10769"/>
                  <a:pt x="15235" y="10758"/>
                  <a:pt x="15280" y="10691"/>
                </a:cubicBezTo>
                <a:cubicBezTo>
                  <a:pt x="15318" y="10635"/>
                  <a:pt x="15297" y="10646"/>
                  <a:pt x="15280" y="10592"/>
                </a:cubicBezTo>
                <a:cubicBezTo>
                  <a:pt x="15269" y="10558"/>
                  <a:pt x="15275" y="10521"/>
                  <a:pt x="15255" y="10492"/>
                </a:cubicBezTo>
                <a:cubicBezTo>
                  <a:pt x="15219" y="10439"/>
                  <a:pt x="15158" y="10409"/>
                  <a:pt x="15106" y="10393"/>
                </a:cubicBezTo>
                <a:cubicBezTo>
                  <a:pt x="15060" y="10379"/>
                  <a:pt x="15004" y="10372"/>
                  <a:pt x="14957" y="10368"/>
                </a:cubicBezTo>
                <a:cubicBezTo>
                  <a:pt x="14913" y="10364"/>
                  <a:pt x="14866" y="10371"/>
                  <a:pt x="14833" y="10393"/>
                </a:cubicBezTo>
                <a:cubicBezTo>
                  <a:pt x="14795" y="10418"/>
                  <a:pt x="14769" y="10434"/>
                  <a:pt x="14734" y="10468"/>
                </a:cubicBezTo>
                <a:cubicBezTo>
                  <a:pt x="14708" y="10493"/>
                  <a:pt x="14688" y="10532"/>
                  <a:pt x="14684" y="10567"/>
                </a:cubicBezTo>
                <a:cubicBezTo>
                  <a:pt x="14678" y="10619"/>
                  <a:pt x="14675" y="10679"/>
                  <a:pt x="14709" y="10716"/>
                </a:cubicBezTo>
                <a:cubicBezTo>
                  <a:pt x="14732" y="10738"/>
                  <a:pt x="14737" y="10746"/>
                  <a:pt x="14759" y="10740"/>
                </a:cubicBezTo>
              </a:path>
              <a:path w="3870" h="1465">
                <a:moveTo>
                  <a:pt x="14908" y="10864"/>
                </a:moveTo>
                <a:cubicBezTo>
                  <a:pt x="14856" y="10894"/>
                  <a:pt x="14826" y="10922"/>
                  <a:pt x="14784" y="10964"/>
                </a:cubicBezTo>
                <a:cubicBezTo>
                  <a:pt x="14750" y="10998"/>
                  <a:pt x="14731" y="11030"/>
                  <a:pt x="14709" y="11063"/>
                </a:cubicBezTo>
                <a:cubicBezTo>
                  <a:pt x="14687" y="11096"/>
                  <a:pt x="14664" y="11121"/>
                  <a:pt x="14660" y="11162"/>
                </a:cubicBezTo>
                <a:cubicBezTo>
                  <a:pt x="14655" y="11205"/>
                  <a:pt x="14697" y="11226"/>
                  <a:pt x="14709" y="11261"/>
                </a:cubicBezTo>
                <a:cubicBezTo>
                  <a:pt x="14718" y="11289"/>
                  <a:pt x="14743" y="11308"/>
                  <a:pt x="14784" y="11311"/>
                </a:cubicBezTo>
                <a:cubicBezTo>
                  <a:pt x="14869" y="11317"/>
                  <a:pt x="14847" y="11326"/>
                  <a:pt x="14932" y="11311"/>
                </a:cubicBezTo>
                <a:cubicBezTo>
                  <a:pt x="14993" y="11300"/>
                  <a:pt x="15046" y="11300"/>
                  <a:pt x="15106" y="11286"/>
                </a:cubicBezTo>
                <a:cubicBezTo>
                  <a:pt x="15164" y="11273"/>
                  <a:pt x="15182" y="11233"/>
                  <a:pt x="15230" y="11212"/>
                </a:cubicBezTo>
                <a:cubicBezTo>
                  <a:pt x="15278" y="11191"/>
                  <a:pt x="15278" y="11150"/>
                  <a:pt x="15304" y="11112"/>
                </a:cubicBezTo>
                <a:cubicBezTo>
                  <a:pt x="15335" y="11066"/>
                  <a:pt x="15341" y="11044"/>
                  <a:pt x="15304" y="10988"/>
                </a:cubicBezTo>
                <a:cubicBezTo>
                  <a:pt x="15285" y="10959"/>
                  <a:pt x="15268" y="10906"/>
                  <a:pt x="15230" y="10889"/>
                </a:cubicBezTo>
                <a:cubicBezTo>
                  <a:pt x="15197" y="10874"/>
                  <a:pt x="15142" y="10842"/>
                  <a:pt x="15106" y="10840"/>
                </a:cubicBezTo>
                <a:cubicBezTo>
                  <a:pt x="15050" y="10836"/>
                  <a:pt x="15010" y="10820"/>
                  <a:pt x="14957" y="10815"/>
                </a:cubicBezTo>
                <a:cubicBezTo>
                  <a:pt x="14949" y="10815"/>
                  <a:pt x="14940" y="10815"/>
                  <a:pt x="14932" y="10815"/>
                </a:cubicBezTo>
              </a:path>
              <a:path w="3870" h="1465">
                <a:moveTo>
                  <a:pt x="15577" y="11212"/>
                </a:moveTo>
                <a:cubicBezTo>
                  <a:pt x="15577" y="11300"/>
                  <a:pt x="15560" y="11333"/>
                  <a:pt x="15553" y="11410"/>
                </a:cubicBezTo>
                <a:cubicBezTo>
                  <a:pt x="15549" y="11447"/>
                  <a:pt x="15518" y="11528"/>
                  <a:pt x="15503" y="11559"/>
                </a:cubicBezTo>
                <a:cubicBezTo>
                  <a:pt x="15493" y="11580"/>
                  <a:pt x="15463" y="11675"/>
                  <a:pt x="15453" y="11683"/>
                </a:cubicBezTo>
                <a:cubicBezTo>
                  <a:pt x="15439" y="11695"/>
                  <a:pt x="15382" y="11708"/>
                  <a:pt x="15429" y="11708"/>
                </a:cubicBezTo>
              </a:path>
              <a:path w="3870" h="1465">
                <a:moveTo>
                  <a:pt x="15999" y="10393"/>
                </a:moveTo>
                <a:cubicBezTo>
                  <a:pt x="16017" y="10381"/>
                  <a:pt x="16122" y="10302"/>
                  <a:pt x="16148" y="10294"/>
                </a:cubicBezTo>
                <a:cubicBezTo>
                  <a:pt x="16192" y="10281"/>
                  <a:pt x="16250" y="10251"/>
                  <a:pt x="16297" y="10244"/>
                </a:cubicBezTo>
                <a:cubicBezTo>
                  <a:pt x="16364" y="10234"/>
                  <a:pt x="16397" y="10245"/>
                  <a:pt x="16446" y="10269"/>
                </a:cubicBezTo>
                <a:cubicBezTo>
                  <a:pt x="16486" y="10288"/>
                  <a:pt x="16511" y="10294"/>
                  <a:pt x="16520" y="10344"/>
                </a:cubicBezTo>
                <a:cubicBezTo>
                  <a:pt x="16530" y="10401"/>
                  <a:pt x="16516" y="10426"/>
                  <a:pt x="16495" y="10468"/>
                </a:cubicBezTo>
                <a:cubicBezTo>
                  <a:pt x="16468" y="10522"/>
                  <a:pt x="16458" y="10566"/>
                  <a:pt x="16421" y="10616"/>
                </a:cubicBezTo>
                <a:cubicBezTo>
                  <a:pt x="16374" y="10679"/>
                  <a:pt x="16301" y="10725"/>
                  <a:pt x="16247" y="10765"/>
                </a:cubicBezTo>
                <a:cubicBezTo>
                  <a:pt x="16224" y="10788"/>
                  <a:pt x="16220" y="10796"/>
                  <a:pt x="16197" y="10790"/>
                </a:cubicBezTo>
                <a:cubicBezTo>
                  <a:pt x="16228" y="10772"/>
                  <a:pt x="16224" y="10768"/>
                  <a:pt x="16272" y="10765"/>
                </a:cubicBezTo>
                <a:cubicBezTo>
                  <a:pt x="16353" y="10760"/>
                  <a:pt x="16427" y="10763"/>
                  <a:pt x="16495" y="10790"/>
                </a:cubicBezTo>
                <a:cubicBezTo>
                  <a:pt x="16554" y="10813"/>
                  <a:pt x="16607" y="10807"/>
                  <a:pt x="16644" y="10864"/>
                </a:cubicBezTo>
                <a:cubicBezTo>
                  <a:pt x="16655" y="10881"/>
                  <a:pt x="16689" y="10944"/>
                  <a:pt x="16694" y="10964"/>
                </a:cubicBezTo>
                <a:cubicBezTo>
                  <a:pt x="16700" y="10985"/>
                  <a:pt x="16680" y="11067"/>
                  <a:pt x="16669" y="11088"/>
                </a:cubicBezTo>
                <a:cubicBezTo>
                  <a:pt x="16642" y="11140"/>
                  <a:pt x="16601" y="11189"/>
                  <a:pt x="16545" y="11212"/>
                </a:cubicBezTo>
                <a:cubicBezTo>
                  <a:pt x="16490" y="11235"/>
                  <a:pt x="16419" y="11239"/>
                  <a:pt x="16371" y="11261"/>
                </a:cubicBezTo>
                <a:cubicBezTo>
                  <a:pt x="16334" y="11278"/>
                  <a:pt x="16295" y="11299"/>
                  <a:pt x="16247" y="11286"/>
                </a:cubicBezTo>
                <a:cubicBezTo>
                  <a:pt x="16209" y="11275"/>
                  <a:pt x="16190" y="11267"/>
                  <a:pt x="16148" y="11261"/>
                </a:cubicBezTo>
                <a:cubicBezTo>
                  <a:pt x="16154" y="11211"/>
                  <a:pt x="16147" y="11205"/>
                  <a:pt x="16173" y="11162"/>
                </a:cubicBezTo>
              </a:path>
              <a:path w="3870" h="1465">
                <a:moveTo>
                  <a:pt x="16917" y="10344"/>
                </a:moveTo>
                <a:cubicBezTo>
                  <a:pt x="16886" y="10384"/>
                  <a:pt x="16913" y="10406"/>
                  <a:pt x="16892" y="10443"/>
                </a:cubicBezTo>
                <a:cubicBezTo>
                  <a:pt x="16869" y="10484"/>
                  <a:pt x="16859" y="10524"/>
                  <a:pt x="16842" y="10567"/>
                </a:cubicBezTo>
                <a:cubicBezTo>
                  <a:pt x="16818" y="10629"/>
                  <a:pt x="16797" y="10704"/>
                  <a:pt x="16793" y="10765"/>
                </a:cubicBezTo>
                <a:cubicBezTo>
                  <a:pt x="16789" y="10830"/>
                  <a:pt x="16768" y="10867"/>
                  <a:pt x="16768" y="10939"/>
                </a:cubicBezTo>
                <a:cubicBezTo>
                  <a:pt x="16768" y="11030"/>
                  <a:pt x="16777" y="11110"/>
                  <a:pt x="16793" y="11187"/>
                </a:cubicBezTo>
                <a:cubicBezTo>
                  <a:pt x="16803" y="11236"/>
                  <a:pt x="16822" y="11270"/>
                  <a:pt x="16892" y="11286"/>
                </a:cubicBezTo>
                <a:cubicBezTo>
                  <a:pt x="16954" y="11301"/>
                  <a:pt x="17036" y="11285"/>
                  <a:pt x="17090" y="11261"/>
                </a:cubicBezTo>
                <a:cubicBezTo>
                  <a:pt x="17146" y="11237"/>
                  <a:pt x="17190" y="11213"/>
                  <a:pt x="17239" y="11187"/>
                </a:cubicBezTo>
                <a:cubicBezTo>
                  <a:pt x="17304" y="11152"/>
                  <a:pt x="17305" y="11113"/>
                  <a:pt x="17338" y="11063"/>
                </a:cubicBezTo>
                <a:cubicBezTo>
                  <a:pt x="17364" y="11023"/>
                  <a:pt x="17363" y="11013"/>
                  <a:pt x="17363" y="10964"/>
                </a:cubicBezTo>
                <a:cubicBezTo>
                  <a:pt x="17363" y="10913"/>
                  <a:pt x="17349" y="10910"/>
                  <a:pt x="17338" y="10889"/>
                </a:cubicBezTo>
                <a:cubicBezTo>
                  <a:pt x="17326" y="10864"/>
                  <a:pt x="17286" y="10844"/>
                  <a:pt x="17239" y="10864"/>
                </a:cubicBezTo>
                <a:cubicBezTo>
                  <a:pt x="17179" y="10889"/>
                  <a:pt x="17097" y="10946"/>
                  <a:pt x="17041" y="10988"/>
                </a:cubicBezTo>
                <a:cubicBezTo>
                  <a:pt x="16997" y="11021"/>
                  <a:pt x="16975" y="11071"/>
                  <a:pt x="16942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880" y="4321080"/>
            <a:ext cx="839880" cy="430200"/>
          </a:xfrm>
          <a:custGeom>
            <a:avLst/>
            <a:gdLst/>
            <a:ahLst/>
            <a:rect l="l" t="t" r="r" b="b"/>
            <a:pathLst>
              <a:path w="2333" h="1192">
                <a:moveTo>
                  <a:pt x="2034" y="12179"/>
                </a:moveTo>
                <a:cubicBezTo>
                  <a:pt x="2034" y="12315"/>
                  <a:pt x="2035" y="12455"/>
                  <a:pt x="2059" y="12576"/>
                </a:cubicBezTo>
                <a:cubicBezTo>
                  <a:pt x="2076" y="12660"/>
                  <a:pt x="2059" y="12763"/>
                  <a:pt x="2059" y="12849"/>
                </a:cubicBezTo>
                <a:cubicBezTo>
                  <a:pt x="2059" y="12728"/>
                  <a:pt x="2055" y="12608"/>
                  <a:pt x="2034" y="12502"/>
                </a:cubicBezTo>
                <a:cubicBezTo>
                  <a:pt x="2012" y="12392"/>
                  <a:pt x="2027" y="12249"/>
                  <a:pt x="2059" y="12154"/>
                </a:cubicBezTo>
                <a:cubicBezTo>
                  <a:pt x="2080" y="12091"/>
                  <a:pt x="2111" y="12074"/>
                  <a:pt x="2183" y="12055"/>
                </a:cubicBezTo>
                <a:cubicBezTo>
                  <a:pt x="2232" y="12042"/>
                  <a:pt x="2283" y="12034"/>
                  <a:pt x="2332" y="12030"/>
                </a:cubicBezTo>
                <a:cubicBezTo>
                  <a:pt x="2381" y="12026"/>
                  <a:pt x="2431" y="12030"/>
                  <a:pt x="2480" y="12030"/>
                </a:cubicBezTo>
              </a:path>
              <a:path w="2333" h="1192">
                <a:moveTo>
                  <a:pt x="2580" y="12303"/>
                </a:moveTo>
                <a:cubicBezTo>
                  <a:pt x="2685" y="12303"/>
                  <a:pt x="2778" y="12305"/>
                  <a:pt x="2877" y="12328"/>
                </a:cubicBezTo>
                <a:cubicBezTo>
                  <a:pt x="2925" y="12339"/>
                  <a:pt x="2989" y="12339"/>
                  <a:pt x="3001" y="12303"/>
                </a:cubicBezTo>
              </a:path>
              <a:path w="2333" h="1192">
                <a:moveTo>
                  <a:pt x="2580" y="12551"/>
                </a:moveTo>
                <a:cubicBezTo>
                  <a:pt x="2729" y="12551"/>
                  <a:pt x="2877" y="12551"/>
                  <a:pt x="3026" y="12551"/>
                </a:cubicBezTo>
              </a:path>
              <a:path w="2333" h="1192">
                <a:moveTo>
                  <a:pt x="3324" y="12378"/>
                </a:moveTo>
                <a:cubicBezTo>
                  <a:pt x="3324" y="12386"/>
                  <a:pt x="3324" y="12394"/>
                  <a:pt x="3324" y="12402"/>
                </a:cubicBezTo>
                <a:cubicBezTo>
                  <a:pt x="3380" y="12402"/>
                  <a:pt x="3402" y="12412"/>
                  <a:pt x="3448" y="12427"/>
                </a:cubicBezTo>
                <a:cubicBezTo>
                  <a:pt x="3488" y="12440"/>
                  <a:pt x="3554" y="12427"/>
                  <a:pt x="3597" y="12427"/>
                </a:cubicBezTo>
              </a:path>
              <a:path w="2333" h="1192">
                <a:moveTo>
                  <a:pt x="3671" y="12179"/>
                </a:moveTo>
                <a:cubicBezTo>
                  <a:pt x="3697" y="12133"/>
                  <a:pt x="3714" y="12091"/>
                  <a:pt x="3746" y="12055"/>
                </a:cubicBezTo>
                <a:cubicBezTo>
                  <a:pt x="3771" y="12026"/>
                  <a:pt x="3795" y="12012"/>
                  <a:pt x="3820" y="12005"/>
                </a:cubicBezTo>
                <a:cubicBezTo>
                  <a:pt x="3868" y="11992"/>
                  <a:pt x="3934" y="12002"/>
                  <a:pt x="3969" y="12030"/>
                </a:cubicBezTo>
                <a:cubicBezTo>
                  <a:pt x="3990" y="12047"/>
                  <a:pt x="4011" y="12074"/>
                  <a:pt x="4043" y="12105"/>
                </a:cubicBezTo>
                <a:cubicBezTo>
                  <a:pt x="4067" y="12128"/>
                  <a:pt x="4066" y="12155"/>
                  <a:pt x="4068" y="12204"/>
                </a:cubicBezTo>
                <a:cubicBezTo>
                  <a:pt x="4071" y="12271"/>
                  <a:pt x="4054" y="12324"/>
                  <a:pt x="4043" y="12378"/>
                </a:cubicBezTo>
                <a:cubicBezTo>
                  <a:pt x="4033" y="12426"/>
                  <a:pt x="4041" y="12434"/>
                  <a:pt x="4018" y="12477"/>
                </a:cubicBezTo>
                <a:cubicBezTo>
                  <a:pt x="4001" y="12510"/>
                  <a:pt x="3989" y="12542"/>
                  <a:pt x="3969" y="12576"/>
                </a:cubicBezTo>
                <a:cubicBezTo>
                  <a:pt x="3948" y="12610"/>
                  <a:pt x="3939" y="12630"/>
                  <a:pt x="3919" y="12650"/>
                </a:cubicBezTo>
                <a:cubicBezTo>
                  <a:pt x="3888" y="12680"/>
                  <a:pt x="3891" y="12720"/>
                  <a:pt x="3870" y="12750"/>
                </a:cubicBezTo>
                <a:cubicBezTo>
                  <a:pt x="3843" y="12788"/>
                  <a:pt x="3818" y="12811"/>
                  <a:pt x="3795" y="12849"/>
                </a:cubicBezTo>
                <a:cubicBezTo>
                  <a:pt x="3774" y="12883"/>
                  <a:pt x="3755" y="12914"/>
                  <a:pt x="3721" y="12948"/>
                </a:cubicBezTo>
                <a:cubicBezTo>
                  <a:pt x="3704" y="12965"/>
                  <a:pt x="3689" y="12981"/>
                  <a:pt x="3671" y="12998"/>
                </a:cubicBezTo>
                <a:cubicBezTo>
                  <a:pt x="3671" y="13022"/>
                  <a:pt x="3671" y="13030"/>
                  <a:pt x="3646" y="13022"/>
                </a:cubicBezTo>
                <a:cubicBezTo>
                  <a:pt x="3663" y="13039"/>
                  <a:pt x="3659" y="13076"/>
                  <a:pt x="3696" y="13072"/>
                </a:cubicBezTo>
                <a:cubicBezTo>
                  <a:pt x="3727" y="13069"/>
                  <a:pt x="3749" y="13033"/>
                  <a:pt x="3795" y="13047"/>
                </a:cubicBezTo>
                <a:cubicBezTo>
                  <a:pt x="3834" y="13059"/>
                  <a:pt x="3816" y="13069"/>
                  <a:pt x="3870" y="13072"/>
                </a:cubicBezTo>
                <a:cubicBezTo>
                  <a:pt x="3933" y="13076"/>
                  <a:pt x="3943" y="13108"/>
                  <a:pt x="3994" y="13122"/>
                </a:cubicBezTo>
                <a:cubicBezTo>
                  <a:pt x="4041" y="13135"/>
                  <a:pt x="4100" y="13160"/>
                  <a:pt x="4142" y="13171"/>
                </a:cubicBezTo>
                <a:cubicBezTo>
                  <a:pt x="4177" y="13180"/>
                  <a:pt x="4285" y="13200"/>
                  <a:pt x="4316" y="13196"/>
                </a:cubicBezTo>
                <a:cubicBezTo>
                  <a:pt x="4363" y="13190"/>
                  <a:pt x="4355" y="13173"/>
                  <a:pt x="4341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8200" y="4705200"/>
            <a:ext cx="7518600" cy="1312920"/>
          </a:xfrm>
          <a:custGeom>
            <a:avLst/>
            <a:gdLst/>
            <a:ahLst/>
            <a:rect l="l" t="t" r="r" b="b"/>
            <a:pathLst>
              <a:path w="20887" h="3647">
                <a:moveTo>
                  <a:pt x="794" y="13196"/>
                </a:moveTo>
                <a:cubicBezTo>
                  <a:pt x="794" y="13506"/>
                  <a:pt x="819" y="13807"/>
                  <a:pt x="819" y="14114"/>
                </a:cubicBezTo>
                <a:cubicBezTo>
                  <a:pt x="819" y="14378"/>
                  <a:pt x="837" y="14654"/>
                  <a:pt x="794" y="14908"/>
                </a:cubicBezTo>
                <a:cubicBezTo>
                  <a:pt x="787" y="14951"/>
                  <a:pt x="777" y="14973"/>
                  <a:pt x="769" y="15007"/>
                </a:cubicBezTo>
                <a:cubicBezTo>
                  <a:pt x="763" y="14957"/>
                  <a:pt x="747" y="14918"/>
                  <a:pt x="744" y="14858"/>
                </a:cubicBezTo>
                <a:cubicBezTo>
                  <a:pt x="730" y="14594"/>
                  <a:pt x="746" y="14325"/>
                  <a:pt x="769" y="14064"/>
                </a:cubicBezTo>
                <a:cubicBezTo>
                  <a:pt x="780" y="13942"/>
                  <a:pt x="801" y="13813"/>
                  <a:pt x="819" y="13692"/>
                </a:cubicBezTo>
                <a:cubicBezTo>
                  <a:pt x="835" y="13585"/>
                  <a:pt x="852" y="13477"/>
                  <a:pt x="868" y="13370"/>
                </a:cubicBezTo>
                <a:cubicBezTo>
                  <a:pt x="878" y="13301"/>
                  <a:pt x="882" y="13237"/>
                  <a:pt x="893" y="13171"/>
                </a:cubicBezTo>
                <a:cubicBezTo>
                  <a:pt x="952" y="13171"/>
                  <a:pt x="1041" y="13168"/>
                  <a:pt x="1116" y="13171"/>
                </a:cubicBezTo>
                <a:cubicBezTo>
                  <a:pt x="1335" y="13179"/>
                  <a:pt x="1546" y="13150"/>
                  <a:pt x="1761" y="13146"/>
                </a:cubicBezTo>
                <a:cubicBezTo>
                  <a:pt x="2410" y="13134"/>
                  <a:pt x="3054" y="13178"/>
                  <a:pt x="3696" y="13196"/>
                </a:cubicBezTo>
                <a:cubicBezTo>
                  <a:pt x="3888" y="13201"/>
                  <a:pt x="4076" y="13214"/>
                  <a:pt x="4266" y="13221"/>
                </a:cubicBezTo>
                <a:cubicBezTo>
                  <a:pt x="4463" y="13228"/>
                  <a:pt x="4667" y="13250"/>
                  <a:pt x="4862" y="13246"/>
                </a:cubicBezTo>
                <a:cubicBezTo>
                  <a:pt x="5021" y="13242"/>
                  <a:pt x="5173" y="13223"/>
                  <a:pt x="5333" y="13221"/>
                </a:cubicBezTo>
                <a:cubicBezTo>
                  <a:pt x="5485" y="13219"/>
                  <a:pt x="5629" y="13211"/>
                  <a:pt x="5779" y="13196"/>
                </a:cubicBezTo>
                <a:cubicBezTo>
                  <a:pt x="5919" y="13182"/>
                  <a:pt x="6060" y="13184"/>
                  <a:pt x="6201" y="13171"/>
                </a:cubicBezTo>
                <a:cubicBezTo>
                  <a:pt x="6340" y="13159"/>
                  <a:pt x="6482" y="13129"/>
                  <a:pt x="6623" y="13122"/>
                </a:cubicBezTo>
                <a:cubicBezTo>
                  <a:pt x="6779" y="13114"/>
                  <a:pt x="6946" y="13112"/>
                  <a:pt x="7094" y="13146"/>
                </a:cubicBezTo>
                <a:cubicBezTo>
                  <a:pt x="7157" y="13160"/>
                  <a:pt x="7265" y="13176"/>
                  <a:pt x="7317" y="13221"/>
                </a:cubicBezTo>
                <a:cubicBezTo>
                  <a:pt x="7391" y="13286"/>
                  <a:pt x="7441" y="13405"/>
                  <a:pt x="7491" y="13494"/>
                </a:cubicBezTo>
                <a:cubicBezTo>
                  <a:pt x="7530" y="13563"/>
                  <a:pt x="7528" y="13664"/>
                  <a:pt x="7541" y="13742"/>
                </a:cubicBezTo>
                <a:cubicBezTo>
                  <a:pt x="7558" y="13845"/>
                  <a:pt x="7569" y="13960"/>
                  <a:pt x="7590" y="14064"/>
                </a:cubicBezTo>
                <a:cubicBezTo>
                  <a:pt x="7609" y="14160"/>
                  <a:pt x="7618" y="14268"/>
                  <a:pt x="7640" y="14362"/>
                </a:cubicBezTo>
                <a:cubicBezTo>
                  <a:pt x="7666" y="14471"/>
                  <a:pt x="7689" y="14574"/>
                  <a:pt x="7714" y="14684"/>
                </a:cubicBezTo>
                <a:cubicBezTo>
                  <a:pt x="7732" y="14766"/>
                  <a:pt x="7770" y="14851"/>
                  <a:pt x="7789" y="14932"/>
                </a:cubicBezTo>
                <a:cubicBezTo>
                  <a:pt x="7805" y="15000"/>
                  <a:pt x="7828" y="15088"/>
                  <a:pt x="7838" y="15156"/>
                </a:cubicBezTo>
                <a:cubicBezTo>
                  <a:pt x="7850" y="15238"/>
                  <a:pt x="7868" y="15261"/>
                  <a:pt x="7838" y="15329"/>
                </a:cubicBezTo>
                <a:cubicBezTo>
                  <a:pt x="7825" y="15359"/>
                  <a:pt x="7812" y="15355"/>
                  <a:pt x="7789" y="15379"/>
                </a:cubicBezTo>
                <a:cubicBezTo>
                  <a:pt x="7773" y="15396"/>
                  <a:pt x="7691" y="15444"/>
                  <a:pt x="7665" y="15453"/>
                </a:cubicBezTo>
                <a:cubicBezTo>
                  <a:pt x="7629" y="15465"/>
                  <a:pt x="7579" y="15469"/>
                  <a:pt x="7541" y="15478"/>
                </a:cubicBezTo>
                <a:cubicBezTo>
                  <a:pt x="7477" y="15492"/>
                  <a:pt x="7407" y="15498"/>
                  <a:pt x="7342" y="15503"/>
                </a:cubicBezTo>
                <a:cubicBezTo>
                  <a:pt x="7212" y="15513"/>
                  <a:pt x="7068" y="15522"/>
                  <a:pt x="6945" y="15528"/>
                </a:cubicBezTo>
                <a:cubicBezTo>
                  <a:pt x="6503" y="15551"/>
                  <a:pt x="6067" y="15532"/>
                  <a:pt x="5631" y="15577"/>
                </a:cubicBezTo>
                <a:cubicBezTo>
                  <a:pt x="5494" y="15591"/>
                  <a:pt x="5350" y="15620"/>
                  <a:pt x="5209" y="15627"/>
                </a:cubicBezTo>
                <a:cubicBezTo>
                  <a:pt x="4528" y="15660"/>
                  <a:pt x="3825" y="15632"/>
                  <a:pt x="3150" y="15602"/>
                </a:cubicBezTo>
                <a:cubicBezTo>
                  <a:pt x="2853" y="15589"/>
                  <a:pt x="2549" y="15593"/>
                  <a:pt x="2257" y="15577"/>
                </a:cubicBezTo>
                <a:cubicBezTo>
                  <a:pt x="2119" y="15569"/>
                  <a:pt x="1967" y="15559"/>
                  <a:pt x="1836" y="15553"/>
                </a:cubicBezTo>
                <a:cubicBezTo>
                  <a:pt x="1660" y="15545"/>
                  <a:pt x="1484" y="15554"/>
                  <a:pt x="1315" y="15577"/>
                </a:cubicBezTo>
                <a:cubicBezTo>
                  <a:pt x="1260" y="15585"/>
                  <a:pt x="1219" y="15588"/>
                  <a:pt x="1166" y="15602"/>
                </a:cubicBezTo>
                <a:cubicBezTo>
                  <a:pt x="1103" y="15618"/>
                  <a:pt x="1097" y="15631"/>
                  <a:pt x="1042" y="15652"/>
                </a:cubicBezTo>
                <a:cubicBezTo>
                  <a:pt x="997" y="15669"/>
                  <a:pt x="983" y="15681"/>
                  <a:pt x="943" y="15701"/>
                </a:cubicBezTo>
                <a:cubicBezTo>
                  <a:pt x="925" y="15666"/>
                  <a:pt x="909" y="15637"/>
                  <a:pt x="893" y="15602"/>
                </a:cubicBezTo>
                <a:cubicBezTo>
                  <a:pt x="876" y="15563"/>
                  <a:pt x="858" y="15522"/>
                  <a:pt x="843" y="15478"/>
                </a:cubicBezTo>
                <a:cubicBezTo>
                  <a:pt x="819" y="15411"/>
                  <a:pt x="779" y="15327"/>
                  <a:pt x="769" y="15255"/>
                </a:cubicBezTo>
                <a:cubicBezTo>
                  <a:pt x="769" y="15180"/>
                  <a:pt x="769" y="15156"/>
                  <a:pt x="769" y="15106"/>
                </a:cubicBezTo>
              </a:path>
              <a:path w="20887" h="3647">
                <a:moveTo>
                  <a:pt x="12551" y="13444"/>
                </a:moveTo>
                <a:cubicBezTo>
                  <a:pt x="12551" y="13891"/>
                  <a:pt x="12555" y="14339"/>
                  <a:pt x="12526" y="14784"/>
                </a:cubicBezTo>
                <a:cubicBezTo>
                  <a:pt x="12515" y="14955"/>
                  <a:pt x="12512" y="15135"/>
                  <a:pt x="12477" y="15304"/>
                </a:cubicBezTo>
                <a:cubicBezTo>
                  <a:pt x="12469" y="15343"/>
                  <a:pt x="12428" y="15422"/>
                  <a:pt x="12427" y="15429"/>
                </a:cubicBezTo>
                <a:cubicBezTo>
                  <a:pt x="12421" y="15344"/>
                  <a:pt x="12405" y="15269"/>
                  <a:pt x="12402" y="15180"/>
                </a:cubicBezTo>
                <a:cubicBezTo>
                  <a:pt x="12392" y="14896"/>
                  <a:pt x="12424" y="14619"/>
                  <a:pt x="12427" y="14337"/>
                </a:cubicBezTo>
                <a:cubicBezTo>
                  <a:pt x="12429" y="14157"/>
                  <a:pt x="12404" y="13964"/>
                  <a:pt x="12452" y="13791"/>
                </a:cubicBezTo>
                <a:cubicBezTo>
                  <a:pt x="12490" y="13652"/>
                  <a:pt x="12523" y="13531"/>
                  <a:pt x="12650" y="13444"/>
                </a:cubicBezTo>
                <a:cubicBezTo>
                  <a:pt x="12720" y="13396"/>
                  <a:pt x="12818" y="13390"/>
                  <a:pt x="12898" y="13370"/>
                </a:cubicBezTo>
                <a:cubicBezTo>
                  <a:pt x="13045" y="13333"/>
                  <a:pt x="13195" y="13337"/>
                  <a:pt x="13345" y="13320"/>
                </a:cubicBezTo>
                <a:cubicBezTo>
                  <a:pt x="13599" y="13291"/>
                  <a:pt x="13858" y="13290"/>
                  <a:pt x="14114" y="13271"/>
                </a:cubicBezTo>
                <a:cubicBezTo>
                  <a:pt x="14321" y="13256"/>
                  <a:pt x="14526" y="13256"/>
                  <a:pt x="14734" y="13246"/>
                </a:cubicBezTo>
                <a:cubicBezTo>
                  <a:pt x="14973" y="13234"/>
                  <a:pt x="15213" y="13209"/>
                  <a:pt x="15453" y="13196"/>
                </a:cubicBezTo>
                <a:cubicBezTo>
                  <a:pt x="15783" y="13179"/>
                  <a:pt x="16117" y="13159"/>
                  <a:pt x="16446" y="13146"/>
                </a:cubicBezTo>
                <a:cubicBezTo>
                  <a:pt x="16735" y="13135"/>
                  <a:pt x="17025" y="13143"/>
                  <a:pt x="17314" y="13122"/>
                </a:cubicBezTo>
                <a:cubicBezTo>
                  <a:pt x="17766" y="13089"/>
                  <a:pt x="18225" y="13078"/>
                  <a:pt x="18678" y="13072"/>
                </a:cubicBezTo>
                <a:cubicBezTo>
                  <a:pt x="19092" y="13067"/>
                  <a:pt x="19506" y="13072"/>
                  <a:pt x="19918" y="13097"/>
                </a:cubicBezTo>
                <a:cubicBezTo>
                  <a:pt x="20134" y="13110"/>
                  <a:pt x="20347" y="13127"/>
                  <a:pt x="20563" y="13146"/>
                </a:cubicBezTo>
                <a:cubicBezTo>
                  <a:pt x="20703" y="13159"/>
                  <a:pt x="20826" y="13184"/>
                  <a:pt x="20960" y="13221"/>
                </a:cubicBezTo>
                <a:cubicBezTo>
                  <a:pt x="21031" y="13241"/>
                  <a:pt x="21099" y="13235"/>
                  <a:pt x="21158" y="13295"/>
                </a:cubicBezTo>
                <a:cubicBezTo>
                  <a:pt x="21232" y="13370"/>
                  <a:pt x="21231" y="13408"/>
                  <a:pt x="21258" y="13519"/>
                </a:cubicBezTo>
                <a:cubicBezTo>
                  <a:pt x="21316" y="13755"/>
                  <a:pt x="21281" y="14044"/>
                  <a:pt x="21307" y="14288"/>
                </a:cubicBezTo>
                <a:cubicBezTo>
                  <a:pt x="21333" y="14536"/>
                  <a:pt x="21370" y="14785"/>
                  <a:pt x="21406" y="15032"/>
                </a:cubicBezTo>
                <a:cubicBezTo>
                  <a:pt x="21460" y="15397"/>
                  <a:pt x="21748" y="16132"/>
                  <a:pt x="21630" y="16470"/>
                </a:cubicBezTo>
                <a:cubicBezTo>
                  <a:pt x="21609" y="16529"/>
                  <a:pt x="21638" y="16548"/>
                  <a:pt x="21580" y="16594"/>
                </a:cubicBezTo>
                <a:cubicBezTo>
                  <a:pt x="21527" y="16636"/>
                  <a:pt x="21373" y="16608"/>
                  <a:pt x="21307" y="16619"/>
                </a:cubicBezTo>
                <a:cubicBezTo>
                  <a:pt x="21226" y="16632"/>
                  <a:pt x="21145" y="16634"/>
                  <a:pt x="21059" y="16644"/>
                </a:cubicBezTo>
                <a:cubicBezTo>
                  <a:pt x="20941" y="16658"/>
                  <a:pt x="20812" y="16662"/>
                  <a:pt x="20687" y="16669"/>
                </a:cubicBezTo>
                <a:cubicBezTo>
                  <a:pt x="20562" y="16676"/>
                  <a:pt x="20442" y="16691"/>
                  <a:pt x="20315" y="16694"/>
                </a:cubicBezTo>
                <a:cubicBezTo>
                  <a:pt x="20038" y="16702"/>
                  <a:pt x="19771" y="16700"/>
                  <a:pt x="19496" y="16694"/>
                </a:cubicBezTo>
                <a:cubicBezTo>
                  <a:pt x="19114" y="16686"/>
                  <a:pt x="18735" y="16689"/>
                  <a:pt x="18355" y="16669"/>
                </a:cubicBezTo>
                <a:cubicBezTo>
                  <a:pt x="18149" y="16658"/>
                  <a:pt x="17941" y="16635"/>
                  <a:pt x="17735" y="16619"/>
                </a:cubicBezTo>
                <a:cubicBezTo>
                  <a:pt x="17512" y="16602"/>
                  <a:pt x="17289" y="16587"/>
                  <a:pt x="17066" y="16570"/>
                </a:cubicBezTo>
                <a:cubicBezTo>
                  <a:pt x="16842" y="16553"/>
                  <a:pt x="16620" y="16556"/>
                  <a:pt x="16396" y="16545"/>
                </a:cubicBezTo>
                <a:cubicBezTo>
                  <a:pt x="15765" y="16513"/>
                  <a:pt x="15139" y="16528"/>
                  <a:pt x="14511" y="16545"/>
                </a:cubicBezTo>
                <a:cubicBezTo>
                  <a:pt x="14327" y="16550"/>
                  <a:pt x="14148" y="16555"/>
                  <a:pt x="13965" y="16570"/>
                </a:cubicBezTo>
                <a:cubicBezTo>
                  <a:pt x="13793" y="16584"/>
                  <a:pt x="13615" y="16611"/>
                  <a:pt x="13444" y="16619"/>
                </a:cubicBezTo>
                <a:cubicBezTo>
                  <a:pt x="13310" y="16625"/>
                  <a:pt x="13180" y="16638"/>
                  <a:pt x="13047" y="16644"/>
                </a:cubicBezTo>
                <a:cubicBezTo>
                  <a:pt x="12933" y="16649"/>
                  <a:pt x="12810" y="16670"/>
                  <a:pt x="12700" y="16669"/>
                </a:cubicBezTo>
                <a:cubicBezTo>
                  <a:pt x="12622" y="16668"/>
                  <a:pt x="12482" y="16648"/>
                  <a:pt x="12427" y="16594"/>
                </a:cubicBezTo>
                <a:cubicBezTo>
                  <a:pt x="12391" y="16558"/>
                  <a:pt x="12345" y="16349"/>
                  <a:pt x="12328" y="16297"/>
                </a:cubicBezTo>
                <a:cubicBezTo>
                  <a:pt x="12227" y="15991"/>
                  <a:pt x="12170" y="15665"/>
                  <a:pt x="12080" y="15354"/>
                </a:cubicBezTo>
                <a:cubicBezTo>
                  <a:pt x="12010" y="15112"/>
                  <a:pt x="11973" y="14882"/>
                  <a:pt x="11931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5120" y="4795920"/>
            <a:ext cx="1990800" cy="704880"/>
          </a:xfrm>
          <a:custGeom>
            <a:avLst/>
            <a:gdLst/>
            <a:ahLst/>
            <a:rect l="l" t="t" r="r" b="b"/>
            <a:pathLst>
              <a:path w="5532" h="1961">
                <a:moveTo>
                  <a:pt x="2009" y="14163"/>
                </a:moveTo>
                <a:cubicBezTo>
                  <a:pt x="2009" y="14082"/>
                  <a:pt x="1997" y="14015"/>
                  <a:pt x="1984" y="13940"/>
                </a:cubicBezTo>
                <a:cubicBezTo>
                  <a:pt x="1973" y="13874"/>
                  <a:pt x="1981" y="13806"/>
                  <a:pt x="1960" y="13742"/>
                </a:cubicBezTo>
                <a:cubicBezTo>
                  <a:pt x="1938" y="13675"/>
                  <a:pt x="1922" y="13628"/>
                  <a:pt x="1885" y="13568"/>
                </a:cubicBezTo>
                <a:cubicBezTo>
                  <a:pt x="1854" y="13517"/>
                  <a:pt x="1827" y="13463"/>
                  <a:pt x="1786" y="13419"/>
                </a:cubicBezTo>
                <a:cubicBezTo>
                  <a:pt x="1769" y="13400"/>
                  <a:pt x="1711" y="13355"/>
                  <a:pt x="1662" y="13370"/>
                </a:cubicBezTo>
                <a:cubicBezTo>
                  <a:pt x="1623" y="13382"/>
                  <a:pt x="1599" y="13421"/>
                  <a:pt x="1563" y="13444"/>
                </a:cubicBezTo>
                <a:cubicBezTo>
                  <a:pt x="1488" y="13492"/>
                  <a:pt x="1488" y="13546"/>
                  <a:pt x="1439" y="13618"/>
                </a:cubicBezTo>
                <a:cubicBezTo>
                  <a:pt x="1361" y="13732"/>
                  <a:pt x="1355" y="13794"/>
                  <a:pt x="1315" y="13915"/>
                </a:cubicBezTo>
                <a:cubicBezTo>
                  <a:pt x="1282" y="14014"/>
                  <a:pt x="1290" y="14109"/>
                  <a:pt x="1290" y="14213"/>
                </a:cubicBezTo>
                <a:cubicBezTo>
                  <a:pt x="1290" y="14304"/>
                  <a:pt x="1291" y="14401"/>
                  <a:pt x="1315" y="14486"/>
                </a:cubicBezTo>
                <a:cubicBezTo>
                  <a:pt x="1331" y="14544"/>
                  <a:pt x="1384" y="14633"/>
                  <a:pt x="1439" y="14660"/>
                </a:cubicBezTo>
                <a:cubicBezTo>
                  <a:pt x="1508" y="14694"/>
                  <a:pt x="1545" y="14715"/>
                  <a:pt x="1612" y="14684"/>
                </a:cubicBezTo>
                <a:cubicBezTo>
                  <a:pt x="1653" y="14665"/>
                  <a:pt x="1691" y="14595"/>
                  <a:pt x="1712" y="14560"/>
                </a:cubicBezTo>
                <a:cubicBezTo>
                  <a:pt x="1752" y="14494"/>
                  <a:pt x="1764" y="14429"/>
                  <a:pt x="1786" y="14362"/>
                </a:cubicBezTo>
                <a:cubicBezTo>
                  <a:pt x="1807" y="14300"/>
                  <a:pt x="1816" y="14245"/>
                  <a:pt x="1836" y="14188"/>
                </a:cubicBezTo>
                <a:cubicBezTo>
                  <a:pt x="1849" y="14151"/>
                  <a:pt x="1854" y="14130"/>
                  <a:pt x="1860" y="14089"/>
                </a:cubicBezTo>
                <a:cubicBezTo>
                  <a:pt x="1889" y="14137"/>
                  <a:pt x="1885" y="14151"/>
                  <a:pt x="1885" y="14213"/>
                </a:cubicBezTo>
                <a:cubicBezTo>
                  <a:pt x="1885" y="14335"/>
                  <a:pt x="1891" y="14446"/>
                  <a:pt x="1910" y="14560"/>
                </a:cubicBezTo>
                <a:cubicBezTo>
                  <a:pt x="1919" y="14612"/>
                  <a:pt x="1924" y="14682"/>
                  <a:pt x="1984" y="14709"/>
                </a:cubicBezTo>
                <a:cubicBezTo>
                  <a:pt x="1992" y="14709"/>
                  <a:pt x="2001" y="14709"/>
                  <a:pt x="2009" y="14709"/>
                </a:cubicBezTo>
              </a:path>
              <a:path w="5532" h="1961">
                <a:moveTo>
                  <a:pt x="2133" y="14560"/>
                </a:moveTo>
                <a:cubicBezTo>
                  <a:pt x="2115" y="14659"/>
                  <a:pt x="2108" y="14735"/>
                  <a:pt x="2108" y="14833"/>
                </a:cubicBezTo>
                <a:cubicBezTo>
                  <a:pt x="2108" y="14878"/>
                  <a:pt x="2133" y="14910"/>
                  <a:pt x="2133" y="14957"/>
                </a:cubicBezTo>
                <a:cubicBezTo>
                  <a:pt x="2133" y="14965"/>
                  <a:pt x="2133" y="14974"/>
                  <a:pt x="2133" y="14982"/>
                </a:cubicBezTo>
                <a:cubicBezTo>
                  <a:pt x="2159" y="14938"/>
                  <a:pt x="2158" y="14911"/>
                  <a:pt x="2158" y="14858"/>
                </a:cubicBezTo>
                <a:cubicBezTo>
                  <a:pt x="2158" y="14783"/>
                  <a:pt x="2178" y="14729"/>
                  <a:pt x="2183" y="14660"/>
                </a:cubicBezTo>
                <a:cubicBezTo>
                  <a:pt x="2187" y="14596"/>
                  <a:pt x="2215" y="14588"/>
                  <a:pt x="2232" y="14536"/>
                </a:cubicBezTo>
                <a:cubicBezTo>
                  <a:pt x="2246" y="14493"/>
                  <a:pt x="2219" y="14468"/>
                  <a:pt x="2282" y="14461"/>
                </a:cubicBezTo>
                <a:cubicBezTo>
                  <a:pt x="2322" y="14457"/>
                  <a:pt x="2315" y="14510"/>
                  <a:pt x="2332" y="14536"/>
                </a:cubicBezTo>
                <a:cubicBezTo>
                  <a:pt x="2353" y="14569"/>
                  <a:pt x="2373" y="14641"/>
                  <a:pt x="2381" y="14684"/>
                </a:cubicBezTo>
                <a:cubicBezTo>
                  <a:pt x="2393" y="14749"/>
                  <a:pt x="2385" y="14799"/>
                  <a:pt x="2406" y="14858"/>
                </a:cubicBezTo>
                <a:cubicBezTo>
                  <a:pt x="2426" y="14914"/>
                  <a:pt x="2475" y="14958"/>
                  <a:pt x="2505" y="15007"/>
                </a:cubicBezTo>
                <a:cubicBezTo>
                  <a:pt x="2530" y="15049"/>
                  <a:pt x="2578" y="15113"/>
                  <a:pt x="2629" y="15106"/>
                </a:cubicBezTo>
                <a:cubicBezTo>
                  <a:pt x="2646" y="15098"/>
                  <a:pt x="2662" y="15089"/>
                  <a:pt x="2679" y="15081"/>
                </a:cubicBezTo>
              </a:path>
              <a:path w="5532" h="1961">
                <a:moveTo>
                  <a:pt x="2679" y="13940"/>
                </a:moveTo>
                <a:cubicBezTo>
                  <a:pt x="2710" y="13926"/>
                  <a:pt x="2774" y="13897"/>
                  <a:pt x="2803" y="13891"/>
                </a:cubicBezTo>
                <a:cubicBezTo>
                  <a:pt x="2863" y="13879"/>
                  <a:pt x="2940" y="13891"/>
                  <a:pt x="3001" y="13891"/>
                </a:cubicBezTo>
              </a:path>
              <a:path w="5532" h="1961">
                <a:moveTo>
                  <a:pt x="2679" y="14188"/>
                </a:moveTo>
                <a:cubicBezTo>
                  <a:pt x="2754" y="14188"/>
                  <a:pt x="2808" y="14175"/>
                  <a:pt x="2877" y="14163"/>
                </a:cubicBezTo>
                <a:cubicBezTo>
                  <a:pt x="2940" y="14152"/>
                  <a:pt x="2971" y="14171"/>
                  <a:pt x="3026" y="14139"/>
                </a:cubicBezTo>
              </a:path>
              <a:path w="5532" h="1961">
                <a:moveTo>
                  <a:pt x="3473" y="13618"/>
                </a:moveTo>
                <a:cubicBezTo>
                  <a:pt x="3523" y="13618"/>
                  <a:pt x="3531" y="13607"/>
                  <a:pt x="3572" y="13593"/>
                </a:cubicBezTo>
                <a:cubicBezTo>
                  <a:pt x="3645" y="13569"/>
                  <a:pt x="3766" y="13593"/>
                  <a:pt x="3845" y="13593"/>
                </a:cubicBezTo>
              </a:path>
              <a:path w="5532" h="1961">
                <a:moveTo>
                  <a:pt x="3448" y="13593"/>
                </a:moveTo>
                <a:cubicBezTo>
                  <a:pt x="3429" y="13649"/>
                  <a:pt x="3408" y="13710"/>
                  <a:pt x="3398" y="13767"/>
                </a:cubicBezTo>
                <a:cubicBezTo>
                  <a:pt x="3391" y="13807"/>
                  <a:pt x="3375" y="13996"/>
                  <a:pt x="3423" y="14015"/>
                </a:cubicBezTo>
                <a:cubicBezTo>
                  <a:pt x="3453" y="14027"/>
                  <a:pt x="3502" y="14002"/>
                  <a:pt x="3522" y="13990"/>
                </a:cubicBezTo>
                <a:cubicBezTo>
                  <a:pt x="3547" y="13975"/>
                  <a:pt x="3544" y="13968"/>
                  <a:pt x="3597" y="13965"/>
                </a:cubicBezTo>
                <a:cubicBezTo>
                  <a:pt x="3657" y="13961"/>
                  <a:pt x="3710" y="13989"/>
                  <a:pt x="3746" y="14039"/>
                </a:cubicBezTo>
                <a:cubicBezTo>
                  <a:pt x="3783" y="14090"/>
                  <a:pt x="3834" y="14137"/>
                  <a:pt x="3870" y="14188"/>
                </a:cubicBezTo>
                <a:cubicBezTo>
                  <a:pt x="3909" y="14244"/>
                  <a:pt x="3926" y="14298"/>
                  <a:pt x="3944" y="14362"/>
                </a:cubicBezTo>
                <a:cubicBezTo>
                  <a:pt x="3968" y="14446"/>
                  <a:pt x="3969" y="14501"/>
                  <a:pt x="3969" y="14585"/>
                </a:cubicBezTo>
                <a:cubicBezTo>
                  <a:pt x="3969" y="14636"/>
                  <a:pt x="3950" y="14695"/>
                  <a:pt x="3919" y="14734"/>
                </a:cubicBezTo>
                <a:cubicBezTo>
                  <a:pt x="3896" y="14762"/>
                  <a:pt x="3852" y="14800"/>
                  <a:pt x="3820" y="14808"/>
                </a:cubicBezTo>
                <a:cubicBezTo>
                  <a:pt x="3764" y="14822"/>
                  <a:pt x="3701" y="14768"/>
                  <a:pt x="3646" y="14759"/>
                </a:cubicBezTo>
                <a:cubicBezTo>
                  <a:pt x="3576" y="14747"/>
                  <a:pt x="3510" y="14726"/>
                  <a:pt x="3448" y="14684"/>
                </a:cubicBezTo>
                <a:cubicBezTo>
                  <a:pt x="3430" y="14672"/>
                  <a:pt x="3355" y="14626"/>
                  <a:pt x="3349" y="14610"/>
                </a:cubicBezTo>
                <a:cubicBezTo>
                  <a:pt x="3349" y="14585"/>
                  <a:pt x="3349" y="14577"/>
                  <a:pt x="3349" y="14560"/>
                </a:cubicBezTo>
              </a:path>
              <a:path w="5532" h="1961">
                <a:moveTo>
                  <a:pt x="4564" y="13618"/>
                </a:moveTo>
                <a:cubicBezTo>
                  <a:pt x="4627" y="13555"/>
                  <a:pt x="4546" y="13658"/>
                  <a:pt x="4539" y="13667"/>
                </a:cubicBezTo>
                <a:cubicBezTo>
                  <a:pt x="4504" y="13713"/>
                  <a:pt x="4462" y="13762"/>
                  <a:pt x="4440" y="13816"/>
                </a:cubicBezTo>
                <a:cubicBezTo>
                  <a:pt x="4404" y="13903"/>
                  <a:pt x="4373" y="14023"/>
                  <a:pt x="4366" y="14114"/>
                </a:cubicBezTo>
                <a:cubicBezTo>
                  <a:pt x="4357" y="14227"/>
                  <a:pt x="4354" y="14301"/>
                  <a:pt x="4366" y="14412"/>
                </a:cubicBezTo>
                <a:cubicBezTo>
                  <a:pt x="4378" y="14518"/>
                  <a:pt x="4406" y="14606"/>
                  <a:pt x="4440" y="14709"/>
                </a:cubicBezTo>
                <a:cubicBezTo>
                  <a:pt x="4470" y="14799"/>
                  <a:pt x="4527" y="14887"/>
                  <a:pt x="4589" y="14957"/>
                </a:cubicBezTo>
                <a:cubicBezTo>
                  <a:pt x="4636" y="15010"/>
                  <a:pt x="4684" y="15050"/>
                  <a:pt x="4738" y="15081"/>
                </a:cubicBezTo>
              </a:path>
              <a:path w="5532" h="1961">
                <a:moveTo>
                  <a:pt x="4614" y="14163"/>
                </a:moveTo>
                <a:cubicBezTo>
                  <a:pt x="4663" y="14163"/>
                  <a:pt x="4700" y="14180"/>
                  <a:pt x="4738" y="14188"/>
                </a:cubicBezTo>
                <a:cubicBezTo>
                  <a:pt x="4789" y="14188"/>
                  <a:pt x="4808" y="14187"/>
                  <a:pt x="4837" y="14163"/>
                </a:cubicBezTo>
              </a:path>
              <a:path w="5532" h="1961">
                <a:moveTo>
                  <a:pt x="5011" y="13767"/>
                </a:moveTo>
                <a:cubicBezTo>
                  <a:pt x="5078" y="13728"/>
                  <a:pt x="5087" y="13716"/>
                  <a:pt x="5159" y="13742"/>
                </a:cubicBezTo>
                <a:cubicBezTo>
                  <a:pt x="5221" y="13764"/>
                  <a:pt x="5251" y="13813"/>
                  <a:pt x="5283" y="13866"/>
                </a:cubicBezTo>
                <a:cubicBezTo>
                  <a:pt x="5333" y="13949"/>
                  <a:pt x="5338" y="14027"/>
                  <a:pt x="5358" y="14114"/>
                </a:cubicBezTo>
                <a:cubicBezTo>
                  <a:pt x="5380" y="14210"/>
                  <a:pt x="5383" y="14287"/>
                  <a:pt x="5383" y="14387"/>
                </a:cubicBezTo>
                <a:cubicBezTo>
                  <a:pt x="5383" y="14484"/>
                  <a:pt x="5344" y="14570"/>
                  <a:pt x="5333" y="14660"/>
                </a:cubicBezTo>
                <a:cubicBezTo>
                  <a:pt x="5323" y="14743"/>
                  <a:pt x="5317" y="14792"/>
                  <a:pt x="5259" y="14858"/>
                </a:cubicBezTo>
                <a:cubicBezTo>
                  <a:pt x="5234" y="14887"/>
                  <a:pt x="5199" y="14935"/>
                  <a:pt x="5159" y="14932"/>
                </a:cubicBezTo>
                <a:cubicBezTo>
                  <a:pt x="5131" y="14930"/>
                  <a:pt x="5096" y="14852"/>
                  <a:pt x="5085" y="14833"/>
                </a:cubicBezTo>
                <a:cubicBezTo>
                  <a:pt x="5059" y="14789"/>
                  <a:pt x="5062" y="14740"/>
                  <a:pt x="5060" y="14684"/>
                </a:cubicBezTo>
                <a:cubicBezTo>
                  <a:pt x="5057" y="14624"/>
                  <a:pt x="5076" y="14583"/>
                  <a:pt x="5085" y="14536"/>
                </a:cubicBezTo>
                <a:cubicBezTo>
                  <a:pt x="5097" y="14475"/>
                  <a:pt x="5097" y="14496"/>
                  <a:pt x="5135" y="14461"/>
                </a:cubicBezTo>
                <a:cubicBezTo>
                  <a:pt x="5180" y="14419"/>
                  <a:pt x="5188" y="14465"/>
                  <a:pt x="5209" y="14486"/>
                </a:cubicBezTo>
                <a:cubicBezTo>
                  <a:pt x="5263" y="14540"/>
                  <a:pt x="5275" y="14584"/>
                  <a:pt x="5308" y="14635"/>
                </a:cubicBezTo>
                <a:cubicBezTo>
                  <a:pt x="5337" y="14679"/>
                  <a:pt x="5421" y="14777"/>
                  <a:pt x="5457" y="14808"/>
                </a:cubicBezTo>
                <a:cubicBezTo>
                  <a:pt x="5537" y="14877"/>
                  <a:pt x="5631" y="14930"/>
                  <a:pt x="5730" y="14957"/>
                </a:cubicBezTo>
              </a:path>
              <a:path w="5532" h="1961">
                <a:moveTo>
                  <a:pt x="5556" y="13519"/>
                </a:moveTo>
                <a:cubicBezTo>
                  <a:pt x="5599" y="13561"/>
                  <a:pt x="5606" y="13555"/>
                  <a:pt x="5631" y="13618"/>
                </a:cubicBezTo>
                <a:cubicBezTo>
                  <a:pt x="5682" y="13747"/>
                  <a:pt x="5732" y="13828"/>
                  <a:pt x="5779" y="13965"/>
                </a:cubicBezTo>
                <a:cubicBezTo>
                  <a:pt x="5817" y="14076"/>
                  <a:pt x="5885" y="14226"/>
                  <a:pt x="5904" y="14337"/>
                </a:cubicBezTo>
                <a:cubicBezTo>
                  <a:pt x="5925" y="14460"/>
                  <a:pt x="5949" y="14608"/>
                  <a:pt x="5953" y="14734"/>
                </a:cubicBezTo>
                <a:cubicBezTo>
                  <a:pt x="5957" y="14850"/>
                  <a:pt x="5967" y="14971"/>
                  <a:pt x="5928" y="15081"/>
                </a:cubicBezTo>
                <a:cubicBezTo>
                  <a:pt x="5906" y="15142"/>
                  <a:pt x="5874" y="15185"/>
                  <a:pt x="5829" y="15230"/>
                </a:cubicBezTo>
                <a:cubicBezTo>
                  <a:pt x="5803" y="15256"/>
                  <a:pt x="5804" y="15301"/>
                  <a:pt x="5755" y="15280"/>
                </a:cubicBezTo>
                <a:cubicBezTo>
                  <a:pt x="5755" y="15272"/>
                  <a:pt x="5755" y="15263"/>
                  <a:pt x="5755" y="15255"/>
                </a:cubicBezTo>
              </a:path>
              <a:path w="5532" h="1961">
                <a:moveTo>
                  <a:pt x="5904" y="13568"/>
                </a:moveTo>
                <a:cubicBezTo>
                  <a:pt x="5912" y="13625"/>
                  <a:pt x="5928" y="13656"/>
                  <a:pt x="5928" y="13717"/>
                </a:cubicBezTo>
                <a:cubicBezTo>
                  <a:pt x="5928" y="13754"/>
                  <a:pt x="5928" y="13930"/>
                  <a:pt x="5928" y="13891"/>
                </a:cubicBezTo>
                <a:cubicBezTo>
                  <a:pt x="5928" y="13838"/>
                  <a:pt x="5948" y="13821"/>
                  <a:pt x="5953" y="13767"/>
                </a:cubicBezTo>
                <a:cubicBezTo>
                  <a:pt x="5959" y="13692"/>
                  <a:pt x="5959" y="13633"/>
                  <a:pt x="5978" y="13568"/>
                </a:cubicBezTo>
                <a:cubicBezTo>
                  <a:pt x="5989" y="13531"/>
                  <a:pt x="5999" y="13479"/>
                  <a:pt x="6003" y="13444"/>
                </a:cubicBezTo>
                <a:cubicBezTo>
                  <a:pt x="6007" y="13404"/>
                  <a:pt x="6024" y="13380"/>
                  <a:pt x="6052" y="13370"/>
                </a:cubicBezTo>
                <a:cubicBezTo>
                  <a:pt x="6111" y="13429"/>
                  <a:pt x="6087" y="13473"/>
                  <a:pt x="6127" y="13543"/>
                </a:cubicBezTo>
                <a:cubicBezTo>
                  <a:pt x="6157" y="13596"/>
                  <a:pt x="6151" y="13663"/>
                  <a:pt x="6176" y="13717"/>
                </a:cubicBezTo>
                <a:cubicBezTo>
                  <a:pt x="6199" y="13767"/>
                  <a:pt x="6226" y="13821"/>
                  <a:pt x="6251" y="13866"/>
                </a:cubicBezTo>
                <a:cubicBezTo>
                  <a:pt x="6267" y="13896"/>
                  <a:pt x="6285" y="13957"/>
                  <a:pt x="6300" y="13965"/>
                </a:cubicBezTo>
                <a:cubicBezTo>
                  <a:pt x="6308" y="13965"/>
                  <a:pt x="6317" y="13965"/>
                  <a:pt x="6325" y="13965"/>
                </a:cubicBezTo>
              </a:path>
              <a:path w="5532" h="1961">
                <a:moveTo>
                  <a:pt x="6375" y="13717"/>
                </a:moveTo>
                <a:cubicBezTo>
                  <a:pt x="6427" y="13717"/>
                  <a:pt x="6507" y="13756"/>
                  <a:pt x="6548" y="13742"/>
                </a:cubicBezTo>
                <a:cubicBezTo>
                  <a:pt x="6556" y="13734"/>
                  <a:pt x="6565" y="13725"/>
                  <a:pt x="6573" y="13717"/>
                </a:cubicBezTo>
              </a:path>
              <a:path w="5532" h="1961">
                <a:moveTo>
                  <a:pt x="6747" y="13320"/>
                </a:moveTo>
                <a:cubicBezTo>
                  <a:pt x="6747" y="13398"/>
                  <a:pt x="6761" y="13444"/>
                  <a:pt x="6772" y="13519"/>
                </a:cubicBezTo>
                <a:cubicBezTo>
                  <a:pt x="6783" y="13592"/>
                  <a:pt x="6786" y="13669"/>
                  <a:pt x="6796" y="13742"/>
                </a:cubicBezTo>
                <a:cubicBezTo>
                  <a:pt x="6806" y="13816"/>
                  <a:pt x="6818" y="13893"/>
                  <a:pt x="6821" y="13965"/>
                </a:cubicBezTo>
                <a:cubicBezTo>
                  <a:pt x="6821" y="13998"/>
                  <a:pt x="6821" y="14031"/>
                  <a:pt x="6821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5120" y="4429080"/>
            <a:ext cx="492120" cy="339840"/>
          </a:xfrm>
          <a:custGeom>
            <a:avLst/>
            <a:gdLst/>
            <a:ahLst/>
            <a:rect l="l" t="t" r="r" b="b"/>
            <a:pathLst>
              <a:path w="1366" h="944">
                <a:moveTo>
                  <a:pt x="13643" y="12303"/>
                </a:moveTo>
                <a:cubicBezTo>
                  <a:pt x="13643" y="12352"/>
                  <a:pt x="13654" y="12362"/>
                  <a:pt x="13667" y="12402"/>
                </a:cubicBezTo>
                <a:cubicBezTo>
                  <a:pt x="13705" y="12519"/>
                  <a:pt x="13660" y="12714"/>
                  <a:pt x="13643" y="12824"/>
                </a:cubicBezTo>
                <a:cubicBezTo>
                  <a:pt x="13629" y="12916"/>
                  <a:pt x="13634" y="13009"/>
                  <a:pt x="13618" y="13097"/>
                </a:cubicBezTo>
                <a:cubicBezTo>
                  <a:pt x="13609" y="13145"/>
                  <a:pt x="13619" y="13182"/>
                  <a:pt x="13593" y="13221"/>
                </a:cubicBezTo>
                <a:cubicBezTo>
                  <a:pt x="13585" y="13229"/>
                  <a:pt x="13576" y="13238"/>
                  <a:pt x="13568" y="13246"/>
                </a:cubicBezTo>
                <a:cubicBezTo>
                  <a:pt x="13568" y="13200"/>
                  <a:pt x="13546" y="13187"/>
                  <a:pt x="13543" y="13146"/>
                </a:cubicBezTo>
                <a:cubicBezTo>
                  <a:pt x="13537" y="13057"/>
                  <a:pt x="13554" y="12980"/>
                  <a:pt x="13568" y="12898"/>
                </a:cubicBezTo>
                <a:cubicBezTo>
                  <a:pt x="13579" y="12833"/>
                  <a:pt x="13593" y="12738"/>
                  <a:pt x="13618" y="12675"/>
                </a:cubicBezTo>
                <a:cubicBezTo>
                  <a:pt x="13637" y="12628"/>
                  <a:pt x="13690" y="12593"/>
                  <a:pt x="13717" y="12551"/>
                </a:cubicBezTo>
                <a:cubicBezTo>
                  <a:pt x="13747" y="12505"/>
                  <a:pt x="13805" y="12472"/>
                  <a:pt x="13866" y="12452"/>
                </a:cubicBezTo>
                <a:cubicBezTo>
                  <a:pt x="13895" y="12442"/>
                  <a:pt x="13987" y="12420"/>
                  <a:pt x="14015" y="12427"/>
                </a:cubicBezTo>
                <a:cubicBezTo>
                  <a:pt x="14065" y="12439"/>
                  <a:pt x="14120" y="12464"/>
                  <a:pt x="14163" y="12477"/>
                </a:cubicBezTo>
                <a:cubicBezTo>
                  <a:pt x="14211" y="12492"/>
                  <a:pt x="14219" y="12469"/>
                  <a:pt x="14263" y="12502"/>
                </a:cubicBezTo>
              </a:path>
              <a:path w="1366" h="944">
                <a:moveTo>
                  <a:pt x="14660" y="12477"/>
                </a:moveTo>
                <a:cubicBezTo>
                  <a:pt x="14746" y="12477"/>
                  <a:pt x="14811" y="12476"/>
                  <a:pt x="14883" y="12452"/>
                </a:cubicBezTo>
                <a:cubicBezTo>
                  <a:pt x="14891" y="12452"/>
                  <a:pt x="14900" y="12452"/>
                  <a:pt x="14908" y="12452"/>
                </a:cubicBezTo>
              </a:path>
              <a:path w="1366" h="944">
                <a:moveTo>
                  <a:pt x="14486" y="12774"/>
                </a:moveTo>
                <a:cubicBezTo>
                  <a:pt x="14584" y="12774"/>
                  <a:pt x="14667" y="12772"/>
                  <a:pt x="14759" y="12750"/>
                </a:cubicBezTo>
                <a:cubicBezTo>
                  <a:pt x="14803" y="12739"/>
                  <a:pt x="14863" y="12750"/>
                  <a:pt x="14908" y="12750"/>
                </a:cubicBezTo>
                <a:cubicBezTo>
                  <a:pt x="14883" y="12750"/>
                  <a:pt x="14875" y="12750"/>
                  <a:pt x="14883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43720" y="4303800"/>
            <a:ext cx="473040" cy="455400"/>
          </a:xfrm>
          <a:custGeom>
            <a:avLst/>
            <a:gdLst/>
            <a:ahLst/>
            <a:rect l="l" t="t" r="r" b="b"/>
            <a:pathLst>
              <a:path w="1315" h="1266">
                <a:moveTo>
                  <a:pt x="15726" y="12005"/>
                </a:moveTo>
                <a:cubicBezTo>
                  <a:pt x="15726" y="12096"/>
                  <a:pt x="15717" y="12177"/>
                  <a:pt x="15701" y="12254"/>
                </a:cubicBezTo>
                <a:cubicBezTo>
                  <a:pt x="15687" y="12324"/>
                  <a:pt x="15697" y="12389"/>
                  <a:pt x="15677" y="12452"/>
                </a:cubicBezTo>
                <a:cubicBezTo>
                  <a:pt x="15666" y="12487"/>
                  <a:pt x="15683" y="12501"/>
                  <a:pt x="15701" y="12526"/>
                </a:cubicBezTo>
              </a:path>
              <a:path w="1315" h="1266">
                <a:moveTo>
                  <a:pt x="16272" y="11956"/>
                </a:moveTo>
                <a:cubicBezTo>
                  <a:pt x="16251" y="12005"/>
                  <a:pt x="16241" y="12058"/>
                  <a:pt x="16222" y="12105"/>
                </a:cubicBezTo>
                <a:cubicBezTo>
                  <a:pt x="16194" y="12173"/>
                  <a:pt x="16177" y="12238"/>
                  <a:pt x="16148" y="12303"/>
                </a:cubicBezTo>
                <a:cubicBezTo>
                  <a:pt x="16111" y="12386"/>
                  <a:pt x="16080" y="12472"/>
                  <a:pt x="16049" y="12551"/>
                </a:cubicBezTo>
                <a:cubicBezTo>
                  <a:pt x="16016" y="12634"/>
                  <a:pt x="15965" y="12698"/>
                  <a:pt x="15925" y="12774"/>
                </a:cubicBezTo>
                <a:cubicBezTo>
                  <a:pt x="15889" y="12843"/>
                  <a:pt x="15823" y="12905"/>
                  <a:pt x="15801" y="12973"/>
                </a:cubicBezTo>
                <a:cubicBezTo>
                  <a:pt x="15786" y="13019"/>
                  <a:pt x="15683" y="13050"/>
                  <a:pt x="15726" y="13072"/>
                </a:cubicBezTo>
                <a:cubicBezTo>
                  <a:pt x="15766" y="13072"/>
                  <a:pt x="15785" y="13061"/>
                  <a:pt x="15801" y="13022"/>
                </a:cubicBezTo>
              </a:path>
              <a:path w="1315" h="1266">
                <a:moveTo>
                  <a:pt x="16371" y="12502"/>
                </a:moveTo>
                <a:cubicBezTo>
                  <a:pt x="16377" y="12484"/>
                  <a:pt x="16415" y="12441"/>
                  <a:pt x="16446" y="12427"/>
                </a:cubicBezTo>
                <a:cubicBezTo>
                  <a:pt x="16489" y="12408"/>
                  <a:pt x="16556" y="12378"/>
                  <a:pt x="16594" y="12353"/>
                </a:cubicBezTo>
                <a:cubicBezTo>
                  <a:pt x="16640" y="12323"/>
                  <a:pt x="16661" y="12303"/>
                  <a:pt x="16718" y="12303"/>
                </a:cubicBezTo>
                <a:cubicBezTo>
                  <a:pt x="16779" y="12303"/>
                  <a:pt x="16787" y="12304"/>
                  <a:pt x="16818" y="12328"/>
                </a:cubicBezTo>
                <a:cubicBezTo>
                  <a:pt x="16843" y="12348"/>
                  <a:pt x="16864" y="12398"/>
                  <a:pt x="16867" y="12427"/>
                </a:cubicBezTo>
                <a:cubicBezTo>
                  <a:pt x="16872" y="12470"/>
                  <a:pt x="16825" y="12490"/>
                  <a:pt x="16818" y="12526"/>
                </a:cubicBezTo>
                <a:cubicBezTo>
                  <a:pt x="16803" y="12597"/>
                  <a:pt x="16770" y="12590"/>
                  <a:pt x="16743" y="12650"/>
                </a:cubicBezTo>
                <a:cubicBezTo>
                  <a:pt x="16728" y="12684"/>
                  <a:pt x="16679" y="12733"/>
                  <a:pt x="16669" y="12750"/>
                </a:cubicBezTo>
                <a:cubicBezTo>
                  <a:pt x="16669" y="12774"/>
                  <a:pt x="16669" y="12782"/>
                  <a:pt x="16644" y="12774"/>
                </a:cubicBezTo>
                <a:cubicBezTo>
                  <a:pt x="16678" y="12763"/>
                  <a:pt x="16675" y="12740"/>
                  <a:pt x="16718" y="12725"/>
                </a:cubicBezTo>
                <a:cubicBezTo>
                  <a:pt x="16773" y="12706"/>
                  <a:pt x="16825" y="12736"/>
                  <a:pt x="16867" y="12750"/>
                </a:cubicBezTo>
                <a:cubicBezTo>
                  <a:pt x="16912" y="12765"/>
                  <a:pt x="16922" y="12771"/>
                  <a:pt x="16942" y="12799"/>
                </a:cubicBezTo>
                <a:cubicBezTo>
                  <a:pt x="16974" y="12843"/>
                  <a:pt x="16991" y="12842"/>
                  <a:pt x="16991" y="12898"/>
                </a:cubicBezTo>
                <a:cubicBezTo>
                  <a:pt x="16991" y="12938"/>
                  <a:pt x="16985" y="12990"/>
                  <a:pt x="16966" y="13022"/>
                </a:cubicBezTo>
                <a:cubicBezTo>
                  <a:pt x="16937" y="13072"/>
                  <a:pt x="16850" y="13152"/>
                  <a:pt x="16793" y="13171"/>
                </a:cubicBezTo>
                <a:cubicBezTo>
                  <a:pt x="16730" y="13192"/>
                  <a:pt x="16720" y="13221"/>
                  <a:pt x="16644" y="13221"/>
                </a:cubicBezTo>
                <a:cubicBezTo>
                  <a:pt x="16588" y="13221"/>
                  <a:pt x="16570" y="13208"/>
                  <a:pt x="16545" y="13196"/>
                </a:cubicBezTo>
                <a:cubicBezTo>
                  <a:pt x="16538" y="13192"/>
                  <a:pt x="16425" y="13196"/>
                  <a:pt x="16495" y="13196"/>
                </a:cubicBezTo>
                <a:cubicBezTo>
                  <a:pt x="16503" y="13196"/>
                  <a:pt x="16512" y="13196"/>
                  <a:pt x="16520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973680"/>
            <a:ext cx="108000" cy="206280"/>
          </a:xfrm>
          <a:custGeom>
            <a:avLst/>
            <a:gdLst/>
            <a:ahLst/>
            <a:rect l="l" t="t" r="r" b="b"/>
            <a:pathLst>
              <a:path w="298" h="572">
                <a:moveTo>
                  <a:pt x="17735" y="11038"/>
                </a:moveTo>
                <a:cubicBezTo>
                  <a:pt x="17727" y="11038"/>
                  <a:pt x="17719" y="11038"/>
                  <a:pt x="17711" y="11038"/>
                </a:cubicBezTo>
                <a:cubicBezTo>
                  <a:pt x="17747" y="11051"/>
                  <a:pt x="17735" y="11068"/>
                  <a:pt x="17735" y="11112"/>
                </a:cubicBezTo>
                <a:cubicBezTo>
                  <a:pt x="17735" y="11151"/>
                  <a:pt x="17711" y="11168"/>
                  <a:pt x="17711" y="11212"/>
                </a:cubicBezTo>
                <a:cubicBezTo>
                  <a:pt x="17711" y="11288"/>
                  <a:pt x="17684" y="11293"/>
                  <a:pt x="17661" y="11361"/>
                </a:cubicBezTo>
                <a:cubicBezTo>
                  <a:pt x="17648" y="11399"/>
                  <a:pt x="17614" y="11449"/>
                  <a:pt x="17587" y="11485"/>
                </a:cubicBezTo>
                <a:cubicBezTo>
                  <a:pt x="17552" y="11531"/>
                  <a:pt x="17491" y="11595"/>
                  <a:pt x="17438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3606840"/>
            <a:ext cx="955800" cy="536400"/>
          </a:xfrm>
          <a:custGeom>
            <a:avLst/>
            <a:gdLst/>
            <a:ahLst/>
            <a:rect l="l" t="t" r="r" b="b"/>
            <a:pathLst>
              <a:path w="2656" h="1489">
                <a:moveTo>
                  <a:pt x="18653" y="10120"/>
                </a:moveTo>
                <a:cubicBezTo>
                  <a:pt x="18636" y="10182"/>
                  <a:pt x="18621" y="10241"/>
                  <a:pt x="18604" y="10294"/>
                </a:cubicBezTo>
                <a:cubicBezTo>
                  <a:pt x="18593" y="10328"/>
                  <a:pt x="18585" y="10408"/>
                  <a:pt x="18579" y="10443"/>
                </a:cubicBezTo>
                <a:cubicBezTo>
                  <a:pt x="18568" y="10507"/>
                  <a:pt x="18558" y="10578"/>
                  <a:pt x="18554" y="10641"/>
                </a:cubicBezTo>
                <a:cubicBezTo>
                  <a:pt x="18550" y="10712"/>
                  <a:pt x="18529" y="10766"/>
                  <a:pt x="18529" y="10840"/>
                </a:cubicBezTo>
                <a:cubicBezTo>
                  <a:pt x="18529" y="10898"/>
                  <a:pt x="18504" y="10926"/>
                  <a:pt x="18504" y="10988"/>
                </a:cubicBezTo>
                <a:cubicBezTo>
                  <a:pt x="18504" y="11044"/>
                  <a:pt x="18479" y="11081"/>
                  <a:pt x="18479" y="11137"/>
                </a:cubicBezTo>
                <a:cubicBezTo>
                  <a:pt x="18479" y="11145"/>
                  <a:pt x="18479" y="11154"/>
                  <a:pt x="18479" y="11162"/>
                </a:cubicBezTo>
              </a:path>
              <a:path w="2656" h="1489">
                <a:moveTo>
                  <a:pt x="19000" y="10294"/>
                </a:moveTo>
                <a:cubicBezTo>
                  <a:pt x="19020" y="10269"/>
                  <a:pt x="19033" y="10211"/>
                  <a:pt x="19050" y="10195"/>
                </a:cubicBezTo>
                <a:cubicBezTo>
                  <a:pt x="19080" y="10168"/>
                  <a:pt x="19141" y="10162"/>
                  <a:pt x="19174" y="10145"/>
                </a:cubicBezTo>
                <a:cubicBezTo>
                  <a:pt x="19224" y="10120"/>
                  <a:pt x="19235" y="10100"/>
                  <a:pt x="19298" y="10096"/>
                </a:cubicBezTo>
                <a:cubicBezTo>
                  <a:pt x="19347" y="10093"/>
                  <a:pt x="19357" y="10099"/>
                  <a:pt x="19397" y="10120"/>
                </a:cubicBezTo>
                <a:cubicBezTo>
                  <a:pt x="19420" y="10132"/>
                  <a:pt x="19485" y="10138"/>
                  <a:pt x="19496" y="10170"/>
                </a:cubicBezTo>
                <a:cubicBezTo>
                  <a:pt x="19506" y="10197"/>
                  <a:pt x="19529" y="10269"/>
                  <a:pt x="19521" y="10294"/>
                </a:cubicBezTo>
                <a:cubicBezTo>
                  <a:pt x="19509" y="10330"/>
                  <a:pt x="19496" y="10387"/>
                  <a:pt x="19472" y="10418"/>
                </a:cubicBezTo>
                <a:cubicBezTo>
                  <a:pt x="19439" y="10460"/>
                  <a:pt x="19425" y="10514"/>
                  <a:pt x="19397" y="10567"/>
                </a:cubicBezTo>
                <a:cubicBezTo>
                  <a:pt x="19368" y="10621"/>
                  <a:pt x="19329" y="10665"/>
                  <a:pt x="19298" y="10716"/>
                </a:cubicBezTo>
                <a:cubicBezTo>
                  <a:pt x="19270" y="10762"/>
                  <a:pt x="19249" y="10822"/>
                  <a:pt x="19224" y="10864"/>
                </a:cubicBezTo>
                <a:cubicBezTo>
                  <a:pt x="19199" y="10905"/>
                  <a:pt x="19156" y="10953"/>
                  <a:pt x="19124" y="10988"/>
                </a:cubicBezTo>
                <a:cubicBezTo>
                  <a:pt x="19091" y="11026"/>
                  <a:pt x="19074" y="11078"/>
                  <a:pt x="19050" y="11112"/>
                </a:cubicBezTo>
                <a:cubicBezTo>
                  <a:pt x="19034" y="11135"/>
                  <a:pt x="19010" y="11181"/>
                  <a:pt x="19000" y="11187"/>
                </a:cubicBezTo>
                <a:cubicBezTo>
                  <a:pt x="18992" y="11187"/>
                  <a:pt x="18984" y="11187"/>
                  <a:pt x="18976" y="11187"/>
                </a:cubicBezTo>
                <a:cubicBezTo>
                  <a:pt x="19015" y="11182"/>
                  <a:pt x="19045" y="11168"/>
                  <a:pt x="19075" y="11162"/>
                </a:cubicBezTo>
                <a:cubicBezTo>
                  <a:pt x="19130" y="11151"/>
                  <a:pt x="19171" y="11179"/>
                  <a:pt x="19224" y="11187"/>
                </a:cubicBezTo>
                <a:cubicBezTo>
                  <a:pt x="19262" y="11193"/>
                  <a:pt x="19293" y="11206"/>
                  <a:pt x="19323" y="11212"/>
                </a:cubicBezTo>
                <a:cubicBezTo>
                  <a:pt x="19405" y="11229"/>
                  <a:pt x="19513" y="11212"/>
                  <a:pt x="19596" y="11212"/>
                </a:cubicBezTo>
              </a:path>
              <a:path w="2656" h="1489">
                <a:moveTo>
                  <a:pt x="20042" y="11261"/>
                </a:moveTo>
                <a:cubicBezTo>
                  <a:pt x="20033" y="11321"/>
                  <a:pt x="20009" y="11335"/>
                  <a:pt x="19993" y="11385"/>
                </a:cubicBezTo>
                <a:cubicBezTo>
                  <a:pt x="19979" y="11428"/>
                  <a:pt x="19928" y="11465"/>
                  <a:pt x="19918" y="11485"/>
                </a:cubicBezTo>
                <a:cubicBezTo>
                  <a:pt x="19918" y="11513"/>
                  <a:pt x="19915" y="11518"/>
                  <a:pt x="19893" y="11485"/>
                </a:cubicBezTo>
              </a:path>
              <a:path w="2656" h="1489">
                <a:moveTo>
                  <a:pt x="20538" y="10120"/>
                </a:moveTo>
                <a:cubicBezTo>
                  <a:pt x="20538" y="10166"/>
                  <a:pt x="20518" y="10179"/>
                  <a:pt x="20513" y="10220"/>
                </a:cubicBezTo>
                <a:cubicBezTo>
                  <a:pt x="20508" y="10261"/>
                  <a:pt x="20493" y="10281"/>
                  <a:pt x="20489" y="10319"/>
                </a:cubicBezTo>
                <a:cubicBezTo>
                  <a:pt x="20487" y="10339"/>
                  <a:pt x="20474" y="10400"/>
                  <a:pt x="20464" y="10418"/>
                </a:cubicBezTo>
                <a:cubicBezTo>
                  <a:pt x="20443" y="10456"/>
                  <a:pt x="20419" y="10498"/>
                  <a:pt x="20414" y="10542"/>
                </a:cubicBezTo>
                <a:cubicBezTo>
                  <a:pt x="20409" y="10587"/>
                  <a:pt x="20389" y="10619"/>
                  <a:pt x="20389" y="10666"/>
                </a:cubicBezTo>
                <a:cubicBezTo>
                  <a:pt x="20389" y="10674"/>
                  <a:pt x="20389" y="10683"/>
                  <a:pt x="20389" y="10691"/>
                </a:cubicBezTo>
                <a:cubicBezTo>
                  <a:pt x="20427" y="10704"/>
                  <a:pt x="20410" y="10716"/>
                  <a:pt x="20464" y="10716"/>
                </a:cubicBezTo>
                <a:cubicBezTo>
                  <a:pt x="20526" y="10716"/>
                  <a:pt x="20561" y="10723"/>
                  <a:pt x="20613" y="10740"/>
                </a:cubicBezTo>
                <a:cubicBezTo>
                  <a:pt x="20661" y="10755"/>
                  <a:pt x="20716" y="10773"/>
                  <a:pt x="20762" y="10790"/>
                </a:cubicBezTo>
                <a:cubicBezTo>
                  <a:pt x="20790" y="10800"/>
                  <a:pt x="20833" y="10812"/>
                  <a:pt x="20861" y="10815"/>
                </a:cubicBezTo>
                <a:cubicBezTo>
                  <a:pt x="20893" y="10819"/>
                  <a:pt x="20928" y="10815"/>
                  <a:pt x="20960" y="10815"/>
                </a:cubicBezTo>
              </a:path>
              <a:path w="2656" h="1489">
                <a:moveTo>
                  <a:pt x="21134" y="10021"/>
                </a:moveTo>
                <a:cubicBezTo>
                  <a:pt x="21134" y="10319"/>
                  <a:pt x="21151" y="10623"/>
                  <a:pt x="21109" y="10914"/>
                </a:cubicBezTo>
                <a:cubicBezTo>
                  <a:pt x="21099" y="10983"/>
                  <a:pt x="21070" y="11045"/>
                  <a:pt x="21059" y="11112"/>
                </a:cubicBezTo>
                <a:cubicBezTo>
                  <a:pt x="21049" y="11171"/>
                  <a:pt x="21026" y="11212"/>
                  <a:pt x="21010" y="11261"/>
                </a:cubicBezTo>
                <a:cubicBezTo>
                  <a:pt x="20995" y="11306"/>
                  <a:pt x="20995" y="11338"/>
                  <a:pt x="21034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32200" y="5018040"/>
            <a:ext cx="696960" cy="590760"/>
          </a:xfrm>
          <a:custGeom>
            <a:avLst/>
            <a:gdLst/>
            <a:ahLst/>
            <a:rect l="l" t="t" r="r" b="b"/>
            <a:pathLst>
              <a:path w="1936" h="1638">
                <a:moveTo>
                  <a:pt x="13841" y="14312"/>
                </a:moveTo>
                <a:cubicBezTo>
                  <a:pt x="13866" y="14354"/>
                  <a:pt x="13863" y="14361"/>
                  <a:pt x="13866" y="14412"/>
                </a:cubicBezTo>
                <a:cubicBezTo>
                  <a:pt x="13869" y="14470"/>
                  <a:pt x="13857" y="14489"/>
                  <a:pt x="13841" y="14536"/>
                </a:cubicBezTo>
                <a:cubicBezTo>
                  <a:pt x="13841" y="14560"/>
                  <a:pt x="13841" y="14568"/>
                  <a:pt x="13841" y="14536"/>
                </a:cubicBezTo>
                <a:cubicBezTo>
                  <a:pt x="13850" y="14472"/>
                  <a:pt x="13866" y="14433"/>
                  <a:pt x="13866" y="14362"/>
                </a:cubicBezTo>
                <a:cubicBezTo>
                  <a:pt x="13866" y="14308"/>
                  <a:pt x="13856" y="14216"/>
                  <a:pt x="13841" y="14163"/>
                </a:cubicBezTo>
                <a:cubicBezTo>
                  <a:pt x="13828" y="14116"/>
                  <a:pt x="13814" y="14053"/>
                  <a:pt x="13791" y="14015"/>
                </a:cubicBezTo>
                <a:cubicBezTo>
                  <a:pt x="13769" y="13978"/>
                  <a:pt x="13729" y="13949"/>
                  <a:pt x="13692" y="13940"/>
                </a:cubicBezTo>
                <a:cubicBezTo>
                  <a:pt x="13644" y="13928"/>
                  <a:pt x="13580" y="13987"/>
                  <a:pt x="13543" y="14015"/>
                </a:cubicBezTo>
                <a:cubicBezTo>
                  <a:pt x="13454" y="14081"/>
                  <a:pt x="13404" y="14173"/>
                  <a:pt x="13345" y="14263"/>
                </a:cubicBezTo>
                <a:cubicBezTo>
                  <a:pt x="13273" y="14372"/>
                  <a:pt x="13236" y="14461"/>
                  <a:pt x="13196" y="14585"/>
                </a:cubicBezTo>
                <a:cubicBezTo>
                  <a:pt x="13163" y="14687"/>
                  <a:pt x="13125" y="14798"/>
                  <a:pt x="13146" y="14908"/>
                </a:cubicBezTo>
                <a:cubicBezTo>
                  <a:pt x="13167" y="15020"/>
                  <a:pt x="13185" y="15065"/>
                  <a:pt x="13246" y="15156"/>
                </a:cubicBezTo>
                <a:cubicBezTo>
                  <a:pt x="13289" y="15219"/>
                  <a:pt x="13324" y="15266"/>
                  <a:pt x="13395" y="15280"/>
                </a:cubicBezTo>
                <a:cubicBezTo>
                  <a:pt x="13442" y="15290"/>
                  <a:pt x="13515" y="15244"/>
                  <a:pt x="13543" y="15205"/>
                </a:cubicBezTo>
                <a:cubicBezTo>
                  <a:pt x="13588" y="15142"/>
                  <a:pt x="13613" y="15079"/>
                  <a:pt x="13643" y="15007"/>
                </a:cubicBezTo>
                <a:cubicBezTo>
                  <a:pt x="13667" y="14950"/>
                  <a:pt x="13694" y="14886"/>
                  <a:pt x="13717" y="14833"/>
                </a:cubicBezTo>
                <a:cubicBezTo>
                  <a:pt x="13746" y="14767"/>
                  <a:pt x="13734" y="14778"/>
                  <a:pt x="13742" y="14709"/>
                </a:cubicBezTo>
                <a:cubicBezTo>
                  <a:pt x="13742" y="14782"/>
                  <a:pt x="13728" y="14840"/>
                  <a:pt x="13717" y="14908"/>
                </a:cubicBezTo>
                <a:cubicBezTo>
                  <a:pt x="13704" y="14985"/>
                  <a:pt x="13755" y="15060"/>
                  <a:pt x="13767" y="15131"/>
                </a:cubicBezTo>
                <a:cubicBezTo>
                  <a:pt x="13777" y="15192"/>
                  <a:pt x="13773" y="15186"/>
                  <a:pt x="13816" y="15230"/>
                </a:cubicBezTo>
              </a:path>
              <a:path w="1936" h="1638">
                <a:moveTo>
                  <a:pt x="14015" y="15205"/>
                </a:moveTo>
                <a:cubicBezTo>
                  <a:pt x="14002" y="15317"/>
                  <a:pt x="14015" y="15352"/>
                  <a:pt x="14015" y="15453"/>
                </a:cubicBezTo>
                <a:cubicBezTo>
                  <a:pt x="14015" y="15470"/>
                  <a:pt x="14039" y="15560"/>
                  <a:pt x="14039" y="15503"/>
                </a:cubicBezTo>
                <a:cubicBezTo>
                  <a:pt x="14039" y="15413"/>
                  <a:pt x="14050" y="15339"/>
                  <a:pt x="14064" y="15255"/>
                </a:cubicBezTo>
                <a:cubicBezTo>
                  <a:pt x="14075" y="15190"/>
                  <a:pt x="14085" y="15136"/>
                  <a:pt x="14114" y="15081"/>
                </a:cubicBezTo>
                <a:cubicBezTo>
                  <a:pt x="14144" y="15026"/>
                  <a:pt x="14143" y="15002"/>
                  <a:pt x="14188" y="14957"/>
                </a:cubicBezTo>
                <a:cubicBezTo>
                  <a:pt x="14196" y="14949"/>
                  <a:pt x="14205" y="14940"/>
                  <a:pt x="14213" y="14932"/>
                </a:cubicBezTo>
                <a:cubicBezTo>
                  <a:pt x="14263" y="14982"/>
                  <a:pt x="14250" y="14990"/>
                  <a:pt x="14263" y="15056"/>
                </a:cubicBezTo>
                <a:cubicBezTo>
                  <a:pt x="14283" y="15153"/>
                  <a:pt x="14294" y="15239"/>
                  <a:pt x="14337" y="15329"/>
                </a:cubicBezTo>
                <a:cubicBezTo>
                  <a:pt x="14366" y="15391"/>
                  <a:pt x="14402" y="15446"/>
                  <a:pt x="14436" y="15503"/>
                </a:cubicBezTo>
                <a:cubicBezTo>
                  <a:pt x="14467" y="15555"/>
                  <a:pt x="14480" y="15564"/>
                  <a:pt x="14536" y="15577"/>
                </a:cubicBezTo>
              </a:path>
              <a:path w="1936" h="1638">
                <a:moveTo>
                  <a:pt x="14709" y="14486"/>
                </a:moveTo>
                <a:cubicBezTo>
                  <a:pt x="14808" y="14486"/>
                  <a:pt x="14908" y="14486"/>
                  <a:pt x="15007" y="14486"/>
                </a:cubicBezTo>
              </a:path>
              <a:path w="1936" h="1638">
                <a:moveTo>
                  <a:pt x="14808" y="14808"/>
                </a:moveTo>
                <a:cubicBezTo>
                  <a:pt x="14955" y="14827"/>
                  <a:pt x="14970" y="14850"/>
                  <a:pt x="15081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9720" y="4884840"/>
            <a:ext cx="1804680" cy="830160"/>
          </a:xfrm>
          <a:custGeom>
            <a:avLst/>
            <a:gdLst/>
            <a:ahLst/>
            <a:rect l="l" t="t" r="r" b="b"/>
            <a:pathLst>
              <a:path w="5011" h="2308">
                <a:moveTo>
                  <a:pt x="15528" y="14015"/>
                </a:moveTo>
                <a:cubicBezTo>
                  <a:pt x="15565" y="14075"/>
                  <a:pt x="15535" y="14121"/>
                  <a:pt x="15553" y="14188"/>
                </a:cubicBezTo>
                <a:cubicBezTo>
                  <a:pt x="15580" y="14288"/>
                  <a:pt x="15577" y="14379"/>
                  <a:pt x="15577" y="14486"/>
                </a:cubicBezTo>
                <a:cubicBezTo>
                  <a:pt x="15577" y="14605"/>
                  <a:pt x="15598" y="14715"/>
                  <a:pt x="15602" y="14833"/>
                </a:cubicBezTo>
                <a:cubicBezTo>
                  <a:pt x="15606" y="14935"/>
                  <a:pt x="15627" y="15026"/>
                  <a:pt x="15627" y="15131"/>
                </a:cubicBezTo>
                <a:cubicBezTo>
                  <a:pt x="15627" y="15185"/>
                  <a:pt x="15605" y="15334"/>
                  <a:pt x="15627" y="15304"/>
                </a:cubicBezTo>
                <a:cubicBezTo>
                  <a:pt x="15635" y="15296"/>
                  <a:pt x="15644" y="15288"/>
                  <a:pt x="15652" y="15280"/>
                </a:cubicBezTo>
              </a:path>
              <a:path w="5011" h="2308">
                <a:moveTo>
                  <a:pt x="15900" y="14337"/>
                </a:moveTo>
                <a:cubicBezTo>
                  <a:pt x="15900" y="14417"/>
                  <a:pt x="15885" y="14486"/>
                  <a:pt x="15875" y="14560"/>
                </a:cubicBezTo>
                <a:cubicBezTo>
                  <a:pt x="15865" y="14638"/>
                  <a:pt x="15839" y="14758"/>
                  <a:pt x="15850" y="14833"/>
                </a:cubicBezTo>
                <a:cubicBezTo>
                  <a:pt x="15862" y="14914"/>
                  <a:pt x="15878" y="15035"/>
                  <a:pt x="15925" y="15106"/>
                </a:cubicBezTo>
                <a:cubicBezTo>
                  <a:pt x="15969" y="15173"/>
                  <a:pt x="16019" y="15270"/>
                  <a:pt x="16098" y="15304"/>
                </a:cubicBezTo>
                <a:cubicBezTo>
                  <a:pt x="16170" y="15335"/>
                  <a:pt x="16265" y="15345"/>
                  <a:pt x="16321" y="15280"/>
                </a:cubicBezTo>
                <a:cubicBezTo>
                  <a:pt x="16368" y="15225"/>
                  <a:pt x="16398" y="15123"/>
                  <a:pt x="16421" y="15056"/>
                </a:cubicBezTo>
                <a:cubicBezTo>
                  <a:pt x="16458" y="14951"/>
                  <a:pt x="16446" y="14845"/>
                  <a:pt x="16446" y="14734"/>
                </a:cubicBezTo>
                <a:cubicBezTo>
                  <a:pt x="16446" y="14627"/>
                  <a:pt x="16407" y="14535"/>
                  <a:pt x="16371" y="14436"/>
                </a:cubicBezTo>
                <a:cubicBezTo>
                  <a:pt x="16339" y="14348"/>
                  <a:pt x="16286" y="14282"/>
                  <a:pt x="16222" y="14213"/>
                </a:cubicBezTo>
                <a:cubicBezTo>
                  <a:pt x="16184" y="14172"/>
                  <a:pt x="16126" y="14188"/>
                  <a:pt x="16073" y="14188"/>
                </a:cubicBezTo>
                <a:cubicBezTo>
                  <a:pt x="16001" y="14188"/>
                  <a:pt x="15961" y="14228"/>
                  <a:pt x="15925" y="14288"/>
                </a:cubicBezTo>
                <a:cubicBezTo>
                  <a:pt x="15874" y="14375"/>
                  <a:pt x="15875" y="14463"/>
                  <a:pt x="15875" y="14560"/>
                </a:cubicBezTo>
                <a:cubicBezTo>
                  <a:pt x="15875" y="14568"/>
                  <a:pt x="15875" y="14577"/>
                  <a:pt x="15875" y="14585"/>
                </a:cubicBezTo>
              </a:path>
              <a:path w="5011" h="2308">
                <a:moveTo>
                  <a:pt x="16966" y="14288"/>
                </a:moveTo>
                <a:cubicBezTo>
                  <a:pt x="16901" y="14197"/>
                  <a:pt x="16919" y="14189"/>
                  <a:pt x="16818" y="14139"/>
                </a:cubicBezTo>
                <a:cubicBezTo>
                  <a:pt x="16779" y="14120"/>
                  <a:pt x="16756" y="14117"/>
                  <a:pt x="16718" y="14139"/>
                </a:cubicBezTo>
                <a:cubicBezTo>
                  <a:pt x="16676" y="14163"/>
                  <a:pt x="16670" y="14172"/>
                  <a:pt x="16644" y="14213"/>
                </a:cubicBezTo>
                <a:cubicBezTo>
                  <a:pt x="16624" y="14244"/>
                  <a:pt x="16611" y="14295"/>
                  <a:pt x="16619" y="14337"/>
                </a:cubicBezTo>
                <a:cubicBezTo>
                  <a:pt x="16627" y="14376"/>
                  <a:pt x="16650" y="14482"/>
                  <a:pt x="16669" y="14511"/>
                </a:cubicBezTo>
                <a:cubicBezTo>
                  <a:pt x="16712" y="14578"/>
                  <a:pt x="16756" y="14635"/>
                  <a:pt x="16793" y="14709"/>
                </a:cubicBezTo>
                <a:cubicBezTo>
                  <a:pt x="16832" y="14786"/>
                  <a:pt x="16877" y="14856"/>
                  <a:pt x="16917" y="14932"/>
                </a:cubicBezTo>
                <a:cubicBezTo>
                  <a:pt x="16966" y="15025"/>
                  <a:pt x="17010" y="15125"/>
                  <a:pt x="17016" y="15230"/>
                </a:cubicBezTo>
                <a:cubicBezTo>
                  <a:pt x="17019" y="15281"/>
                  <a:pt x="17032" y="15344"/>
                  <a:pt x="16991" y="15379"/>
                </a:cubicBezTo>
                <a:cubicBezTo>
                  <a:pt x="16951" y="15413"/>
                  <a:pt x="16931" y="15397"/>
                  <a:pt x="16892" y="15379"/>
                </a:cubicBezTo>
                <a:cubicBezTo>
                  <a:pt x="16854" y="15361"/>
                  <a:pt x="16798" y="15345"/>
                  <a:pt x="16768" y="15304"/>
                </a:cubicBezTo>
                <a:cubicBezTo>
                  <a:pt x="16731" y="15252"/>
                  <a:pt x="16741" y="15183"/>
                  <a:pt x="16718" y="15131"/>
                </a:cubicBezTo>
                <a:cubicBezTo>
                  <a:pt x="16682" y="15050"/>
                  <a:pt x="16705" y="15014"/>
                  <a:pt x="16718" y="14932"/>
                </a:cubicBezTo>
                <a:cubicBezTo>
                  <a:pt x="16732" y="14843"/>
                  <a:pt x="16728" y="14772"/>
                  <a:pt x="16768" y="14684"/>
                </a:cubicBezTo>
                <a:cubicBezTo>
                  <a:pt x="16800" y="14613"/>
                  <a:pt x="16810" y="14526"/>
                  <a:pt x="16842" y="14461"/>
                </a:cubicBezTo>
                <a:cubicBezTo>
                  <a:pt x="16861" y="14423"/>
                  <a:pt x="16885" y="14394"/>
                  <a:pt x="16917" y="14362"/>
                </a:cubicBezTo>
                <a:cubicBezTo>
                  <a:pt x="16944" y="14335"/>
                  <a:pt x="16950" y="14329"/>
                  <a:pt x="16966" y="14312"/>
                </a:cubicBezTo>
              </a:path>
              <a:path w="5011" h="2308">
                <a:moveTo>
                  <a:pt x="17363" y="14858"/>
                </a:moveTo>
                <a:cubicBezTo>
                  <a:pt x="17325" y="14909"/>
                  <a:pt x="17325" y="14909"/>
                  <a:pt x="17363" y="14858"/>
                </a:cubicBezTo>
              </a:path>
              <a:path w="5011" h="2308">
                <a:moveTo>
                  <a:pt x="17835" y="14015"/>
                </a:moveTo>
                <a:cubicBezTo>
                  <a:pt x="17803" y="14078"/>
                  <a:pt x="17781" y="14129"/>
                  <a:pt x="17760" y="14188"/>
                </a:cubicBezTo>
                <a:cubicBezTo>
                  <a:pt x="17732" y="14268"/>
                  <a:pt x="17674" y="14351"/>
                  <a:pt x="17661" y="14436"/>
                </a:cubicBezTo>
                <a:cubicBezTo>
                  <a:pt x="17646" y="14534"/>
                  <a:pt x="17622" y="14636"/>
                  <a:pt x="17611" y="14734"/>
                </a:cubicBezTo>
                <a:cubicBezTo>
                  <a:pt x="17600" y="14831"/>
                  <a:pt x="17618" y="14939"/>
                  <a:pt x="17636" y="15032"/>
                </a:cubicBezTo>
                <a:cubicBezTo>
                  <a:pt x="17660" y="15162"/>
                  <a:pt x="17714" y="15282"/>
                  <a:pt x="17760" y="15404"/>
                </a:cubicBezTo>
                <a:cubicBezTo>
                  <a:pt x="17793" y="15493"/>
                  <a:pt x="17817" y="15535"/>
                  <a:pt x="17884" y="15602"/>
                </a:cubicBezTo>
                <a:cubicBezTo>
                  <a:pt x="17907" y="15625"/>
                  <a:pt x="17911" y="15633"/>
                  <a:pt x="17934" y="15627"/>
                </a:cubicBezTo>
              </a:path>
              <a:path w="5011" h="2308">
                <a:moveTo>
                  <a:pt x="18107" y="14089"/>
                </a:moveTo>
                <a:cubicBezTo>
                  <a:pt x="18116" y="14185"/>
                  <a:pt x="18145" y="14265"/>
                  <a:pt x="18157" y="14362"/>
                </a:cubicBezTo>
                <a:cubicBezTo>
                  <a:pt x="18167" y="14440"/>
                  <a:pt x="18166" y="14510"/>
                  <a:pt x="18182" y="14585"/>
                </a:cubicBezTo>
                <a:cubicBezTo>
                  <a:pt x="18194" y="14641"/>
                  <a:pt x="18172" y="14663"/>
                  <a:pt x="18207" y="14709"/>
                </a:cubicBezTo>
              </a:path>
              <a:path w="5011" h="2308">
                <a:moveTo>
                  <a:pt x="18554" y="13965"/>
                </a:moveTo>
                <a:cubicBezTo>
                  <a:pt x="18526" y="14042"/>
                  <a:pt x="18505" y="14113"/>
                  <a:pt x="18479" y="14188"/>
                </a:cubicBezTo>
                <a:cubicBezTo>
                  <a:pt x="18444" y="14289"/>
                  <a:pt x="18428" y="14386"/>
                  <a:pt x="18405" y="14486"/>
                </a:cubicBezTo>
                <a:cubicBezTo>
                  <a:pt x="18381" y="14594"/>
                  <a:pt x="18341" y="14703"/>
                  <a:pt x="18306" y="14808"/>
                </a:cubicBezTo>
                <a:cubicBezTo>
                  <a:pt x="18268" y="14921"/>
                  <a:pt x="18265" y="15046"/>
                  <a:pt x="18231" y="15156"/>
                </a:cubicBezTo>
                <a:cubicBezTo>
                  <a:pt x="18214" y="15211"/>
                  <a:pt x="18207" y="15246"/>
                  <a:pt x="18207" y="15304"/>
                </a:cubicBezTo>
                <a:cubicBezTo>
                  <a:pt x="18207" y="15329"/>
                  <a:pt x="18207" y="15337"/>
                  <a:pt x="18207" y="15304"/>
                </a:cubicBezTo>
              </a:path>
              <a:path w="5011" h="2308">
                <a:moveTo>
                  <a:pt x="18554" y="14709"/>
                </a:moveTo>
                <a:cubicBezTo>
                  <a:pt x="18592" y="14693"/>
                  <a:pt x="18659" y="14662"/>
                  <a:pt x="18703" y="14684"/>
                </a:cubicBezTo>
                <a:cubicBezTo>
                  <a:pt x="18748" y="14707"/>
                  <a:pt x="18822" y="14788"/>
                  <a:pt x="18827" y="14833"/>
                </a:cubicBezTo>
                <a:cubicBezTo>
                  <a:pt x="18833" y="14886"/>
                  <a:pt x="18761" y="14902"/>
                  <a:pt x="18728" y="14932"/>
                </a:cubicBezTo>
                <a:cubicBezTo>
                  <a:pt x="18698" y="14959"/>
                  <a:pt x="18642" y="14978"/>
                  <a:pt x="18604" y="14982"/>
                </a:cubicBezTo>
                <a:cubicBezTo>
                  <a:pt x="18571" y="14986"/>
                  <a:pt x="18499" y="14992"/>
                  <a:pt x="18529" y="15007"/>
                </a:cubicBezTo>
                <a:cubicBezTo>
                  <a:pt x="18568" y="15027"/>
                  <a:pt x="18662" y="15018"/>
                  <a:pt x="18703" y="15032"/>
                </a:cubicBezTo>
                <a:cubicBezTo>
                  <a:pt x="18764" y="15052"/>
                  <a:pt x="18776" y="15030"/>
                  <a:pt x="18827" y="15081"/>
                </a:cubicBezTo>
                <a:cubicBezTo>
                  <a:pt x="18887" y="15140"/>
                  <a:pt x="18902" y="15162"/>
                  <a:pt x="18926" y="15230"/>
                </a:cubicBezTo>
                <a:cubicBezTo>
                  <a:pt x="18946" y="15287"/>
                  <a:pt x="18998" y="15338"/>
                  <a:pt x="18976" y="15404"/>
                </a:cubicBezTo>
                <a:cubicBezTo>
                  <a:pt x="18960" y="15452"/>
                  <a:pt x="18955" y="15528"/>
                  <a:pt x="18901" y="15553"/>
                </a:cubicBezTo>
                <a:cubicBezTo>
                  <a:pt x="18832" y="15585"/>
                  <a:pt x="18800" y="15602"/>
                  <a:pt x="18728" y="15602"/>
                </a:cubicBezTo>
                <a:cubicBezTo>
                  <a:pt x="18702" y="15602"/>
                  <a:pt x="18644" y="15576"/>
                  <a:pt x="18628" y="15553"/>
                </a:cubicBezTo>
                <a:cubicBezTo>
                  <a:pt x="18605" y="15505"/>
                  <a:pt x="18597" y="15490"/>
                  <a:pt x="18604" y="15453"/>
                </a:cubicBezTo>
              </a:path>
              <a:path w="5011" h="2308">
                <a:moveTo>
                  <a:pt x="18901" y="13866"/>
                </a:moveTo>
                <a:cubicBezTo>
                  <a:pt x="18967" y="13965"/>
                  <a:pt x="19026" y="14057"/>
                  <a:pt x="19075" y="14163"/>
                </a:cubicBezTo>
                <a:cubicBezTo>
                  <a:pt x="19141" y="14305"/>
                  <a:pt x="19211" y="14458"/>
                  <a:pt x="19248" y="14610"/>
                </a:cubicBezTo>
                <a:cubicBezTo>
                  <a:pt x="19290" y="14783"/>
                  <a:pt x="19300" y="14958"/>
                  <a:pt x="19323" y="15131"/>
                </a:cubicBezTo>
                <a:cubicBezTo>
                  <a:pt x="19342" y="15275"/>
                  <a:pt x="19341" y="15412"/>
                  <a:pt x="19298" y="15553"/>
                </a:cubicBezTo>
                <a:cubicBezTo>
                  <a:pt x="19264" y="15664"/>
                  <a:pt x="19220" y="15740"/>
                  <a:pt x="19149" y="15825"/>
                </a:cubicBezTo>
                <a:cubicBezTo>
                  <a:pt x="19124" y="15850"/>
                  <a:pt x="19116" y="15858"/>
                  <a:pt x="19100" y="15875"/>
                </a:cubicBezTo>
                <a:cubicBezTo>
                  <a:pt x="19100" y="15802"/>
                  <a:pt x="19099" y="15745"/>
                  <a:pt x="19124" y="15677"/>
                </a:cubicBezTo>
              </a:path>
              <a:path w="5011" h="2308">
                <a:moveTo>
                  <a:pt x="19348" y="13841"/>
                </a:moveTo>
                <a:cubicBezTo>
                  <a:pt x="19371" y="13896"/>
                  <a:pt x="19355" y="13938"/>
                  <a:pt x="19372" y="13990"/>
                </a:cubicBezTo>
                <a:cubicBezTo>
                  <a:pt x="19398" y="14066"/>
                  <a:pt x="19397" y="14131"/>
                  <a:pt x="19397" y="14213"/>
                </a:cubicBezTo>
                <a:cubicBezTo>
                  <a:pt x="19397" y="14261"/>
                  <a:pt x="19452" y="14270"/>
                  <a:pt x="19397" y="14288"/>
                </a:cubicBezTo>
                <a:cubicBezTo>
                  <a:pt x="19397" y="14128"/>
                  <a:pt x="19393" y="13960"/>
                  <a:pt x="19422" y="13816"/>
                </a:cubicBezTo>
                <a:cubicBezTo>
                  <a:pt x="19433" y="13759"/>
                  <a:pt x="19438" y="13737"/>
                  <a:pt x="19472" y="13692"/>
                </a:cubicBezTo>
                <a:cubicBezTo>
                  <a:pt x="19512" y="13692"/>
                  <a:pt x="19552" y="13698"/>
                  <a:pt x="19571" y="13742"/>
                </a:cubicBezTo>
                <a:cubicBezTo>
                  <a:pt x="19588" y="13780"/>
                  <a:pt x="19635" y="13853"/>
                  <a:pt x="19645" y="13891"/>
                </a:cubicBezTo>
                <a:cubicBezTo>
                  <a:pt x="19663" y="13962"/>
                  <a:pt x="19672" y="14046"/>
                  <a:pt x="19695" y="14114"/>
                </a:cubicBezTo>
                <a:cubicBezTo>
                  <a:pt x="19713" y="14166"/>
                  <a:pt x="19738" y="14250"/>
                  <a:pt x="19769" y="14288"/>
                </a:cubicBezTo>
                <a:cubicBezTo>
                  <a:pt x="19785" y="14308"/>
                  <a:pt x="19804" y="14380"/>
                  <a:pt x="19844" y="14362"/>
                </a:cubicBezTo>
                <a:cubicBezTo>
                  <a:pt x="19852" y="14354"/>
                  <a:pt x="19861" y="14345"/>
                  <a:pt x="19869" y="14337"/>
                </a:cubicBezTo>
              </a:path>
              <a:path w="5011" h="2308">
                <a:moveTo>
                  <a:pt x="19918" y="14039"/>
                </a:moveTo>
                <a:cubicBezTo>
                  <a:pt x="19993" y="14002"/>
                  <a:pt x="20034" y="13990"/>
                  <a:pt x="20117" y="13990"/>
                </a:cubicBezTo>
                <a:cubicBezTo>
                  <a:pt x="20125" y="13990"/>
                  <a:pt x="20133" y="13990"/>
                  <a:pt x="20141" y="13990"/>
                </a:cubicBezTo>
              </a:path>
              <a:path w="5011" h="2308">
                <a:moveTo>
                  <a:pt x="20389" y="13568"/>
                </a:moveTo>
                <a:cubicBezTo>
                  <a:pt x="20408" y="13656"/>
                  <a:pt x="20428" y="13756"/>
                  <a:pt x="20439" y="13841"/>
                </a:cubicBezTo>
                <a:cubicBezTo>
                  <a:pt x="20454" y="13957"/>
                  <a:pt x="20477" y="14078"/>
                  <a:pt x="20513" y="14188"/>
                </a:cubicBezTo>
                <a:cubicBezTo>
                  <a:pt x="20531" y="14241"/>
                  <a:pt x="20564" y="14296"/>
                  <a:pt x="20513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Find the 22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this geometric sequence: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4, 8, 16, …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312920" y="2347920"/>
            <a:ext cx="687240" cy="625320"/>
          </a:xfrm>
          <a:custGeom>
            <a:avLst/>
            <a:gdLst/>
            <a:ahLst/>
            <a:rect l="l" t="t" r="r" b="b"/>
            <a:pathLst>
              <a:path w="1911" h="1737">
                <a:moveTo>
                  <a:pt x="4638" y="6995"/>
                </a:moveTo>
                <a:cubicBezTo>
                  <a:pt x="4630" y="7026"/>
                  <a:pt x="4627" y="7112"/>
                  <a:pt x="4614" y="7144"/>
                </a:cubicBezTo>
                <a:cubicBezTo>
                  <a:pt x="4614" y="7169"/>
                  <a:pt x="4614" y="7177"/>
                  <a:pt x="4589" y="7169"/>
                </a:cubicBezTo>
                <a:cubicBezTo>
                  <a:pt x="4589" y="7132"/>
                  <a:pt x="4579" y="7129"/>
                  <a:pt x="4589" y="7094"/>
                </a:cubicBezTo>
                <a:cubicBezTo>
                  <a:pt x="4609" y="7025"/>
                  <a:pt x="4599" y="7020"/>
                  <a:pt x="4589" y="6945"/>
                </a:cubicBezTo>
                <a:cubicBezTo>
                  <a:pt x="4582" y="6890"/>
                  <a:pt x="4585" y="6822"/>
                  <a:pt x="4564" y="6772"/>
                </a:cubicBezTo>
                <a:cubicBezTo>
                  <a:pt x="4519" y="6665"/>
                  <a:pt x="4479" y="6607"/>
                  <a:pt x="4390" y="6548"/>
                </a:cubicBezTo>
                <a:cubicBezTo>
                  <a:pt x="4347" y="6519"/>
                  <a:pt x="4267" y="6511"/>
                  <a:pt x="4217" y="6524"/>
                </a:cubicBezTo>
                <a:cubicBezTo>
                  <a:pt x="4165" y="6538"/>
                  <a:pt x="4109" y="6590"/>
                  <a:pt x="4068" y="6623"/>
                </a:cubicBezTo>
                <a:cubicBezTo>
                  <a:pt x="4010" y="6670"/>
                  <a:pt x="3928" y="6756"/>
                  <a:pt x="3894" y="6821"/>
                </a:cubicBezTo>
                <a:cubicBezTo>
                  <a:pt x="3851" y="6905"/>
                  <a:pt x="3808" y="7008"/>
                  <a:pt x="3770" y="7094"/>
                </a:cubicBezTo>
                <a:cubicBezTo>
                  <a:pt x="3725" y="7197"/>
                  <a:pt x="3723" y="7310"/>
                  <a:pt x="3696" y="7417"/>
                </a:cubicBezTo>
                <a:cubicBezTo>
                  <a:pt x="3661" y="7557"/>
                  <a:pt x="3659" y="7703"/>
                  <a:pt x="3671" y="7838"/>
                </a:cubicBezTo>
                <a:cubicBezTo>
                  <a:pt x="3679" y="7930"/>
                  <a:pt x="3704" y="8045"/>
                  <a:pt x="3795" y="8086"/>
                </a:cubicBezTo>
                <a:cubicBezTo>
                  <a:pt x="3842" y="8107"/>
                  <a:pt x="3909" y="8128"/>
                  <a:pt x="3969" y="8111"/>
                </a:cubicBezTo>
                <a:cubicBezTo>
                  <a:pt x="4075" y="8081"/>
                  <a:pt x="4143" y="7987"/>
                  <a:pt x="4217" y="7913"/>
                </a:cubicBezTo>
                <a:cubicBezTo>
                  <a:pt x="4294" y="7836"/>
                  <a:pt x="4338" y="7779"/>
                  <a:pt x="4390" y="7689"/>
                </a:cubicBezTo>
                <a:cubicBezTo>
                  <a:pt x="4444" y="7596"/>
                  <a:pt x="4473" y="7517"/>
                  <a:pt x="4514" y="7417"/>
                </a:cubicBezTo>
                <a:cubicBezTo>
                  <a:pt x="4537" y="7361"/>
                  <a:pt x="4556" y="7302"/>
                  <a:pt x="4564" y="7243"/>
                </a:cubicBezTo>
                <a:cubicBezTo>
                  <a:pt x="4567" y="7220"/>
                  <a:pt x="4564" y="7193"/>
                  <a:pt x="4564" y="7169"/>
                </a:cubicBezTo>
                <a:cubicBezTo>
                  <a:pt x="4559" y="7216"/>
                  <a:pt x="4546" y="7249"/>
                  <a:pt x="4539" y="7293"/>
                </a:cubicBezTo>
                <a:cubicBezTo>
                  <a:pt x="4516" y="7428"/>
                  <a:pt x="4529" y="7613"/>
                  <a:pt x="4564" y="7739"/>
                </a:cubicBezTo>
                <a:cubicBezTo>
                  <a:pt x="4582" y="7805"/>
                  <a:pt x="4591" y="7876"/>
                  <a:pt x="4614" y="7938"/>
                </a:cubicBezTo>
                <a:cubicBezTo>
                  <a:pt x="4626" y="7971"/>
                  <a:pt x="4652" y="7974"/>
                  <a:pt x="4663" y="7987"/>
                </a:cubicBezTo>
              </a:path>
              <a:path w="1911" h="1737">
                <a:moveTo>
                  <a:pt x="5060" y="7913"/>
                </a:moveTo>
                <a:cubicBezTo>
                  <a:pt x="5033" y="8012"/>
                  <a:pt x="5054" y="8021"/>
                  <a:pt x="5060" y="8111"/>
                </a:cubicBezTo>
                <a:cubicBezTo>
                  <a:pt x="5063" y="8152"/>
                  <a:pt x="5060" y="8194"/>
                  <a:pt x="5060" y="8235"/>
                </a:cubicBezTo>
                <a:cubicBezTo>
                  <a:pt x="5102" y="8221"/>
                  <a:pt x="5085" y="8187"/>
                  <a:pt x="5085" y="8136"/>
                </a:cubicBezTo>
                <a:cubicBezTo>
                  <a:pt x="5085" y="8084"/>
                  <a:pt x="5089" y="8007"/>
                  <a:pt x="5110" y="7962"/>
                </a:cubicBezTo>
                <a:cubicBezTo>
                  <a:pt x="5131" y="7916"/>
                  <a:pt x="5137" y="7857"/>
                  <a:pt x="5159" y="7813"/>
                </a:cubicBezTo>
                <a:cubicBezTo>
                  <a:pt x="5179" y="7773"/>
                  <a:pt x="5241" y="7719"/>
                  <a:pt x="5283" y="7714"/>
                </a:cubicBezTo>
                <a:cubicBezTo>
                  <a:pt x="5324" y="7709"/>
                  <a:pt x="5356" y="7762"/>
                  <a:pt x="5383" y="7789"/>
                </a:cubicBezTo>
                <a:cubicBezTo>
                  <a:pt x="5429" y="7835"/>
                  <a:pt x="5430" y="7888"/>
                  <a:pt x="5457" y="7938"/>
                </a:cubicBezTo>
                <a:cubicBezTo>
                  <a:pt x="5486" y="7992"/>
                  <a:pt x="5503" y="8075"/>
                  <a:pt x="5507" y="8136"/>
                </a:cubicBezTo>
                <a:cubicBezTo>
                  <a:pt x="5510" y="8180"/>
                  <a:pt x="5512" y="8300"/>
                  <a:pt x="5531" y="8260"/>
                </a:cubicBezTo>
                <a:cubicBezTo>
                  <a:pt x="5531" y="8215"/>
                  <a:pt x="5527" y="8202"/>
                  <a:pt x="5556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562120"/>
            <a:ext cx="142560" cy="108000"/>
          </a:xfrm>
          <a:custGeom>
            <a:avLst/>
            <a:gdLst/>
            <a:ahLst/>
            <a:rect l="l" t="t" r="r" b="b"/>
            <a:pathLst>
              <a:path w="397" h="299">
                <a:moveTo>
                  <a:pt x="5904" y="7144"/>
                </a:moveTo>
                <a:cubicBezTo>
                  <a:pt x="5981" y="7144"/>
                  <a:pt x="6023" y="7129"/>
                  <a:pt x="6102" y="7119"/>
                </a:cubicBezTo>
                <a:cubicBezTo>
                  <a:pt x="6159" y="7112"/>
                  <a:pt x="6211" y="7144"/>
                  <a:pt x="6276" y="7144"/>
                </a:cubicBezTo>
                <a:cubicBezTo>
                  <a:pt x="6284" y="7144"/>
                  <a:pt x="6292" y="7144"/>
                  <a:pt x="6300" y="7144"/>
                </a:cubicBezTo>
              </a:path>
              <a:path w="397" h="299">
                <a:moveTo>
                  <a:pt x="5928" y="7392"/>
                </a:moveTo>
                <a:cubicBezTo>
                  <a:pt x="6033" y="7410"/>
                  <a:pt x="6121" y="7417"/>
                  <a:pt x="6226" y="7417"/>
                </a:cubicBezTo>
                <a:cubicBezTo>
                  <a:pt x="6251" y="7417"/>
                  <a:pt x="6275" y="7417"/>
                  <a:pt x="6300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55920" y="2394000"/>
            <a:ext cx="438120" cy="579240"/>
          </a:xfrm>
          <a:custGeom>
            <a:avLst/>
            <a:gdLst/>
            <a:ahLst/>
            <a:rect l="l" t="t" r="r" b="b"/>
            <a:pathLst>
              <a:path w="1217" h="1613">
                <a:moveTo>
                  <a:pt x="7417" y="7045"/>
                </a:moveTo>
                <a:cubicBezTo>
                  <a:pt x="7438" y="7088"/>
                  <a:pt x="7442" y="7100"/>
                  <a:pt x="7466" y="7119"/>
                </a:cubicBezTo>
                <a:cubicBezTo>
                  <a:pt x="7448" y="7089"/>
                  <a:pt x="7444" y="7092"/>
                  <a:pt x="7441" y="7045"/>
                </a:cubicBezTo>
                <a:cubicBezTo>
                  <a:pt x="7436" y="6965"/>
                  <a:pt x="7428" y="6895"/>
                  <a:pt x="7417" y="6821"/>
                </a:cubicBezTo>
                <a:cubicBezTo>
                  <a:pt x="7408" y="6763"/>
                  <a:pt x="7404" y="6716"/>
                  <a:pt x="7367" y="6672"/>
                </a:cubicBezTo>
                <a:cubicBezTo>
                  <a:pt x="7344" y="6644"/>
                  <a:pt x="7304" y="6640"/>
                  <a:pt x="7268" y="6648"/>
                </a:cubicBezTo>
                <a:cubicBezTo>
                  <a:pt x="7209" y="6661"/>
                  <a:pt x="7175" y="6694"/>
                  <a:pt x="7144" y="6747"/>
                </a:cubicBezTo>
                <a:cubicBezTo>
                  <a:pt x="7094" y="6831"/>
                  <a:pt x="7065" y="6908"/>
                  <a:pt x="7020" y="6995"/>
                </a:cubicBezTo>
                <a:cubicBezTo>
                  <a:pt x="6957" y="7116"/>
                  <a:pt x="6873" y="7282"/>
                  <a:pt x="6846" y="7417"/>
                </a:cubicBezTo>
                <a:cubicBezTo>
                  <a:pt x="6824" y="7528"/>
                  <a:pt x="6821" y="7649"/>
                  <a:pt x="6821" y="7764"/>
                </a:cubicBezTo>
                <a:cubicBezTo>
                  <a:pt x="6821" y="7861"/>
                  <a:pt x="6821" y="7972"/>
                  <a:pt x="6945" y="7987"/>
                </a:cubicBezTo>
                <a:cubicBezTo>
                  <a:pt x="6987" y="7992"/>
                  <a:pt x="7090" y="7926"/>
                  <a:pt x="7119" y="7888"/>
                </a:cubicBezTo>
                <a:cubicBezTo>
                  <a:pt x="7189" y="7796"/>
                  <a:pt x="7247" y="7723"/>
                  <a:pt x="7293" y="7615"/>
                </a:cubicBezTo>
                <a:cubicBezTo>
                  <a:pt x="7331" y="7525"/>
                  <a:pt x="7335" y="7424"/>
                  <a:pt x="7367" y="7342"/>
                </a:cubicBezTo>
                <a:cubicBezTo>
                  <a:pt x="7382" y="7304"/>
                  <a:pt x="7386" y="7311"/>
                  <a:pt x="7392" y="7268"/>
                </a:cubicBezTo>
                <a:cubicBezTo>
                  <a:pt x="7385" y="7318"/>
                  <a:pt x="7370" y="7340"/>
                  <a:pt x="7367" y="7392"/>
                </a:cubicBezTo>
                <a:cubicBezTo>
                  <a:pt x="7361" y="7490"/>
                  <a:pt x="7377" y="7575"/>
                  <a:pt x="7392" y="7665"/>
                </a:cubicBezTo>
                <a:cubicBezTo>
                  <a:pt x="7403" y="7729"/>
                  <a:pt x="7406" y="7806"/>
                  <a:pt x="7441" y="7863"/>
                </a:cubicBezTo>
                <a:cubicBezTo>
                  <a:pt x="7468" y="7908"/>
                  <a:pt x="7522" y="7938"/>
                  <a:pt x="7565" y="7962"/>
                </a:cubicBezTo>
              </a:path>
              <a:path w="1217" h="1613">
                <a:moveTo>
                  <a:pt x="7987" y="7838"/>
                </a:moveTo>
                <a:cubicBezTo>
                  <a:pt x="7987" y="7959"/>
                  <a:pt x="7983" y="8072"/>
                  <a:pt x="8012" y="8186"/>
                </a:cubicBezTo>
                <a:cubicBezTo>
                  <a:pt x="8023" y="8230"/>
                  <a:pt x="8006" y="8219"/>
                  <a:pt x="8037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2463840"/>
            <a:ext cx="411120" cy="36684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8458" y="7342"/>
                </a:moveTo>
                <a:lnTo>
                  <a:pt x="8458" y="7342"/>
                </a:lnTo>
              </a:path>
              <a:path w="1142" h="1018">
                <a:moveTo>
                  <a:pt x="8954" y="7268"/>
                </a:moveTo>
                <a:cubicBezTo>
                  <a:pt x="8938" y="7391"/>
                  <a:pt x="8930" y="7493"/>
                  <a:pt x="8930" y="7615"/>
                </a:cubicBezTo>
                <a:cubicBezTo>
                  <a:pt x="8930" y="7677"/>
                  <a:pt x="8951" y="7726"/>
                  <a:pt x="8954" y="7789"/>
                </a:cubicBezTo>
                <a:cubicBezTo>
                  <a:pt x="8955" y="7814"/>
                  <a:pt x="8954" y="7838"/>
                  <a:pt x="8954" y="7863"/>
                </a:cubicBezTo>
                <a:cubicBezTo>
                  <a:pt x="8954" y="7827"/>
                  <a:pt x="8956" y="7825"/>
                  <a:pt x="8954" y="7789"/>
                </a:cubicBezTo>
                <a:cubicBezTo>
                  <a:pt x="8945" y="7589"/>
                  <a:pt x="8955" y="7384"/>
                  <a:pt x="8979" y="7193"/>
                </a:cubicBezTo>
                <a:cubicBezTo>
                  <a:pt x="8991" y="7094"/>
                  <a:pt x="9024" y="7014"/>
                  <a:pt x="9103" y="6945"/>
                </a:cubicBezTo>
                <a:cubicBezTo>
                  <a:pt x="9162" y="6894"/>
                  <a:pt x="9225" y="6873"/>
                  <a:pt x="9302" y="6871"/>
                </a:cubicBezTo>
                <a:cubicBezTo>
                  <a:pt x="9341" y="6870"/>
                  <a:pt x="9598" y="6896"/>
                  <a:pt x="9599" y="6846"/>
                </a:cubicBezTo>
                <a:cubicBezTo>
                  <a:pt x="9591" y="6846"/>
                  <a:pt x="9583" y="6846"/>
                  <a:pt x="9575" y="68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60840" y="2224080"/>
            <a:ext cx="465120" cy="2761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0195" y="6449"/>
                </a:moveTo>
                <a:cubicBezTo>
                  <a:pt x="10173" y="6530"/>
                  <a:pt x="10170" y="6589"/>
                  <a:pt x="10170" y="6672"/>
                </a:cubicBezTo>
                <a:cubicBezTo>
                  <a:pt x="10170" y="6744"/>
                  <a:pt x="10190" y="6781"/>
                  <a:pt x="10195" y="6846"/>
                </a:cubicBezTo>
                <a:cubicBezTo>
                  <a:pt x="10195" y="6874"/>
                  <a:pt x="10197" y="6885"/>
                  <a:pt x="10220" y="6896"/>
                </a:cubicBezTo>
                <a:cubicBezTo>
                  <a:pt x="10220" y="6963"/>
                  <a:pt x="10220" y="6857"/>
                  <a:pt x="10220" y="6846"/>
                </a:cubicBezTo>
                <a:cubicBezTo>
                  <a:pt x="10220" y="6783"/>
                  <a:pt x="10205" y="6754"/>
                  <a:pt x="10195" y="6697"/>
                </a:cubicBezTo>
                <a:cubicBezTo>
                  <a:pt x="10183" y="6632"/>
                  <a:pt x="10206" y="6583"/>
                  <a:pt x="10220" y="6524"/>
                </a:cubicBezTo>
                <a:cubicBezTo>
                  <a:pt x="10229" y="6484"/>
                  <a:pt x="10250" y="6430"/>
                  <a:pt x="10294" y="6424"/>
                </a:cubicBezTo>
                <a:cubicBezTo>
                  <a:pt x="10356" y="6415"/>
                  <a:pt x="10395" y="6438"/>
                  <a:pt x="10443" y="6474"/>
                </a:cubicBezTo>
                <a:cubicBezTo>
                  <a:pt x="10492" y="6511"/>
                  <a:pt x="10515" y="6595"/>
                  <a:pt x="10542" y="6648"/>
                </a:cubicBezTo>
                <a:cubicBezTo>
                  <a:pt x="10571" y="6705"/>
                  <a:pt x="10594" y="6765"/>
                  <a:pt x="10616" y="6821"/>
                </a:cubicBezTo>
                <a:cubicBezTo>
                  <a:pt x="10626" y="6846"/>
                  <a:pt x="10666" y="6933"/>
                  <a:pt x="10691" y="6945"/>
                </a:cubicBezTo>
                <a:cubicBezTo>
                  <a:pt x="10699" y="6945"/>
                  <a:pt x="10708" y="6945"/>
                  <a:pt x="10716" y="6945"/>
                </a:cubicBezTo>
              </a:path>
              <a:path w="1291" h="770">
                <a:moveTo>
                  <a:pt x="10815" y="6623"/>
                </a:moveTo>
                <a:cubicBezTo>
                  <a:pt x="10939" y="6623"/>
                  <a:pt x="11063" y="6623"/>
                  <a:pt x="11187" y="6623"/>
                </a:cubicBezTo>
              </a:path>
              <a:path w="1291" h="770">
                <a:moveTo>
                  <a:pt x="11410" y="6176"/>
                </a:moveTo>
                <a:cubicBezTo>
                  <a:pt x="11410" y="6321"/>
                  <a:pt x="11412" y="6461"/>
                  <a:pt x="11435" y="6598"/>
                </a:cubicBezTo>
                <a:cubicBezTo>
                  <a:pt x="11446" y="6667"/>
                  <a:pt x="11460" y="6723"/>
                  <a:pt x="11460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241800"/>
            <a:ext cx="2357640" cy="731880"/>
          </a:xfrm>
          <a:custGeom>
            <a:avLst/>
            <a:gdLst/>
            <a:ahLst/>
            <a:rect l="l" t="t" r="r" b="b"/>
            <a:pathLst>
              <a:path w="6549" h="2035">
                <a:moveTo>
                  <a:pt x="4142" y="9624"/>
                </a:moveTo>
                <a:cubicBezTo>
                  <a:pt x="4134" y="9694"/>
                  <a:pt x="4118" y="9750"/>
                  <a:pt x="4118" y="9823"/>
                </a:cubicBezTo>
                <a:cubicBezTo>
                  <a:pt x="4118" y="9881"/>
                  <a:pt x="4118" y="9938"/>
                  <a:pt x="4118" y="9996"/>
                </a:cubicBezTo>
                <a:cubicBezTo>
                  <a:pt x="4101" y="9959"/>
                  <a:pt x="4076" y="9917"/>
                  <a:pt x="4068" y="9872"/>
                </a:cubicBezTo>
                <a:cubicBezTo>
                  <a:pt x="4055" y="9794"/>
                  <a:pt x="4046" y="9702"/>
                  <a:pt x="4043" y="9624"/>
                </a:cubicBezTo>
                <a:cubicBezTo>
                  <a:pt x="4039" y="9531"/>
                  <a:pt x="4021" y="9440"/>
                  <a:pt x="3994" y="9351"/>
                </a:cubicBezTo>
                <a:cubicBezTo>
                  <a:pt x="3975" y="9289"/>
                  <a:pt x="3948" y="9195"/>
                  <a:pt x="3894" y="9153"/>
                </a:cubicBezTo>
                <a:cubicBezTo>
                  <a:pt x="3841" y="9111"/>
                  <a:pt x="3733" y="9071"/>
                  <a:pt x="3671" y="9128"/>
                </a:cubicBezTo>
                <a:cubicBezTo>
                  <a:pt x="3621" y="9175"/>
                  <a:pt x="3551" y="9288"/>
                  <a:pt x="3522" y="9351"/>
                </a:cubicBezTo>
                <a:cubicBezTo>
                  <a:pt x="3474" y="9454"/>
                  <a:pt x="3429" y="9567"/>
                  <a:pt x="3398" y="9674"/>
                </a:cubicBezTo>
                <a:cubicBezTo>
                  <a:pt x="3357" y="9816"/>
                  <a:pt x="3345" y="9953"/>
                  <a:pt x="3324" y="10096"/>
                </a:cubicBezTo>
                <a:cubicBezTo>
                  <a:pt x="3301" y="10255"/>
                  <a:pt x="3287" y="10436"/>
                  <a:pt x="3349" y="10592"/>
                </a:cubicBezTo>
                <a:cubicBezTo>
                  <a:pt x="3368" y="10640"/>
                  <a:pt x="3444" y="10723"/>
                  <a:pt x="3497" y="10740"/>
                </a:cubicBezTo>
                <a:cubicBezTo>
                  <a:pt x="3551" y="10758"/>
                  <a:pt x="3631" y="10722"/>
                  <a:pt x="3671" y="10691"/>
                </a:cubicBezTo>
                <a:cubicBezTo>
                  <a:pt x="3740" y="10637"/>
                  <a:pt x="3808" y="10522"/>
                  <a:pt x="3845" y="10443"/>
                </a:cubicBezTo>
                <a:cubicBezTo>
                  <a:pt x="3880" y="10367"/>
                  <a:pt x="3928" y="10253"/>
                  <a:pt x="3944" y="10170"/>
                </a:cubicBezTo>
                <a:cubicBezTo>
                  <a:pt x="3952" y="10128"/>
                  <a:pt x="3951" y="10060"/>
                  <a:pt x="3969" y="10021"/>
                </a:cubicBezTo>
                <a:cubicBezTo>
                  <a:pt x="3977" y="10013"/>
                  <a:pt x="3986" y="10004"/>
                  <a:pt x="3994" y="9996"/>
                </a:cubicBezTo>
                <a:cubicBezTo>
                  <a:pt x="3980" y="10051"/>
                  <a:pt x="3972" y="10087"/>
                  <a:pt x="3969" y="10145"/>
                </a:cubicBezTo>
                <a:cubicBezTo>
                  <a:pt x="3964" y="10236"/>
                  <a:pt x="3984" y="10307"/>
                  <a:pt x="3994" y="10393"/>
                </a:cubicBezTo>
                <a:cubicBezTo>
                  <a:pt x="4006" y="10497"/>
                  <a:pt x="4008" y="10598"/>
                  <a:pt x="4068" y="10691"/>
                </a:cubicBezTo>
                <a:cubicBezTo>
                  <a:pt x="4094" y="10731"/>
                  <a:pt x="4136" y="10745"/>
                  <a:pt x="4167" y="10765"/>
                </a:cubicBezTo>
              </a:path>
              <a:path w="6549" h="2035">
                <a:moveTo>
                  <a:pt x="4316" y="10393"/>
                </a:moveTo>
                <a:cubicBezTo>
                  <a:pt x="4316" y="10459"/>
                  <a:pt x="4327" y="10504"/>
                  <a:pt x="4341" y="10567"/>
                </a:cubicBezTo>
                <a:cubicBezTo>
                  <a:pt x="4361" y="10652"/>
                  <a:pt x="4350" y="10762"/>
                  <a:pt x="4366" y="10840"/>
                </a:cubicBezTo>
                <a:cubicBezTo>
                  <a:pt x="4368" y="10849"/>
                  <a:pt x="4366" y="11006"/>
                  <a:pt x="4366" y="10939"/>
                </a:cubicBezTo>
                <a:cubicBezTo>
                  <a:pt x="4366" y="10866"/>
                  <a:pt x="4378" y="10808"/>
                  <a:pt x="4390" y="10740"/>
                </a:cubicBezTo>
                <a:cubicBezTo>
                  <a:pt x="4401" y="10679"/>
                  <a:pt x="4401" y="10627"/>
                  <a:pt x="4415" y="10567"/>
                </a:cubicBezTo>
                <a:cubicBezTo>
                  <a:pt x="4425" y="10525"/>
                  <a:pt x="4443" y="10464"/>
                  <a:pt x="4490" y="10443"/>
                </a:cubicBezTo>
                <a:cubicBezTo>
                  <a:pt x="4524" y="10428"/>
                  <a:pt x="4567" y="10447"/>
                  <a:pt x="4589" y="10468"/>
                </a:cubicBezTo>
                <a:cubicBezTo>
                  <a:pt x="4644" y="10520"/>
                  <a:pt x="4720" y="10587"/>
                  <a:pt x="4738" y="10666"/>
                </a:cubicBezTo>
                <a:cubicBezTo>
                  <a:pt x="4753" y="10733"/>
                  <a:pt x="4772" y="10798"/>
                  <a:pt x="4787" y="10864"/>
                </a:cubicBezTo>
                <a:cubicBezTo>
                  <a:pt x="4790" y="10877"/>
                  <a:pt x="4804" y="10982"/>
                  <a:pt x="4812" y="10988"/>
                </a:cubicBezTo>
                <a:cubicBezTo>
                  <a:pt x="4861" y="11026"/>
                  <a:pt x="4861" y="10920"/>
                  <a:pt x="4862" y="10914"/>
                </a:cubicBezTo>
              </a:path>
              <a:path w="6549" h="2035">
                <a:moveTo>
                  <a:pt x="5184" y="10021"/>
                </a:moveTo>
                <a:cubicBezTo>
                  <a:pt x="5242" y="10046"/>
                  <a:pt x="5269" y="10046"/>
                  <a:pt x="5333" y="10046"/>
                </a:cubicBezTo>
                <a:cubicBezTo>
                  <a:pt x="5424" y="10046"/>
                  <a:pt x="5515" y="10046"/>
                  <a:pt x="5606" y="10046"/>
                </a:cubicBezTo>
              </a:path>
              <a:path w="6549" h="2035">
                <a:moveTo>
                  <a:pt x="5259" y="10294"/>
                </a:moveTo>
                <a:cubicBezTo>
                  <a:pt x="5335" y="10317"/>
                  <a:pt x="5379" y="10319"/>
                  <a:pt x="5457" y="10319"/>
                </a:cubicBezTo>
                <a:cubicBezTo>
                  <a:pt x="5543" y="10319"/>
                  <a:pt x="5587" y="10336"/>
                  <a:pt x="5655" y="10344"/>
                </a:cubicBezTo>
                <a:cubicBezTo>
                  <a:pt x="5680" y="10344"/>
                  <a:pt x="5688" y="10344"/>
                  <a:pt x="5655" y="10344"/>
                </a:cubicBezTo>
              </a:path>
              <a:path w="6549" h="2035">
                <a:moveTo>
                  <a:pt x="6226" y="9500"/>
                </a:moveTo>
                <a:cubicBezTo>
                  <a:pt x="6226" y="9583"/>
                  <a:pt x="6219" y="9646"/>
                  <a:pt x="6201" y="9723"/>
                </a:cubicBezTo>
                <a:cubicBezTo>
                  <a:pt x="6184" y="9797"/>
                  <a:pt x="6145" y="9841"/>
                  <a:pt x="6127" y="9922"/>
                </a:cubicBezTo>
                <a:cubicBezTo>
                  <a:pt x="6127" y="9950"/>
                  <a:pt x="6125" y="9961"/>
                  <a:pt x="6102" y="9971"/>
                </a:cubicBezTo>
                <a:cubicBezTo>
                  <a:pt x="6137" y="9997"/>
                  <a:pt x="6164" y="10005"/>
                  <a:pt x="6201" y="10021"/>
                </a:cubicBezTo>
                <a:cubicBezTo>
                  <a:pt x="6260" y="10046"/>
                  <a:pt x="6310" y="10067"/>
                  <a:pt x="6375" y="10071"/>
                </a:cubicBezTo>
                <a:cubicBezTo>
                  <a:pt x="6466" y="10076"/>
                  <a:pt x="6565" y="10083"/>
                  <a:pt x="6648" y="10046"/>
                </a:cubicBezTo>
                <a:cubicBezTo>
                  <a:pt x="6697" y="10021"/>
                  <a:pt x="6714" y="10012"/>
                  <a:pt x="6747" y="9996"/>
                </a:cubicBezTo>
              </a:path>
              <a:path w="6549" h="2035">
                <a:moveTo>
                  <a:pt x="6672" y="9252"/>
                </a:moveTo>
                <a:cubicBezTo>
                  <a:pt x="6626" y="9291"/>
                  <a:pt x="6608" y="9316"/>
                  <a:pt x="6598" y="9401"/>
                </a:cubicBezTo>
                <a:cubicBezTo>
                  <a:pt x="6567" y="9667"/>
                  <a:pt x="6601" y="9958"/>
                  <a:pt x="6623" y="10220"/>
                </a:cubicBezTo>
                <a:cubicBezTo>
                  <a:pt x="6630" y="10299"/>
                  <a:pt x="6592" y="10915"/>
                  <a:pt x="6648" y="10914"/>
                </a:cubicBezTo>
                <a:cubicBezTo>
                  <a:pt x="6648" y="10906"/>
                  <a:pt x="6648" y="10897"/>
                  <a:pt x="6648" y="10889"/>
                </a:cubicBezTo>
              </a:path>
              <a:path w="6549" h="2035">
                <a:moveTo>
                  <a:pt x="7342" y="10120"/>
                </a:moveTo>
                <a:cubicBezTo>
                  <a:pt x="7330" y="10167"/>
                  <a:pt x="7284" y="10178"/>
                  <a:pt x="7317" y="10195"/>
                </a:cubicBezTo>
                <a:cubicBezTo>
                  <a:pt x="7344" y="10159"/>
                  <a:pt x="7362" y="10135"/>
                  <a:pt x="7317" y="10120"/>
                </a:cubicBezTo>
                <a:cubicBezTo>
                  <a:pt x="7314" y="10129"/>
                  <a:pt x="7269" y="10175"/>
                  <a:pt x="7293" y="10195"/>
                </a:cubicBezTo>
                <a:cubicBezTo>
                  <a:pt x="7311" y="10210"/>
                  <a:pt x="7388" y="10176"/>
                  <a:pt x="7392" y="10170"/>
                </a:cubicBezTo>
                <a:cubicBezTo>
                  <a:pt x="7425" y="10120"/>
                  <a:pt x="7324" y="10169"/>
                  <a:pt x="7317" y="10170"/>
                </a:cubicBezTo>
                <a:cubicBezTo>
                  <a:pt x="7309" y="10170"/>
                  <a:pt x="7301" y="10170"/>
                  <a:pt x="7293" y="10170"/>
                </a:cubicBezTo>
                <a:cubicBezTo>
                  <a:pt x="7327" y="10170"/>
                  <a:pt x="7373" y="10183"/>
                  <a:pt x="7392" y="10145"/>
                </a:cubicBezTo>
                <a:cubicBezTo>
                  <a:pt x="7419" y="10090"/>
                  <a:pt x="7373" y="10092"/>
                  <a:pt x="7342" y="10120"/>
                </a:cubicBezTo>
                <a:cubicBezTo>
                  <a:pt x="7309" y="10149"/>
                  <a:pt x="7298" y="10160"/>
                  <a:pt x="7268" y="10170"/>
                </a:cubicBezTo>
              </a:path>
              <a:path w="6549" h="2035">
                <a:moveTo>
                  <a:pt x="7764" y="9426"/>
                </a:moveTo>
                <a:cubicBezTo>
                  <a:pt x="7788" y="9372"/>
                  <a:pt x="7810" y="9328"/>
                  <a:pt x="7838" y="9277"/>
                </a:cubicBezTo>
                <a:cubicBezTo>
                  <a:pt x="7855" y="9246"/>
                  <a:pt x="7870" y="9213"/>
                  <a:pt x="7913" y="9203"/>
                </a:cubicBezTo>
                <a:cubicBezTo>
                  <a:pt x="7968" y="9191"/>
                  <a:pt x="7996" y="9209"/>
                  <a:pt x="8037" y="9227"/>
                </a:cubicBezTo>
                <a:cubicBezTo>
                  <a:pt x="8103" y="9256"/>
                  <a:pt x="8157" y="9309"/>
                  <a:pt x="8186" y="9376"/>
                </a:cubicBezTo>
                <a:cubicBezTo>
                  <a:pt x="8227" y="9472"/>
                  <a:pt x="8276" y="9545"/>
                  <a:pt x="8310" y="9649"/>
                </a:cubicBezTo>
                <a:cubicBezTo>
                  <a:pt x="8349" y="9768"/>
                  <a:pt x="8374" y="9897"/>
                  <a:pt x="8384" y="10021"/>
                </a:cubicBezTo>
                <a:cubicBezTo>
                  <a:pt x="8395" y="10157"/>
                  <a:pt x="8367" y="10264"/>
                  <a:pt x="8334" y="10393"/>
                </a:cubicBezTo>
                <a:cubicBezTo>
                  <a:pt x="8298" y="10534"/>
                  <a:pt x="8259" y="10617"/>
                  <a:pt x="8186" y="10740"/>
                </a:cubicBezTo>
                <a:cubicBezTo>
                  <a:pt x="8127" y="10840"/>
                  <a:pt x="8036" y="10923"/>
                  <a:pt x="7938" y="10988"/>
                </a:cubicBezTo>
                <a:cubicBezTo>
                  <a:pt x="7888" y="11021"/>
                  <a:pt x="7826" y="11051"/>
                  <a:pt x="7764" y="11038"/>
                </a:cubicBezTo>
                <a:cubicBezTo>
                  <a:pt x="7743" y="11034"/>
                  <a:pt x="7674" y="10988"/>
                  <a:pt x="7665" y="10964"/>
                </a:cubicBezTo>
                <a:cubicBezTo>
                  <a:pt x="7655" y="10936"/>
                  <a:pt x="7634" y="10843"/>
                  <a:pt x="7640" y="10815"/>
                </a:cubicBezTo>
                <a:cubicBezTo>
                  <a:pt x="7649" y="10772"/>
                  <a:pt x="7664" y="10729"/>
                  <a:pt x="7689" y="10691"/>
                </a:cubicBezTo>
                <a:cubicBezTo>
                  <a:pt x="7716" y="10650"/>
                  <a:pt x="7775" y="10625"/>
                  <a:pt x="7813" y="10616"/>
                </a:cubicBezTo>
                <a:cubicBezTo>
                  <a:pt x="7888" y="10598"/>
                  <a:pt x="7951" y="10683"/>
                  <a:pt x="8012" y="10716"/>
                </a:cubicBezTo>
                <a:cubicBezTo>
                  <a:pt x="8074" y="10750"/>
                  <a:pt x="8129" y="10816"/>
                  <a:pt x="8186" y="10864"/>
                </a:cubicBezTo>
                <a:cubicBezTo>
                  <a:pt x="8255" y="10922"/>
                  <a:pt x="8314" y="11018"/>
                  <a:pt x="8409" y="11038"/>
                </a:cubicBezTo>
                <a:cubicBezTo>
                  <a:pt x="8454" y="11047"/>
                  <a:pt x="8478" y="11018"/>
                  <a:pt x="8508" y="11013"/>
                </a:cubicBezTo>
              </a:path>
              <a:path w="6549" h="2035">
                <a:moveTo>
                  <a:pt x="8682" y="9351"/>
                </a:moveTo>
                <a:cubicBezTo>
                  <a:pt x="8704" y="9426"/>
                  <a:pt x="8706" y="9472"/>
                  <a:pt x="8706" y="9550"/>
                </a:cubicBezTo>
                <a:cubicBezTo>
                  <a:pt x="8706" y="9583"/>
                  <a:pt x="8706" y="9616"/>
                  <a:pt x="8706" y="9649"/>
                </a:cubicBezTo>
                <a:cubicBezTo>
                  <a:pt x="8706" y="9530"/>
                  <a:pt x="8663" y="9328"/>
                  <a:pt x="8731" y="9227"/>
                </a:cubicBezTo>
                <a:cubicBezTo>
                  <a:pt x="8755" y="9192"/>
                  <a:pt x="8759" y="9158"/>
                  <a:pt x="8806" y="9153"/>
                </a:cubicBezTo>
                <a:cubicBezTo>
                  <a:pt x="8851" y="9148"/>
                  <a:pt x="8880" y="9164"/>
                  <a:pt x="8905" y="9203"/>
                </a:cubicBezTo>
                <a:cubicBezTo>
                  <a:pt x="8942" y="9259"/>
                  <a:pt x="8974" y="9316"/>
                  <a:pt x="9004" y="9376"/>
                </a:cubicBezTo>
                <a:cubicBezTo>
                  <a:pt x="9030" y="9428"/>
                  <a:pt x="9064" y="9481"/>
                  <a:pt x="9103" y="9525"/>
                </a:cubicBezTo>
                <a:cubicBezTo>
                  <a:pt x="9133" y="9555"/>
                  <a:pt x="9144" y="9569"/>
                  <a:pt x="9153" y="9599"/>
                </a:cubicBezTo>
              </a:path>
              <a:path w="6549" h="2035">
                <a:moveTo>
                  <a:pt x="9302" y="9327"/>
                </a:moveTo>
                <a:cubicBezTo>
                  <a:pt x="9406" y="9311"/>
                  <a:pt x="9500" y="9290"/>
                  <a:pt x="9599" y="9277"/>
                </a:cubicBezTo>
              </a:path>
              <a:path w="6549" h="2035">
                <a:moveTo>
                  <a:pt x="9773" y="9004"/>
                </a:moveTo>
                <a:cubicBezTo>
                  <a:pt x="9773" y="9133"/>
                  <a:pt x="9762" y="9253"/>
                  <a:pt x="9798" y="9376"/>
                </a:cubicBezTo>
                <a:cubicBezTo>
                  <a:pt x="9825" y="9465"/>
                  <a:pt x="9837" y="9557"/>
                  <a:pt x="9847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6160" y="3232080"/>
            <a:ext cx="17964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12080" y="9079"/>
                </a:moveTo>
                <a:cubicBezTo>
                  <a:pt x="12043" y="9126"/>
                  <a:pt x="12013" y="9195"/>
                  <a:pt x="11981" y="9252"/>
                </a:cubicBezTo>
                <a:cubicBezTo>
                  <a:pt x="11941" y="9322"/>
                  <a:pt x="11918" y="9400"/>
                  <a:pt x="11906" y="9475"/>
                </a:cubicBezTo>
                <a:cubicBezTo>
                  <a:pt x="11898" y="9524"/>
                  <a:pt x="11885" y="9670"/>
                  <a:pt x="11931" y="9699"/>
                </a:cubicBezTo>
                <a:cubicBezTo>
                  <a:pt x="11984" y="9732"/>
                  <a:pt x="11995" y="9713"/>
                  <a:pt x="12055" y="9699"/>
                </a:cubicBezTo>
                <a:cubicBezTo>
                  <a:pt x="12107" y="9687"/>
                  <a:pt x="12083" y="9644"/>
                  <a:pt x="12105" y="9599"/>
                </a:cubicBezTo>
                <a:cubicBezTo>
                  <a:pt x="12138" y="9531"/>
                  <a:pt x="12109" y="9503"/>
                  <a:pt x="12105" y="9426"/>
                </a:cubicBezTo>
                <a:cubicBezTo>
                  <a:pt x="12100" y="9334"/>
                  <a:pt x="12054" y="9220"/>
                  <a:pt x="12080" y="9128"/>
                </a:cubicBezTo>
                <a:cubicBezTo>
                  <a:pt x="12095" y="9076"/>
                  <a:pt x="12143" y="9040"/>
                  <a:pt x="12179" y="9004"/>
                </a:cubicBezTo>
                <a:cubicBezTo>
                  <a:pt x="12243" y="8940"/>
                  <a:pt x="12273" y="8984"/>
                  <a:pt x="12303" y="9029"/>
                </a:cubicBezTo>
                <a:cubicBezTo>
                  <a:pt x="12325" y="9062"/>
                  <a:pt x="12346" y="9117"/>
                  <a:pt x="12353" y="9153"/>
                </a:cubicBezTo>
                <a:cubicBezTo>
                  <a:pt x="12373" y="9252"/>
                  <a:pt x="12355" y="9353"/>
                  <a:pt x="12378" y="9451"/>
                </a:cubicBezTo>
                <a:cubicBezTo>
                  <a:pt x="12389" y="9497"/>
                  <a:pt x="12393" y="9531"/>
                  <a:pt x="12402" y="9550"/>
                </a:cubicBezTo>
                <a:cubicBezTo>
                  <a:pt x="12402" y="9558"/>
                  <a:pt x="12402" y="9567"/>
                  <a:pt x="12402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13200" y="2705040"/>
            <a:ext cx="2911680" cy="600120"/>
          </a:xfrm>
          <a:custGeom>
            <a:avLst/>
            <a:gdLst/>
            <a:ahLst/>
            <a:rect l="l" t="t" r="r" b="b"/>
            <a:pathLst>
              <a:path w="8087" h="1663">
                <a:moveTo>
                  <a:pt x="13469" y="7863"/>
                </a:moveTo>
                <a:cubicBezTo>
                  <a:pt x="13486" y="7863"/>
                  <a:pt x="13502" y="7863"/>
                  <a:pt x="13519" y="7863"/>
                </a:cubicBezTo>
                <a:cubicBezTo>
                  <a:pt x="13507" y="7921"/>
                  <a:pt x="13479" y="7979"/>
                  <a:pt x="13469" y="8037"/>
                </a:cubicBezTo>
                <a:cubicBezTo>
                  <a:pt x="13456" y="8114"/>
                  <a:pt x="13429" y="8195"/>
                  <a:pt x="13395" y="8260"/>
                </a:cubicBezTo>
                <a:cubicBezTo>
                  <a:pt x="13366" y="8315"/>
                  <a:pt x="13370" y="8348"/>
                  <a:pt x="13370" y="8409"/>
                </a:cubicBezTo>
                <a:cubicBezTo>
                  <a:pt x="13370" y="8436"/>
                  <a:pt x="13395" y="8455"/>
                  <a:pt x="13419" y="8458"/>
                </a:cubicBezTo>
                <a:cubicBezTo>
                  <a:pt x="13453" y="8462"/>
                  <a:pt x="13508" y="8471"/>
                  <a:pt x="13543" y="8483"/>
                </a:cubicBezTo>
                <a:cubicBezTo>
                  <a:pt x="13614" y="8507"/>
                  <a:pt x="13665" y="8508"/>
                  <a:pt x="13742" y="8508"/>
                </a:cubicBezTo>
                <a:cubicBezTo>
                  <a:pt x="13798" y="8508"/>
                  <a:pt x="13894" y="8491"/>
                  <a:pt x="13940" y="8458"/>
                </a:cubicBezTo>
                <a:cubicBezTo>
                  <a:pt x="13957" y="8442"/>
                  <a:pt x="13973" y="8425"/>
                  <a:pt x="13990" y="8409"/>
                </a:cubicBezTo>
              </a:path>
              <a:path w="8087" h="1663">
                <a:moveTo>
                  <a:pt x="13915" y="7590"/>
                </a:moveTo>
                <a:cubicBezTo>
                  <a:pt x="13915" y="7775"/>
                  <a:pt x="13907" y="7956"/>
                  <a:pt x="13891" y="8136"/>
                </a:cubicBezTo>
                <a:cubicBezTo>
                  <a:pt x="13877" y="8293"/>
                  <a:pt x="13883" y="8453"/>
                  <a:pt x="13866" y="8607"/>
                </a:cubicBezTo>
                <a:cubicBezTo>
                  <a:pt x="13851" y="8744"/>
                  <a:pt x="13871" y="8873"/>
                  <a:pt x="13841" y="9004"/>
                </a:cubicBezTo>
                <a:cubicBezTo>
                  <a:pt x="13839" y="9014"/>
                  <a:pt x="13841" y="9122"/>
                  <a:pt x="13841" y="9054"/>
                </a:cubicBezTo>
              </a:path>
              <a:path w="8087" h="1663">
                <a:moveTo>
                  <a:pt x="14387" y="8310"/>
                </a:moveTo>
                <a:cubicBezTo>
                  <a:pt x="14415" y="8346"/>
                  <a:pt x="14426" y="8374"/>
                  <a:pt x="14461" y="8409"/>
                </a:cubicBezTo>
                <a:cubicBezTo>
                  <a:pt x="14502" y="8450"/>
                  <a:pt x="14544" y="8524"/>
                  <a:pt x="14585" y="8558"/>
                </a:cubicBezTo>
                <a:cubicBezTo>
                  <a:pt x="14641" y="8606"/>
                  <a:pt x="14703" y="8636"/>
                  <a:pt x="14759" y="8682"/>
                </a:cubicBezTo>
                <a:cubicBezTo>
                  <a:pt x="14809" y="8723"/>
                  <a:pt x="14814" y="8731"/>
                  <a:pt x="14883" y="8731"/>
                </a:cubicBezTo>
              </a:path>
              <a:path w="8087" h="1663">
                <a:moveTo>
                  <a:pt x="14734" y="8235"/>
                </a:moveTo>
                <a:cubicBezTo>
                  <a:pt x="14692" y="8301"/>
                  <a:pt x="14650" y="8369"/>
                  <a:pt x="14610" y="8434"/>
                </a:cubicBezTo>
                <a:cubicBezTo>
                  <a:pt x="14549" y="8534"/>
                  <a:pt x="14507" y="8597"/>
                  <a:pt x="14436" y="8682"/>
                </a:cubicBezTo>
                <a:cubicBezTo>
                  <a:pt x="14420" y="8701"/>
                  <a:pt x="14365" y="8750"/>
                  <a:pt x="14362" y="8756"/>
                </a:cubicBezTo>
                <a:cubicBezTo>
                  <a:pt x="14334" y="8812"/>
                  <a:pt x="14383" y="8736"/>
                  <a:pt x="14387" y="8731"/>
                </a:cubicBezTo>
              </a:path>
              <a:path w="8087" h="1663">
                <a:moveTo>
                  <a:pt x="15032" y="7838"/>
                </a:moveTo>
                <a:cubicBezTo>
                  <a:pt x="15102" y="7768"/>
                  <a:pt x="15153" y="7726"/>
                  <a:pt x="15230" y="7689"/>
                </a:cubicBezTo>
                <a:cubicBezTo>
                  <a:pt x="15268" y="7670"/>
                  <a:pt x="15331" y="7635"/>
                  <a:pt x="15379" y="7640"/>
                </a:cubicBezTo>
                <a:cubicBezTo>
                  <a:pt x="15402" y="7642"/>
                  <a:pt x="15485" y="7678"/>
                  <a:pt x="15503" y="7689"/>
                </a:cubicBezTo>
                <a:cubicBezTo>
                  <a:pt x="15541" y="7713"/>
                  <a:pt x="15534" y="7797"/>
                  <a:pt x="15528" y="7838"/>
                </a:cubicBezTo>
                <a:cubicBezTo>
                  <a:pt x="15517" y="7914"/>
                  <a:pt x="15509" y="7993"/>
                  <a:pt x="15478" y="8062"/>
                </a:cubicBezTo>
                <a:cubicBezTo>
                  <a:pt x="15445" y="8136"/>
                  <a:pt x="15409" y="8210"/>
                  <a:pt x="15379" y="8285"/>
                </a:cubicBezTo>
                <a:cubicBezTo>
                  <a:pt x="15342" y="8378"/>
                  <a:pt x="15281" y="8445"/>
                  <a:pt x="15230" y="8533"/>
                </a:cubicBezTo>
                <a:cubicBezTo>
                  <a:pt x="15188" y="8606"/>
                  <a:pt x="15145" y="8681"/>
                  <a:pt x="15106" y="8756"/>
                </a:cubicBezTo>
                <a:cubicBezTo>
                  <a:pt x="15069" y="8826"/>
                  <a:pt x="15043" y="8915"/>
                  <a:pt x="15007" y="8979"/>
                </a:cubicBezTo>
                <a:cubicBezTo>
                  <a:pt x="14968" y="9048"/>
                  <a:pt x="14966" y="9039"/>
                  <a:pt x="14982" y="9103"/>
                </a:cubicBezTo>
                <a:cubicBezTo>
                  <a:pt x="15016" y="9094"/>
                  <a:pt x="15075" y="9093"/>
                  <a:pt x="15106" y="9079"/>
                </a:cubicBezTo>
                <a:cubicBezTo>
                  <a:pt x="15164" y="9052"/>
                  <a:pt x="15210" y="9054"/>
                  <a:pt x="15280" y="9054"/>
                </a:cubicBezTo>
                <a:cubicBezTo>
                  <a:pt x="15357" y="9054"/>
                  <a:pt x="15421" y="9079"/>
                  <a:pt x="15503" y="9079"/>
                </a:cubicBezTo>
                <a:cubicBezTo>
                  <a:pt x="15545" y="9079"/>
                  <a:pt x="15679" y="9107"/>
                  <a:pt x="15701" y="9103"/>
                </a:cubicBezTo>
                <a:cubicBezTo>
                  <a:pt x="15750" y="9093"/>
                  <a:pt x="15710" y="9093"/>
                  <a:pt x="15726" y="9054"/>
                </a:cubicBezTo>
              </a:path>
              <a:path w="8087" h="1663">
                <a:moveTo>
                  <a:pt x="15900" y="8260"/>
                </a:moveTo>
                <a:cubicBezTo>
                  <a:pt x="15946" y="8307"/>
                  <a:pt x="15962" y="8356"/>
                  <a:pt x="15999" y="8409"/>
                </a:cubicBezTo>
                <a:cubicBezTo>
                  <a:pt x="16034" y="8460"/>
                  <a:pt x="16078" y="8543"/>
                  <a:pt x="16123" y="8582"/>
                </a:cubicBezTo>
                <a:cubicBezTo>
                  <a:pt x="16174" y="8626"/>
                  <a:pt x="16220" y="8660"/>
                  <a:pt x="16272" y="8706"/>
                </a:cubicBezTo>
                <a:cubicBezTo>
                  <a:pt x="16288" y="8720"/>
                  <a:pt x="16370" y="8789"/>
                  <a:pt x="16396" y="8756"/>
                </a:cubicBezTo>
                <a:cubicBezTo>
                  <a:pt x="16396" y="8748"/>
                  <a:pt x="16396" y="8739"/>
                  <a:pt x="16396" y="8731"/>
                </a:cubicBezTo>
              </a:path>
              <a:path w="8087" h="1663">
                <a:moveTo>
                  <a:pt x="16197" y="8260"/>
                </a:moveTo>
                <a:cubicBezTo>
                  <a:pt x="16143" y="8323"/>
                  <a:pt x="16110" y="8383"/>
                  <a:pt x="16073" y="8458"/>
                </a:cubicBezTo>
                <a:cubicBezTo>
                  <a:pt x="16036" y="8534"/>
                  <a:pt x="15994" y="8589"/>
                  <a:pt x="15949" y="8657"/>
                </a:cubicBezTo>
                <a:cubicBezTo>
                  <a:pt x="15913" y="8711"/>
                  <a:pt x="15922" y="8874"/>
                  <a:pt x="15875" y="8830"/>
                </a:cubicBezTo>
                <a:cubicBezTo>
                  <a:pt x="15875" y="8822"/>
                  <a:pt x="15875" y="8814"/>
                  <a:pt x="15875" y="8806"/>
                </a:cubicBezTo>
              </a:path>
              <a:path w="8087" h="1663">
                <a:moveTo>
                  <a:pt x="16495" y="7813"/>
                </a:moveTo>
                <a:cubicBezTo>
                  <a:pt x="16595" y="7714"/>
                  <a:pt x="16629" y="7672"/>
                  <a:pt x="16743" y="7615"/>
                </a:cubicBezTo>
                <a:cubicBezTo>
                  <a:pt x="16807" y="7583"/>
                  <a:pt x="16840" y="7583"/>
                  <a:pt x="16892" y="7590"/>
                </a:cubicBezTo>
                <a:cubicBezTo>
                  <a:pt x="16934" y="7596"/>
                  <a:pt x="16968" y="7592"/>
                  <a:pt x="16991" y="7640"/>
                </a:cubicBezTo>
                <a:cubicBezTo>
                  <a:pt x="17010" y="7680"/>
                  <a:pt x="17024" y="7741"/>
                  <a:pt x="17016" y="7789"/>
                </a:cubicBezTo>
                <a:cubicBezTo>
                  <a:pt x="17005" y="7856"/>
                  <a:pt x="16985" y="7950"/>
                  <a:pt x="16966" y="8012"/>
                </a:cubicBezTo>
                <a:cubicBezTo>
                  <a:pt x="16941" y="8092"/>
                  <a:pt x="16902" y="8183"/>
                  <a:pt x="16867" y="8260"/>
                </a:cubicBezTo>
                <a:cubicBezTo>
                  <a:pt x="16812" y="8378"/>
                  <a:pt x="16749" y="8496"/>
                  <a:pt x="16694" y="8607"/>
                </a:cubicBezTo>
                <a:cubicBezTo>
                  <a:pt x="16656" y="8683"/>
                  <a:pt x="16623" y="8775"/>
                  <a:pt x="16594" y="8855"/>
                </a:cubicBezTo>
                <a:cubicBezTo>
                  <a:pt x="16575" y="8907"/>
                  <a:pt x="16532" y="8981"/>
                  <a:pt x="16520" y="9029"/>
                </a:cubicBezTo>
                <a:cubicBezTo>
                  <a:pt x="16513" y="9058"/>
                  <a:pt x="16534" y="9099"/>
                  <a:pt x="16545" y="9103"/>
                </a:cubicBezTo>
                <a:cubicBezTo>
                  <a:pt x="16583" y="9118"/>
                  <a:pt x="16682" y="9123"/>
                  <a:pt x="16718" y="9128"/>
                </a:cubicBezTo>
                <a:cubicBezTo>
                  <a:pt x="16846" y="9145"/>
                  <a:pt x="16986" y="9128"/>
                  <a:pt x="17115" y="9128"/>
                </a:cubicBezTo>
              </a:path>
              <a:path w="8087" h="1663">
                <a:moveTo>
                  <a:pt x="17314" y="8359"/>
                </a:moveTo>
                <a:cubicBezTo>
                  <a:pt x="17372" y="8400"/>
                  <a:pt x="17446" y="8456"/>
                  <a:pt x="17487" y="8508"/>
                </a:cubicBezTo>
                <a:cubicBezTo>
                  <a:pt x="17535" y="8568"/>
                  <a:pt x="17578" y="8606"/>
                  <a:pt x="17636" y="8657"/>
                </a:cubicBezTo>
                <a:cubicBezTo>
                  <a:pt x="17676" y="8692"/>
                  <a:pt x="17762" y="8790"/>
                  <a:pt x="17810" y="8806"/>
                </a:cubicBezTo>
                <a:cubicBezTo>
                  <a:pt x="17874" y="8828"/>
                  <a:pt x="17882" y="8823"/>
                  <a:pt x="17934" y="8806"/>
                </a:cubicBezTo>
                <a:cubicBezTo>
                  <a:pt x="17976" y="8806"/>
                  <a:pt x="17984" y="8789"/>
                  <a:pt x="17959" y="8731"/>
                </a:cubicBezTo>
              </a:path>
              <a:path w="8087" h="1663">
                <a:moveTo>
                  <a:pt x="17735" y="8285"/>
                </a:moveTo>
                <a:cubicBezTo>
                  <a:pt x="17670" y="8359"/>
                  <a:pt x="17610" y="8447"/>
                  <a:pt x="17562" y="8533"/>
                </a:cubicBezTo>
                <a:cubicBezTo>
                  <a:pt x="17521" y="8607"/>
                  <a:pt x="17459" y="8662"/>
                  <a:pt x="17413" y="8731"/>
                </a:cubicBezTo>
                <a:cubicBezTo>
                  <a:pt x="17399" y="8752"/>
                  <a:pt x="17379" y="8844"/>
                  <a:pt x="17363" y="8855"/>
                </a:cubicBezTo>
                <a:cubicBezTo>
                  <a:pt x="17328" y="8878"/>
                  <a:pt x="17357" y="8847"/>
                  <a:pt x="17363" y="8830"/>
                </a:cubicBezTo>
              </a:path>
              <a:path w="8087" h="1663">
                <a:moveTo>
                  <a:pt x="18256" y="7714"/>
                </a:moveTo>
                <a:cubicBezTo>
                  <a:pt x="18350" y="7652"/>
                  <a:pt x="18482" y="7543"/>
                  <a:pt x="18604" y="7516"/>
                </a:cubicBezTo>
                <a:cubicBezTo>
                  <a:pt x="18645" y="7507"/>
                  <a:pt x="18725" y="7515"/>
                  <a:pt x="18752" y="7541"/>
                </a:cubicBezTo>
                <a:cubicBezTo>
                  <a:pt x="18807" y="7596"/>
                  <a:pt x="18802" y="7641"/>
                  <a:pt x="18802" y="7714"/>
                </a:cubicBezTo>
                <a:cubicBezTo>
                  <a:pt x="18802" y="7820"/>
                  <a:pt x="18772" y="7917"/>
                  <a:pt x="18728" y="8012"/>
                </a:cubicBezTo>
                <a:cubicBezTo>
                  <a:pt x="18688" y="8097"/>
                  <a:pt x="18654" y="8180"/>
                  <a:pt x="18604" y="8260"/>
                </a:cubicBezTo>
                <a:cubicBezTo>
                  <a:pt x="18544" y="8356"/>
                  <a:pt x="18498" y="8442"/>
                  <a:pt x="18430" y="8533"/>
                </a:cubicBezTo>
                <a:cubicBezTo>
                  <a:pt x="18367" y="8617"/>
                  <a:pt x="18310" y="8716"/>
                  <a:pt x="18256" y="8806"/>
                </a:cubicBezTo>
                <a:cubicBezTo>
                  <a:pt x="18215" y="8875"/>
                  <a:pt x="18169" y="8931"/>
                  <a:pt x="18132" y="9004"/>
                </a:cubicBezTo>
                <a:cubicBezTo>
                  <a:pt x="18105" y="9058"/>
                  <a:pt x="18113" y="9054"/>
                  <a:pt x="18132" y="9103"/>
                </a:cubicBezTo>
                <a:cubicBezTo>
                  <a:pt x="18161" y="9176"/>
                  <a:pt x="18163" y="9130"/>
                  <a:pt x="18231" y="9153"/>
                </a:cubicBezTo>
                <a:cubicBezTo>
                  <a:pt x="18315" y="9181"/>
                  <a:pt x="18388" y="9178"/>
                  <a:pt x="18479" y="9178"/>
                </a:cubicBezTo>
                <a:cubicBezTo>
                  <a:pt x="18605" y="9178"/>
                  <a:pt x="18791" y="9196"/>
                  <a:pt x="18876" y="9153"/>
                </a:cubicBezTo>
              </a:path>
              <a:path w="8087" h="1663">
                <a:moveTo>
                  <a:pt x="19149" y="8310"/>
                </a:moveTo>
                <a:cubicBezTo>
                  <a:pt x="19209" y="8369"/>
                  <a:pt x="19299" y="8437"/>
                  <a:pt x="19348" y="8508"/>
                </a:cubicBezTo>
                <a:cubicBezTo>
                  <a:pt x="19401" y="8585"/>
                  <a:pt x="19436" y="8614"/>
                  <a:pt x="19521" y="8657"/>
                </a:cubicBezTo>
                <a:cubicBezTo>
                  <a:pt x="19575" y="8684"/>
                  <a:pt x="19635" y="8725"/>
                  <a:pt x="19695" y="8731"/>
                </a:cubicBezTo>
                <a:cubicBezTo>
                  <a:pt x="19731" y="8735"/>
                  <a:pt x="19745" y="8706"/>
                  <a:pt x="19769" y="8682"/>
                </a:cubicBezTo>
              </a:path>
              <a:path w="8087" h="1663">
                <a:moveTo>
                  <a:pt x="19521" y="8235"/>
                </a:moveTo>
                <a:cubicBezTo>
                  <a:pt x="19452" y="8373"/>
                  <a:pt x="19402" y="8464"/>
                  <a:pt x="19323" y="8582"/>
                </a:cubicBezTo>
                <a:cubicBezTo>
                  <a:pt x="19277" y="8652"/>
                  <a:pt x="19220" y="8712"/>
                  <a:pt x="19174" y="8781"/>
                </a:cubicBezTo>
                <a:cubicBezTo>
                  <a:pt x="19152" y="8813"/>
                  <a:pt x="19087" y="8862"/>
                  <a:pt x="19075" y="8880"/>
                </a:cubicBezTo>
                <a:cubicBezTo>
                  <a:pt x="19042" y="8931"/>
                  <a:pt x="19095" y="8861"/>
                  <a:pt x="19100" y="8855"/>
                </a:cubicBezTo>
              </a:path>
              <a:path w="8087" h="1663">
                <a:moveTo>
                  <a:pt x="19918" y="7764"/>
                </a:moveTo>
                <a:cubicBezTo>
                  <a:pt x="20033" y="7696"/>
                  <a:pt x="20105" y="7652"/>
                  <a:pt x="20216" y="7615"/>
                </a:cubicBezTo>
                <a:cubicBezTo>
                  <a:pt x="20275" y="7595"/>
                  <a:pt x="20348" y="7572"/>
                  <a:pt x="20414" y="7590"/>
                </a:cubicBezTo>
                <a:cubicBezTo>
                  <a:pt x="20469" y="7605"/>
                  <a:pt x="20523" y="7626"/>
                  <a:pt x="20538" y="7689"/>
                </a:cubicBezTo>
                <a:cubicBezTo>
                  <a:pt x="20557" y="7769"/>
                  <a:pt x="20542" y="7891"/>
                  <a:pt x="20513" y="7962"/>
                </a:cubicBezTo>
                <a:cubicBezTo>
                  <a:pt x="20479" y="8044"/>
                  <a:pt x="20449" y="8129"/>
                  <a:pt x="20414" y="8210"/>
                </a:cubicBezTo>
                <a:cubicBezTo>
                  <a:pt x="20365" y="8324"/>
                  <a:pt x="20295" y="8428"/>
                  <a:pt x="20241" y="8533"/>
                </a:cubicBezTo>
                <a:cubicBezTo>
                  <a:pt x="20196" y="8619"/>
                  <a:pt x="20145" y="8697"/>
                  <a:pt x="20092" y="8781"/>
                </a:cubicBezTo>
                <a:cubicBezTo>
                  <a:pt x="20041" y="8862"/>
                  <a:pt x="19992" y="8948"/>
                  <a:pt x="19943" y="9029"/>
                </a:cubicBezTo>
                <a:cubicBezTo>
                  <a:pt x="19923" y="9062"/>
                  <a:pt x="19906" y="9112"/>
                  <a:pt x="19918" y="9153"/>
                </a:cubicBezTo>
                <a:cubicBezTo>
                  <a:pt x="19931" y="9197"/>
                  <a:pt x="20011" y="9177"/>
                  <a:pt x="20042" y="9178"/>
                </a:cubicBezTo>
                <a:cubicBezTo>
                  <a:pt x="20116" y="9180"/>
                  <a:pt x="20511" y="9182"/>
                  <a:pt x="20513" y="9178"/>
                </a:cubicBezTo>
                <a:cubicBezTo>
                  <a:pt x="20513" y="9170"/>
                  <a:pt x="20513" y="9161"/>
                  <a:pt x="20513" y="9153"/>
                </a:cubicBezTo>
              </a:path>
              <a:path w="8087" h="1663">
                <a:moveTo>
                  <a:pt x="20836" y="8285"/>
                </a:moveTo>
                <a:cubicBezTo>
                  <a:pt x="20873" y="8358"/>
                  <a:pt x="20911" y="8400"/>
                  <a:pt x="20960" y="8458"/>
                </a:cubicBezTo>
                <a:cubicBezTo>
                  <a:pt x="21008" y="8516"/>
                  <a:pt x="21073" y="8588"/>
                  <a:pt x="21134" y="8632"/>
                </a:cubicBezTo>
                <a:cubicBezTo>
                  <a:pt x="21187" y="8671"/>
                  <a:pt x="21273" y="8758"/>
                  <a:pt x="21332" y="8781"/>
                </a:cubicBezTo>
                <a:cubicBezTo>
                  <a:pt x="21363" y="8793"/>
                  <a:pt x="21434" y="8824"/>
                  <a:pt x="21456" y="8781"/>
                </a:cubicBezTo>
                <a:cubicBezTo>
                  <a:pt x="21456" y="8748"/>
                  <a:pt x="21456" y="8731"/>
                  <a:pt x="21456" y="8706"/>
                </a:cubicBezTo>
              </a:path>
              <a:path w="8087" h="1663">
                <a:moveTo>
                  <a:pt x="21282" y="8235"/>
                </a:moveTo>
                <a:cubicBezTo>
                  <a:pt x="21197" y="8339"/>
                  <a:pt x="21121" y="8460"/>
                  <a:pt x="21034" y="8558"/>
                </a:cubicBezTo>
                <a:cubicBezTo>
                  <a:pt x="20985" y="8613"/>
                  <a:pt x="20948" y="8687"/>
                  <a:pt x="20886" y="8731"/>
                </a:cubicBezTo>
                <a:cubicBezTo>
                  <a:pt x="20869" y="8739"/>
                  <a:pt x="20853" y="8748"/>
                  <a:pt x="20836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52360" y="4098960"/>
            <a:ext cx="2401920" cy="965160"/>
          </a:xfrm>
          <a:custGeom>
            <a:avLst/>
            <a:gdLst/>
            <a:ahLst/>
            <a:rect l="l" t="t" r="r" b="b"/>
            <a:pathLst>
              <a:path w="6673" h="2680">
                <a:moveTo>
                  <a:pt x="3969" y="11981"/>
                </a:moveTo>
                <a:cubicBezTo>
                  <a:pt x="3981" y="12007"/>
                  <a:pt x="4022" y="12072"/>
                  <a:pt x="4018" y="12105"/>
                </a:cubicBezTo>
                <a:cubicBezTo>
                  <a:pt x="4012" y="12163"/>
                  <a:pt x="3994" y="12214"/>
                  <a:pt x="3994" y="12278"/>
                </a:cubicBezTo>
                <a:cubicBezTo>
                  <a:pt x="3994" y="12286"/>
                  <a:pt x="3994" y="12295"/>
                  <a:pt x="3994" y="12303"/>
                </a:cubicBezTo>
                <a:cubicBezTo>
                  <a:pt x="3978" y="12261"/>
                  <a:pt x="3982" y="12225"/>
                  <a:pt x="3969" y="12179"/>
                </a:cubicBezTo>
                <a:cubicBezTo>
                  <a:pt x="3948" y="12106"/>
                  <a:pt x="3943" y="12026"/>
                  <a:pt x="3919" y="11956"/>
                </a:cubicBezTo>
                <a:cubicBezTo>
                  <a:pt x="3893" y="11880"/>
                  <a:pt x="3856" y="11805"/>
                  <a:pt x="3820" y="11733"/>
                </a:cubicBezTo>
                <a:cubicBezTo>
                  <a:pt x="3780" y="11653"/>
                  <a:pt x="3742" y="11584"/>
                  <a:pt x="3646" y="11559"/>
                </a:cubicBezTo>
                <a:cubicBezTo>
                  <a:pt x="3599" y="11547"/>
                  <a:pt x="3557" y="11562"/>
                  <a:pt x="3522" y="11584"/>
                </a:cubicBezTo>
                <a:cubicBezTo>
                  <a:pt x="3452" y="11627"/>
                  <a:pt x="3400" y="11710"/>
                  <a:pt x="3373" y="11782"/>
                </a:cubicBezTo>
                <a:cubicBezTo>
                  <a:pt x="3328" y="11901"/>
                  <a:pt x="3277" y="12000"/>
                  <a:pt x="3249" y="12129"/>
                </a:cubicBezTo>
                <a:cubicBezTo>
                  <a:pt x="3216" y="12282"/>
                  <a:pt x="3204" y="12445"/>
                  <a:pt x="3200" y="12601"/>
                </a:cubicBezTo>
                <a:cubicBezTo>
                  <a:pt x="3197" y="12716"/>
                  <a:pt x="3200" y="12892"/>
                  <a:pt x="3249" y="12998"/>
                </a:cubicBezTo>
                <a:cubicBezTo>
                  <a:pt x="3284" y="13073"/>
                  <a:pt x="3337" y="13152"/>
                  <a:pt x="3423" y="13171"/>
                </a:cubicBezTo>
                <a:cubicBezTo>
                  <a:pt x="3481" y="13184"/>
                  <a:pt x="3555" y="13164"/>
                  <a:pt x="3597" y="13122"/>
                </a:cubicBezTo>
                <a:cubicBezTo>
                  <a:pt x="3655" y="13063"/>
                  <a:pt x="3694" y="12952"/>
                  <a:pt x="3721" y="12874"/>
                </a:cubicBezTo>
                <a:cubicBezTo>
                  <a:pt x="3751" y="12786"/>
                  <a:pt x="3782" y="12692"/>
                  <a:pt x="3795" y="12601"/>
                </a:cubicBezTo>
                <a:cubicBezTo>
                  <a:pt x="3803" y="12545"/>
                  <a:pt x="3795" y="12483"/>
                  <a:pt x="3795" y="12427"/>
                </a:cubicBezTo>
                <a:cubicBezTo>
                  <a:pt x="3795" y="12485"/>
                  <a:pt x="3795" y="12493"/>
                  <a:pt x="3795" y="12551"/>
                </a:cubicBezTo>
                <a:cubicBezTo>
                  <a:pt x="3795" y="12648"/>
                  <a:pt x="3810" y="12732"/>
                  <a:pt x="3820" y="12824"/>
                </a:cubicBezTo>
                <a:cubicBezTo>
                  <a:pt x="3830" y="12913"/>
                  <a:pt x="3844" y="13012"/>
                  <a:pt x="3870" y="13097"/>
                </a:cubicBezTo>
                <a:cubicBezTo>
                  <a:pt x="3882" y="13137"/>
                  <a:pt x="3905" y="13183"/>
                  <a:pt x="3919" y="13221"/>
                </a:cubicBezTo>
              </a:path>
              <a:path w="6673" h="2680">
                <a:moveTo>
                  <a:pt x="4068" y="13122"/>
                </a:moveTo>
                <a:cubicBezTo>
                  <a:pt x="4098" y="13082"/>
                  <a:pt x="4073" y="13058"/>
                  <a:pt x="4093" y="13022"/>
                </a:cubicBezTo>
                <a:cubicBezTo>
                  <a:pt x="4113" y="12987"/>
                  <a:pt x="4149" y="12961"/>
                  <a:pt x="4167" y="12948"/>
                </a:cubicBezTo>
                <a:cubicBezTo>
                  <a:pt x="4202" y="12922"/>
                  <a:pt x="4198" y="12923"/>
                  <a:pt x="4242" y="12923"/>
                </a:cubicBezTo>
                <a:cubicBezTo>
                  <a:pt x="4265" y="12955"/>
                  <a:pt x="4306" y="13006"/>
                  <a:pt x="4316" y="13047"/>
                </a:cubicBezTo>
                <a:cubicBezTo>
                  <a:pt x="4332" y="13115"/>
                  <a:pt x="4338" y="13202"/>
                  <a:pt x="4341" y="13271"/>
                </a:cubicBezTo>
                <a:cubicBezTo>
                  <a:pt x="4345" y="13367"/>
                  <a:pt x="4346" y="13454"/>
                  <a:pt x="4316" y="13543"/>
                </a:cubicBezTo>
                <a:cubicBezTo>
                  <a:pt x="4283" y="13640"/>
                  <a:pt x="4223" y="13757"/>
                  <a:pt x="4118" y="13791"/>
                </a:cubicBezTo>
                <a:cubicBezTo>
                  <a:pt x="4040" y="13817"/>
                  <a:pt x="4023" y="13786"/>
                  <a:pt x="3994" y="13742"/>
                </a:cubicBezTo>
                <a:cubicBezTo>
                  <a:pt x="3963" y="13696"/>
                  <a:pt x="3969" y="13678"/>
                  <a:pt x="3969" y="13618"/>
                </a:cubicBezTo>
                <a:cubicBezTo>
                  <a:pt x="3969" y="13563"/>
                  <a:pt x="4003" y="13546"/>
                  <a:pt x="4018" y="13519"/>
                </a:cubicBezTo>
                <a:cubicBezTo>
                  <a:pt x="4045" y="13470"/>
                  <a:pt x="4045" y="13503"/>
                  <a:pt x="4093" y="13519"/>
                </a:cubicBezTo>
                <a:cubicBezTo>
                  <a:pt x="4149" y="13538"/>
                  <a:pt x="4140" y="13567"/>
                  <a:pt x="4167" y="13618"/>
                </a:cubicBezTo>
                <a:cubicBezTo>
                  <a:pt x="4199" y="13676"/>
                  <a:pt x="4215" y="13733"/>
                  <a:pt x="4242" y="13791"/>
                </a:cubicBezTo>
                <a:cubicBezTo>
                  <a:pt x="4271" y="13853"/>
                  <a:pt x="4252" y="13866"/>
                  <a:pt x="4316" y="13866"/>
                </a:cubicBezTo>
              </a:path>
              <a:path w="6673" h="2680">
                <a:moveTo>
                  <a:pt x="4490" y="13246"/>
                </a:moveTo>
                <a:cubicBezTo>
                  <a:pt x="4506" y="13224"/>
                  <a:pt x="4529" y="13176"/>
                  <a:pt x="4539" y="13171"/>
                </a:cubicBezTo>
                <a:cubicBezTo>
                  <a:pt x="4563" y="13159"/>
                  <a:pt x="4574" y="13129"/>
                  <a:pt x="4589" y="13122"/>
                </a:cubicBezTo>
                <a:cubicBezTo>
                  <a:pt x="4615" y="13110"/>
                  <a:pt x="4655" y="13076"/>
                  <a:pt x="4663" y="13072"/>
                </a:cubicBezTo>
                <a:cubicBezTo>
                  <a:pt x="4696" y="13056"/>
                  <a:pt x="4753" y="13090"/>
                  <a:pt x="4762" y="13122"/>
                </a:cubicBezTo>
                <a:cubicBezTo>
                  <a:pt x="4786" y="13208"/>
                  <a:pt x="4787" y="13297"/>
                  <a:pt x="4787" y="13395"/>
                </a:cubicBezTo>
                <a:cubicBezTo>
                  <a:pt x="4787" y="13485"/>
                  <a:pt x="4790" y="13559"/>
                  <a:pt x="4762" y="13643"/>
                </a:cubicBezTo>
                <a:cubicBezTo>
                  <a:pt x="4738" y="13716"/>
                  <a:pt x="4708" y="13802"/>
                  <a:pt x="4663" y="13866"/>
                </a:cubicBezTo>
                <a:cubicBezTo>
                  <a:pt x="4648" y="13888"/>
                  <a:pt x="4565" y="13952"/>
                  <a:pt x="4539" y="13940"/>
                </a:cubicBezTo>
                <a:cubicBezTo>
                  <a:pt x="4508" y="13926"/>
                  <a:pt x="4476" y="13899"/>
                  <a:pt x="4465" y="13866"/>
                </a:cubicBezTo>
                <a:cubicBezTo>
                  <a:pt x="4446" y="13811"/>
                  <a:pt x="4476" y="13759"/>
                  <a:pt x="4490" y="13717"/>
                </a:cubicBezTo>
                <a:cubicBezTo>
                  <a:pt x="4495" y="13701"/>
                  <a:pt x="4529" y="13652"/>
                  <a:pt x="4564" y="13667"/>
                </a:cubicBezTo>
                <a:cubicBezTo>
                  <a:pt x="4616" y="13690"/>
                  <a:pt x="4659" y="13744"/>
                  <a:pt x="4688" y="13791"/>
                </a:cubicBezTo>
                <a:cubicBezTo>
                  <a:pt x="4732" y="13864"/>
                  <a:pt x="4753" y="13927"/>
                  <a:pt x="4812" y="13990"/>
                </a:cubicBezTo>
                <a:cubicBezTo>
                  <a:pt x="4824" y="14003"/>
                  <a:pt x="4890" y="14085"/>
                  <a:pt x="4911" y="14064"/>
                </a:cubicBezTo>
                <a:cubicBezTo>
                  <a:pt x="4919" y="14048"/>
                  <a:pt x="4928" y="14031"/>
                  <a:pt x="4936" y="14015"/>
                </a:cubicBezTo>
              </a:path>
              <a:path w="6673" h="2680">
                <a:moveTo>
                  <a:pt x="5060" y="12626"/>
                </a:moveTo>
                <a:cubicBezTo>
                  <a:pt x="5093" y="12576"/>
                  <a:pt x="5126" y="12563"/>
                  <a:pt x="5184" y="12551"/>
                </a:cubicBezTo>
                <a:cubicBezTo>
                  <a:pt x="5228" y="12542"/>
                  <a:pt x="5288" y="12551"/>
                  <a:pt x="5333" y="12551"/>
                </a:cubicBezTo>
              </a:path>
              <a:path w="6673" h="2680">
                <a:moveTo>
                  <a:pt x="5159" y="12849"/>
                </a:moveTo>
                <a:cubicBezTo>
                  <a:pt x="5211" y="12880"/>
                  <a:pt x="5291" y="12938"/>
                  <a:pt x="5358" y="12923"/>
                </a:cubicBezTo>
                <a:cubicBezTo>
                  <a:pt x="5406" y="12899"/>
                  <a:pt x="5420" y="12890"/>
                  <a:pt x="5457" y="12898"/>
                </a:cubicBezTo>
              </a:path>
              <a:path w="6673" h="2680">
                <a:moveTo>
                  <a:pt x="5904" y="12129"/>
                </a:moveTo>
                <a:cubicBezTo>
                  <a:pt x="5890" y="12219"/>
                  <a:pt x="5857" y="12299"/>
                  <a:pt x="5829" y="12378"/>
                </a:cubicBezTo>
                <a:cubicBezTo>
                  <a:pt x="5808" y="12436"/>
                  <a:pt x="5761" y="12461"/>
                  <a:pt x="5755" y="12526"/>
                </a:cubicBezTo>
                <a:cubicBezTo>
                  <a:pt x="5750" y="12576"/>
                  <a:pt x="5770" y="12582"/>
                  <a:pt x="5779" y="12601"/>
                </a:cubicBezTo>
                <a:cubicBezTo>
                  <a:pt x="5792" y="12628"/>
                  <a:pt x="5833" y="12639"/>
                  <a:pt x="5879" y="12650"/>
                </a:cubicBezTo>
                <a:cubicBezTo>
                  <a:pt x="5957" y="12669"/>
                  <a:pt x="6114" y="12663"/>
                  <a:pt x="6176" y="12626"/>
                </a:cubicBezTo>
              </a:path>
              <a:path w="6673" h="2680">
                <a:moveTo>
                  <a:pt x="6176" y="11733"/>
                </a:moveTo>
                <a:cubicBezTo>
                  <a:pt x="6158" y="11800"/>
                  <a:pt x="6165" y="11862"/>
                  <a:pt x="6152" y="11931"/>
                </a:cubicBezTo>
                <a:cubicBezTo>
                  <a:pt x="6128" y="12056"/>
                  <a:pt x="6127" y="12173"/>
                  <a:pt x="6127" y="12303"/>
                </a:cubicBezTo>
                <a:cubicBezTo>
                  <a:pt x="6127" y="12529"/>
                  <a:pt x="6134" y="12751"/>
                  <a:pt x="6152" y="12973"/>
                </a:cubicBezTo>
                <a:cubicBezTo>
                  <a:pt x="6162" y="13090"/>
                  <a:pt x="6176" y="13202"/>
                  <a:pt x="6176" y="13320"/>
                </a:cubicBezTo>
                <a:cubicBezTo>
                  <a:pt x="6176" y="13387"/>
                  <a:pt x="6206" y="13413"/>
                  <a:pt x="6176" y="13469"/>
                </a:cubicBezTo>
                <a:cubicBezTo>
                  <a:pt x="6154" y="13511"/>
                  <a:pt x="6136" y="13485"/>
                  <a:pt x="6152" y="13444"/>
                </a:cubicBezTo>
                <a:cubicBezTo>
                  <a:pt x="6160" y="13436"/>
                  <a:pt x="6168" y="13427"/>
                  <a:pt x="6176" y="13419"/>
                </a:cubicBezTo>
              </a:path>
              <a:path w="6673" h="2680">
                <a:moveTo>
                  <a:pt x="6747" y="12700"/>
                </a:moveTo>
                <a:cubicBezTo>
                  <a:pt x="6730" y="12712"/>
                  <a:pt x="6666" y="12748"/>
                  <a:pt x="6672" y="12774"/>
                </a:cubicBezTo>
                <a:cubicBezTo>
                  <a:pt x="6680" y="12782"/>
                  <a:pt x="6689" y="12791"/>
                  <a:pt x="6697" y="12799"/>
                </a:cubicBezTo>
                <a:cubicBezTo>
                  <a:pt x="6710" y="12786"/>
                  <a:pt x="6781" y="12727"/>
                  <a:pt x="6747" y="12700"/>
                </a:cubicBezTo>
                <a:cubicBezTo>
                  <a:pt x="6714" y="12674"/>
                  <a:pt x="6651" y="12718"/>
                  <a:pt x="6623" y="12725"/>
                </a:cubicBezTo>
                <a:cubicBezTo>
                  <a:pt x="6635" y="12761"/>
                  <a:pt x="6636" y="12761"/>
                  <a:pt x="6648" y="12725"/>
                </a:cubicBezTo>
              </a:path>
              <a:path w="6673" h="2680">
                <a:moveTo>
                  <a:pt x="7119" y="12179"/>
                </a:moveTo>
                <a:cubicBezTo>
                  <a:pt x="7133" y="12155"/>
                  <a:pt x="7163" y="12115"/>
                  <a:pt x="7169" y="12105"/>
                </a:cubicBezTo>
                <a:cubicBezTo>
                  <a:pt x="7188" y="12072"/>
                  <a:pt x="7186" y="12034"/>
                  <a:pt x="7218" y="12005"/>
                </a:cubicBezTo>
                <a:cubicBezTo>
                  <a:pt x="7251" y="11975"/>
                  <a:pt x="7279" y="11972"/>
                  <a:pt x="7317" y="11956"/>
                </a:cubicBezTo>
                <a:cubicBezTo>
                  <a:pt x="7369" y="11935"/>
                  <a:pt x="7376" y="11931"/>
                  <a:pt x="7441" y="11931"/>
                </a:cubicBezTo>
                <a:cubicBezTo>
                  <a:pt x="7534" y="11931"/>
                  <a:pt x="7588" y="12006"/>
                  <a:pt x="7640" y="12080"/>
                </a:cubicBezTo>
                <a:cubicBezTo>
                  <a:pt x="7691" y="12152"/>
                  <a:pt x="7715" y="12269"/>
                  <a:pt x="7739" y="12353"/>
                </a:cubicBezTo>
                <a:cubicBezTo>
                  <a:pt x="7796" y="12554"/>
                  <a:pt x="7797" y="12769"/>
                  <a:pt x="7764" y="12973"/>
                </a:cubicBezTo>
                <a:cubicBezTo>
                  <a:pt x="7746" y="13084"/>
                  <a:pt x="7713" y="13243"/>
                  <a:pt x="7665" y="13345"/>
                </a:cubicBezTo>
                <a:cubicBezTo>
                  <a:pt x="7626" y="13428"/>
                  <a:pt x="7567" y="13522"/>
                  <a:pt x="7491" y="13568"/>
                </a:cubicBezTo>
                <a:cubicBezTo>
                  <a:pt x="7440" y="13599"/>
                  <a:pt x="7399" y="13630"/>
                  <a:pt x="7342" y="13643"/>
                </a:cubicBezTo>
                <a:cubicBezTo>
                  <a:pt x="7305" y="13651"/>
                  <a:pt x="7240" y="13623"/>
                  <a:pt x="7218" y="13593"/>
                </a:cubicBezTo>
                <a:cubicBezTo>
                  <a:pt x="7187" y="13551"/>
                  <a:pt x="7171" y="13498"/>
                  <a:pt x="7169" y="13444"/>
                </a:cubicBezTo>
                <a:cubicBezTo>
                  <a:pt x="7167" y="13390"/>
                  <a:pt x="7166" y="13318"/>
                  <a:pt x="7193" y="13271"/>
                </a:cubicBezTo>
                <a:cubicBezTo>
                  <a:pt x="7219" y="13224"/>
                  <a:pt x="7249" y="13226"/>
                  <a:pt x="7293" y="13221"/>
                </a:cubicBezTo>
                <a:cubicBezTo>
                  <a:pt x="7365" y="13213"/>
                  <a:pt x="7376" y="13248"/>
                  <a:pt x="7417" y="13295"/>
                </a:cubicBezTo>
                <a:cubicBezTo>
                  <a:pt x="7482" y="13369"/>
                  <a:pt x="7517" y="13437"/>
                  <a:pt x="7565" y="13519"/>
                </a:cubicBezTo>
                <a:cubicBezTo>
                  <a:pt x="7613" y="13603"/>
                  <a:pt x="7648" y="13680"/>
                  <a:pt x="7689" y="13767"/>
                </a:cubicBezTo>
                <a:cubicBezTo>
                  <a:pt x="7705" y="13802"/>
                  <a:pt x="7724" y="13837"/>
                  <a:pt x="7739" y="13866"/>
                </a:cubicBezTo>
                <a:cubicBezTo>
                  <a:pt x="7796" y="13819"/>
                  <a:pt x="7771" y="13826"/>
                  <a:pt x="7789" y="13742"/>
                </a:cubicBezTo>
                <a:cubicBezTo>
                  <a:pt x="7797" y="13717"/>
                  <a:pt x="7805" y="13692"/>
                  <a:pt x="7813" y="13667"/>
                </a:cubicBezTo>
              </a:path>
              <a:path w="6673" h="2680">
                <a:moveTo>
                  <a:pt x="8037" y="11509"/>
                </a:moveTo>
                <a:cubicBezTo>
                  <a:pt x="7985" y="11613"/>
                  <a:pt x="7968" y="11678"/>
                  <a:pt x="7938" y="11782"/>
                </a:cubicBezTo>
                <a:cubicBezTo>
                  <a:pt x="7915" y="11862"/>
                  <a:pt x="7913" y="11918"/>
                  <a:pt x="7913" y="12005"/>
                </a:cubicBezTo>
                <a:cubicBezTo>
                  <a:pt x="7913" y="12071"/>
                  <a:pt x="7929" y="12171"/>
                  <a:pt x="7962" y="12229"/>
                </a:cubicBezTo>
                <a:cubicBezTo>
                  <a:pt x="7992" y="12259"/>
                  <a:pt x="8006" y="12270"/>
                  <a:pt x="8037" y="12278"/>
                </a:cubicBezTo>
              </a:path>
              <a:path w="6673" h="2680">
                <a:moveTo>
                  <a:pt x="8210" y="11658"/>
                </a:moveTo>
                <a:cubicBezTo>
                  <a:pt x="8270" y="11617"/>
                  <a:pt x="8302" y="11560"/>
                  <a:pt x="8359" y="11609"/>
                </a:cubicBezTo>
                <a:cubicBezTo>
                  <a:pt x="8402" y="11646"/>
                  <a:pt x="8446" y="11700"/>
                  <a:pt x="8458" y="11757"/>
                </a:cubicBezTo>
                <a:cubicBezTo>
                  <a:pt x="8481" y="11861"/>
                  <a:pt x="8460" y="11991"/>
                  <a:pt x="8409" y="12080"/>
                </a:cubicBezTo>
                <a:cubicBezTo>
                  <a:pt x="8390" y="12113"/>
                  <a:pt x="8344" y="12150"/>
                  <a:pt x="8310" y="12154"/>
                </a:cubicBezTo>
                <a:cubicBezTo>
                  <a:pt x="8271" y="12158"/>
                  <a:pt x="8228" y="12145"/>
                  <a:pt x="8210" y="12105"/>
                </a:cubicBezTo>
                <a:cubicBezTo>
                  <a:pt x="8200" y="12083"/>
                  <a:pt x="8224" y="12012"/>
                  <a:pt x="8235" y="12005"/>
                </a:cubicBezTo>
                <a:cubicBezTo>
                  <a:pt x="8268" y="11983"/>
                  <a:pt x="8313" y="12018"/>
                  <a:pt x="8334" y="12030"/>
                </a:cubicBezTo>
                <a:cubicBezTo>
                  <a:pt x="8383" y="12058"/>
                  <a:pt x="8430" y="12076"/>
                  <a:pt x="8483" y="12080"/>
                </a:cubicBezTo>
                <a:cubicBezTo>
                  <a:pt x="8540" y="12085"/>
                  <a:pt x="8506" y="12106"/>
                  <a:pt x="8558" y="12080"/>
                </a:cubicBezTo>
              </a:path>
              <a:path w="6673" h="2680">
                <a:moveTo>
                  <a:pt x="8632" y="11609"/>
                </a:moveTo>
                <a:cubicBezTo>
                  <a:pt x="8668" y="11546"/>
                  <a:pt x="8693" y="11505"/>
                  <a:pt x="8781" y="11534"/>
                </a:cubicBezTo>
                <a:cubicBezTo>
                  <a:pt x="8848" y="11556"/>
                  <a:pt x="8866" y="11633"/>
                  <a:pt x="8880" y="11683"/>
                </a:cubicBezTo>
                <a:cubicBezTo>
                  <a:pt x="8909" y="11787"/>
                  <a:pt x="8896" y="11831"/>
                  <a:pt x="8880" y="11931"/>
                </a:cubicBezTo>
                <a:cubicBezTo>
                  <a:pt x="8870" y="11992"/>
                  <a:pt x="8851" y="12030"/>
                  <a:pt x="8806" y="12080"/>
                </a:cubicBezTo>
                <a:cubicBezTo>
                  <a:pt x="8791" y="12096"/>
                  <a:pt x="8729" y="12139"/>
                  <a:pt x="8706" y="12129"/>
                </a:cubicBezTo>
                <a:cubicBezTo>
                  <a:pt x="8662" y="12110"/>
                  <a:pt x="8657" y="12070"/>
                  <a:pt x="8657" y="12030"/>
                </a:cubicBezTo>
                <a:cubicBezTo>
                  <a:pt x="8695" y="12030"/>
                  <a:pt x="8727" y="12038"/>
                  <a:pt x="8756" y="12055"/>
                </a:cubicBezTo>
                <a:cubicBezTo>
                  <a:pt x="8834" y="12101"/>
                  <a:pt x="8853" y="12155"/>
                  <a:pt x="8930" y="12179"/>
                </a:cubicBezTo>
                <a:cubicBezTo>
                  <a:pt x="8958" y="12179"/>
                  <a:pt x="8968" y="12176"/>
                  <a:pt x="8979" y="12154"/>
                </a:cubicBezTo>
              </a:path>
              <a:path w="6673" h="2680">
                <a:moveTo>
                  <a:pt x="9054" y="11807"/>
                </a:moveTo>
                <a:cubicBezTo>
                  <a:pt x="9110" y="11796"/>
                  <a:pt x="9176" y="11829"/>
                  <a:pt x="9227" y="11807"/>
                </a:cubicBezTo>
                <a:cubicBezTo>
                  <a:pt x="9235" y="11799"/>
                  <a:pt x="9244" y="11790"/>
                  <a:pt x="9252" y="11782"/>
                </a:cubicBezTo>
              </a:path>
              <a:path w="6673" h="2680">
                <a:moveTo>
                  <a:pt x="9500" y="11708"/>
                </a:moveTo>
                <a:cubicBezTo>
                  <a:pt x="9500" y="11832"/>
                  <a:pt x="9492" y="11984"/>
                  <a:pt x="9525" y="12105"/>
                </a:cubicBezTo>
                <a:cubicBezTo>
                  <a:pt x="9535" y="12140"/>
                  <a:pt x="9576" y="12284"/>
                  <a:pt x="9599" y="12303"/>
                </a:cubicBezTo>
                <a:cubicBezTo>
                  <a:pt x="9607" y="12303"/>
                  <a:pt x="9616" y="12303"/>
                  <a:pt x="9624" y="12303"/>
                </a:cubicBezTo>
              </a:path>
              <a:path w="6673" h="2680">
                <a:moveTo>
                  <a:pt x="9599" y="11385"/>
                </a:moveTo>
                <a:cubicBezTo>
                  <a:pt x="9710" y="11538"/>
                  <a:pt x="9773" y="11649"/>
                  <a:pt x="9823" y="11832"/>
                </a:cubicBezTo>
                <a:cubicBezTo>
                  <a:pt x="9866" y="11990"/>
                  <a:pt x="9885" y="12046"/>
                  <a:pt x="9823" y="12204"/>
                </a:cubicBezTo>
                <a:cubicBezTo>
                  <a:pt x="9798" y="12254"/>
                  <a:pt x="9790" y="12270"/>
                  <a:pt x="977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45040" y="3643200"/>
            <a:ext cx="2759040" cy="500040"/>
          </a:xfrm>
          <a:custGeom>
            <a:avLst/>
            <a:gdLst/>
            <a:ahLst/>
            <a:rect l="l" t="t" r="r" b="b"/>
            <a:pathLst>
              <a:path w="7665" h="1390">
                <a:moveTo>
                  <a:pt x="14064" y="10269"/>
                </a:moveTo>
                <a:cubicBezTo>
                  <a:pt x="14071" y="10218"/>
                  <a:pt x="14075" y="10209"/>
                  <a:pt x="14114" y="10170"/>
                </a:cubicBezTo>
                <a:cubicBezTo>
                  <a:pt x="14171" y="10113"/>
                  <a:pt x="14238" y="10120"/>
                  <a:pt x="14312" y="10120"/>
                </a:cubicBezTo>
                <a:cubicBezTo>
                  <a:pt x="14395" y="10120"/>
                  <a:pt x="14483" y="10106"/>
                  <a:pt x="14560" y="10145"/>
                </a:cubicBezTo>
                <a:cubicBezTo>
                  <a:pt x="14596" y="10163"/>
                  <a:pt x="14676" y="10254"/>
                  <a:pt x="14684" y="10294"/>
                </a:cubicBezTo>
                <a:cubicBezTo>
                  <a:pt x="14705" y="10401"/>
                  <a:pt x="14672" y="10476"/>
                  <a:pt x="14635" y="10567"/>
                </a:cubicBezTo>
                <a:cubicBezTo>
                  <a:pt x="14586" y="10687"/>
                  <a:pt x="14525" y="10770"/>
                  <a:pt x="14436" y="10864"/>
                </a:cubicBezTo>
                <a:cubicBezTo>
                  <a:pt x="14355" y="10949"/>
                  <a:pt x="14270" y="11029"/>
                  <a:pt x="14188" y="11112"/>
                </a:cubicBezTo>
                <a:cubicBezTo>
                  <a:pt x="14122" y="11178"/>
                  <a:pt x="14090" y="11237"/>
                  <a:pt x="14039" y="11311"/>
                </a:cubicBezTo>
                <a:cubicBezTo>
                  <a:pt x="14017" y="11344"/>
                  <a:pt x="14003" y="11393"/>
                  <a:pt x="14064" y="11410"/>
                </a:cubicBezTo>
                <a:cubicBezTo>
                  <a:pt x="14134" y="11430"/>
                  <a:pt x="14239" y="11432"/>
                  <a:pt x="14312" y="11435"/>
                </a:cubicBezTo>
                <a:cubicBezTo>
                  <a:pt x="14426" y="11439"/>
                  <a:pt x="14528" y="11442"/>
                  <a:pt x="14635" y="11460"/>
                </a:cubicBezTo>
                <a:cubicBezTo>
                  <a:pt x="14660" y="11460"/>
                  <a:pt x="14668" y="11460"/>
                  <a:pt x="14684" y="11460"/>
                </a:cubicBezTo>
                <a:cubicBezTo>
                  <a:pt x="14684" y="11419"/>
                  <a:pt x="14684" y="11377"/>
                  <a:pt x="14684" y="11336"/>
                </a:cubicBezTo>
              </a:path>
              <a:path w="7665" h="1390">
                <a:moveTo>
                  <a:pt x="15081" y="10666"/>
                </a:moveTo>
                <a:cubicBezTo>
                  <a:pt x="15089" y="10666"/>
                  <a:pt x="15098" y="10666"/>
                  <a:pt x="15106" y="10666"/>
                </a:cubicBezTo>
                <a:cubicBezTo>
                  <a:pt x="15117" y="10708"/>
                  <a:pt x="15136" y="10746"/>
                  <a:pt x="15156" y="10790"/>
                </a:cubicBezTo>
                <a:cubicBezTo>
                  <a:pt x="15179" y="10841"/>
                  <a:pt x="15239" y="10950"/>
                  <a:pt x="15280" y="10988"/>
                </a:cubicBezTo>
                <a:cubicBezTo>
                  <a:pt x="15329" y="11034"/>
                  <a:pt x="15373" y="11070"/>
                  <a:pt x="15429" y="11112"/>
                </a:cubicBezTo>
                <a:cubicBezTo>
                  <a:pt x="15472" y="11144"/>
                  <a:pt x="15459" y="11145"/>
                  <a:pt x="15503" y="11112"/>
                </a:cubicBezTo>
              </a:path>
              <a:path w="7665" h="1390">
                <a:moveTo>
                  <a:pt x="15478" y="10641"/>
                </a:moveTo>
                <a:cubicBezTo>
                  <a:pt x="15412" y="10742"/>
                  <a:pt x="15347" y="10870"/>
                  <a:pt x="15280" y="10964"/>
                </a:cubicBezTo>
                <a:cubicBezTo>
                  <a:pt x="15236" y="11025"/>
                  <a:pt x="15185" y="11083"/>
                  <a:pt x="15131" y="11137"/>
                </a:cubicBezTo>
                <a:cubicBezTo>
                  <a:pt x="15118" y="11150"/>
                  <a:pt x="15029" y="11238"/>
                  <a:pt x="15106" y="11187"/>
                </a:cubicBezTo>
              </a:path>
              <a:path w="7665" h="1390">
                <a:moveTo>
                  <a:pt x="15875" y="10319"/>
                </a:moveTo>
                <a:cubicBezTo>
                  <a:pt x="15952" y="10285"/>
                  <a:pt x="16095" y="10193"/>
                  <a:pt x="16197" y="10220"/>
                </a:cubicBezTo>
                <a:cubicBezTo>
                  <a:pt x="16260" y="10237"/>
                  <a:pt x="16316" y="10293"/>
                  <a:pt x="16346" y="10344"/>
                </a:cubicBezTo>
                <a:cubicBezTo>
                  <a:pt x="16392" y="10421"/>
                  <a:pt x="16413" y="10501"/>
                  <a:pt x="16396" y="10592"/>
                </a:cubicBezTo>
                <a:cubicBezTo>
                  <a:pt x="16377" y="10695"/>
                  <a:pt x="16329" y="10783"/>
                  <a:pt x="16272" y="10864"/>
                </a:cubicBezTo>
                <a:cubicBezTo>
                  <a:pt x="16212" y="10949"/>
                  <a:pt x="16121" y="11048"/>
                  <a:pt x="16073" y="11137"/>
                </a:cubicBezTo>
                <a:cubicBezTo>
                  <a:pt x="16041" y="11196"/>
                  <a:pt x="15945" y="11311"/>
                  <a:pt x="15949" y="11385"/>
                </a:cubicBezTo>
                <a:cubicBezTo>
                  <a:pt x="15952" y="11455"/>
                  <a:pt x="16002" y="11443"/>
                  <a:pt x="16049" y="11460"/>
                </a:cubicBezTo>
                <a:cubicBezTo>
                  <a:pt x="16144" y="11494"/>
                  <a:pt x="16191" y="11509"/>
                  <a:pt x="16297" y="11509"/>
                </a:cubicBezTo>
                <a:cubicBezTo>
                  <a:pt x="16395" y="11509"/>
                  <a:pt x="16453" y="11493"/>
                  <a:pt x="16545" y="11460"/>
                </a:cubicBezTo>
              </a:path>
              <a:path w="7665" h="1390">
                <a:moveTo>
                  <a:pt x="16768" y="10740"/>
                </a:moveTo>
                <a:cubicBezTo>
                  <a:pt x="16819" y="10836"/>
                  <a:pt x="16873" y="10930"/>
                  <a:pt x="16942" y="11013"/>
                </a:cubicBezTo>
                <a:cubicBezTo>
                  <a:pt x="16990" y="11071"/>
                  <a:pt x="17061" y="11165"/>
                  <a:pt x="17115" y="11212"/>
                </a:cubicBezTo>
                <a:cubicBezTo>
                  <a:pt x="17126" y="11221"/>
                  <a:pt x="17225" y="11267"/>
                  <a:pt x="17239" y="11261"/>
                </a:cubicBezTo>
                <a:cubicBezTo>
                  <a:pt x="17305" y="11233"/>
                  <a:pt x="17285" y="11169"/>
                  <a:pt x="17289" y="11112"/>
                </a:cubicBezTo>
              </a:path>
              <a:path w="7665" h="1390">
                <a:moveTo>
                  <a:pt x="17165" y="10691"/>
                </a:moveTo>
                <a:cubicBezTo>
                  <a:pt x="17087" y="10784"/>
                  <a:pt x="17019" y="10870"/>
                  <a:pt x="16942" y="10964"/>
                </a:cubicBezTo>
                <a:cubicBezTo>
                  <a:pt x="16893" y="11024"/>
                  <a:pt x="16833" y="11070"/>
                  <a:pt x="16793" y="11137"/>
                </a:cubicBezTo>
                <a:cubicBezTo>
                  <a:pt x="16765" y="11184"/>
                  <a:pt x="16714" y="11197"/>
                  <a:pt x="16743" y="11212"/>
                </a:cubicBezTo>
              </a:path>
              <a:path w="7665" h="1390">
                <a:moveTo>
                  <a:pt x="17537" y="10418"/>
                </a:moveTo>
                <a:cubicBezTo>
                  <a:pt x="17684" y="10369"/>
                  <a:pt x="17767" y="10331"/>
                  <a:pt x="17909" y="10344"/>
                </a:cubicBezTo>
                <a:cubicBezTo>
                  <a:pt x="17999" y="10352"/>
                  <a:pt x="18006" y="10361"/>
                  <a:pt x="18058" y="10418"/>
                </a:cubicBezTo>
                <a:cubicBezTo>
                  <a:pt x="18107" y="10472"/>
                  <a:pt x="18082" y="10553"/>
                  <a:pt x="18058" y="10616"/>
                </a:cubicBezTo>
                <a:cubicBezTo>
                  <a:pt x="18020" y="10715"/>
                  <a:pt x="17972" y="10781"/>
                  <a:pt x="17909" y="10864"/>
                </a:cubicBezTo>
                <a:cubicBezTo>
                  <a:pt x="17839" y="10957"/>
                  <a:pt x="17754" y="11043"/>
                  <a:pt x="17686" y="11137"/>
                </a:cubicBezTo>
                <a:cubicBezTo>
                  <a:pt x="17638" y="11203"/>
                  <a:pt x="17573" y="11298"/>
                  <a:pt x="17587" y="11385"/>
                </a:cubicBezTo>
                <a:cubicBezTo>
                  <a:pt x="17601" y="11470"/>
                  <a:pt x="17616" y="11466"/>
                  <a:pt x="17686" y="11485"/>
                </a:cubicBezTo>
                <a:cubicBezTo>
                  <a:pt x="17777" y="11509"/>
                  <a:pt x="17887" y="11526"/>
                  <a:pt x="17983" y="11509"/>
                </a:cubicBezTo>
                <a:cubicBezTo>
                  <a:pt x="18058" y="11485"/>
                  <a:pt x="18083" y="11477"/>
                  <a:pt x="18132" y="11460"/>
                </a:cubicBezTo>
              </a:path>
              <a:path w="7665" h="1390">
                <a:moveTo>
                  <a:pt x="18430" y="10691"/>
                </a:moveTo>
                <a:cubicBezTo>
                  <a:pt x="18486" y="10747"/>
                  <a:pt x="18545" y="10791"/>
                  <a:pt x="18604" y="10840"/>
                </a:cubicBezTo>
                <a:cubicBezTo>
                  <a:pt x="18674" y="10898"/>
                  <a:pt x="18715" y="10948"/>
                  <a:pt x="18777" y="11013"/>
                </a:cubicBezTo>
                <a:cubicBezTo>
                  <a:pt x="18807" y="11044"/>
                  <a:pt x="18899" y="11120"/>
                  <a:pt x="18951" y="11112"/>
                </a:cubicBezTo>
                <a:cubicBezTo>
                  <a:pt x="18976" y="11088"/>
                  <a:pt x="18984" y="11080"/>
                  <a:pt x="19000" y="11063"/>
                </a:cubicBezTo>
              </a:path>
              <a:path w="7665" h="1390">
                <a:moveTo>
                  <a:pt x="18827" y="10616"/>
                </a:moveTo>
                <a:cubicBezTo>
                  <a:pt x="18756" y="10733"/>
                  <a:pt x="18697" y="10841"/>
                  <a:pt x="18604" y="10939"/>
                </a:cubicBezTo>
                <a:cubicBezTo>
                  <a:pt x="18560" y="10985"/>
                  <a:pt x="18494" y="11028"/>
                  <a:pt x="18479" y="11088"/>
                </a:cubicBezTo>
                <a:cubicBezTo>
                  <a:pt x="18479" y="11029"/>
                  <a:pt x="18482" y="11003"/>
                  <a:pt x="18504" y="10964"/>
                </a:cubicBezTo>
              </a:path>
              <a:path w="7665" h="1390">
                <a:moveTo>
                  <a:pt x="19149" y="10319"/>
                </a:moveTo>
                <a:cubicBezTo>
                  <a:pt x="19260" y="10282"/>
                  <a:pt x="19398" y="10214"/>
                  <a:pt x="19521" y="10244"/>
                </a:cubicBezTo>
                <a:cubicBezTo>
                  <a:pt x="19654" y="10276"/>
                  <a:pt x="19707" y="10306"/>
                  <a:pt x="19769" y="10418"/>
                </a:cubicBezTo>
                <a:cubicBezTo>
                  <a:pt x="19821" y="10513"/>
                  <a:pt x="19777" y="10596"/>
                  <a:pt x="19745" y="10691"/>
                </a:cubicBezTo>
                <a:cubicBezTo>
                  <a:pt x="19709" y="10800"/>
                  <a:pt x="19671" y="10877"/>
                  <a:pt x="19596" y="10964"/>
                </a:cubicBezTo>
                <a:cubicBezTo>
                  <a:pt x="19514" y="11059"/>
                  <a:pt x="19421" y="11160"/>
                  <a:pt x="19348" y="11261"/>
                </a:cubicBezTo>
                <a:cubicBezTo>
                  <a:pt x="19324" y="11294"/>
                  <a:pt x="19307" y="11369"/>
                  <a:pt x="19323" y="11410"/>
                </a:cubicBezTo>
                <a:cubicBezTo>
                  <a:pt x="19344" y="11464"/>
                  <a:pt x="19450" y="11483"/>
                  <a:pt x="19496" y="11485"/>
                </a:cubicBezTo>
                <a:cubicBezTo>
                  <a:pt x="19597" y="11489"/>
                  <a:pt x="19698" y="11494"/>
                  <a:pt x="19794" y="11460"/>
                </a:cubicBezTo>
                <a:cubicBezTo>
                  <a:pt x="19835" y="11443"/>
                  <a:pt x="19877" y="11427"/>
                  <a:pt x="19918" y="11410"/>
                </a:cubicBezTo>
              </a:path>
              <a:path w="7665" h="1390">
                <a:moveTo>
                  <a:pt x="20265" y="10765"/>
                </a:moveTo>
                <a:cubicBezTo>
                  <a:pt x="20353" y="10853"/>
                  <a:pt x="20446" y="10931"/>
                  <a:pt x="20538" y="11013"/>
                </a:cubicBezTo>
                <a:cubicBezTo>
                  <a:pt x="20609" y="11077"/>
                  <a:pt x="20662" y="11152"/>
                  <a:pt x="20762" y="11162"/>
                </a:cubicBezTo>
                <a:cubicBezTo>
                  <a:pt x="20838" y="11170"/>
                  <a:pt x="20811" y="11051"/>
                  <a:pt x="20811" y="11013"/>
                </a:cubicBezTo>
              </a:path>
              <a:path w="7665" h="1390">
                <a:moveTo>
                  <a:pt x="20513" y="10716"/>
                </a:moveTo>
                <a:cubicBezTo>
                  <a:pt x="20437" y="10781"/>
                  <a:pt x="20316" y="10873"/>
                  <a:pt x="20265" y="10964"/>
                </a:cubicBezTo>
                <a:cubicBezTo>
                  <a:pt x="20226" y="11034"/>
                  <a:pt x="20189" y="11096"/>
                  <a:pt x="20141" y="11162"/>
                </a:cubicBezTo>
                <a:cubicBezTo>
                  <a:pt x="20119" y="11185"/>
                  <a:pt x="20111" y="11190"/>
                  <a:pt x="20117" y="11212"/>
                </a:cubicBezTo>
              </a:path>
              <a:path w="7665" h="1390">
                <a:moveTo>
                  <a:pt x="21010" y="10244"/>
                </a:moveTo>
                <a:cubicBezTo>
                  <a:pt x="21100" y="10234"/>
                  <a:pt x="21312" y="10180"/>
                  <a:pt x="21406" y="10244"/>
                </a:cubicBezTo>
                <a:cubicBezTo>
                  <a:pt x="21429" y="10260"/>
                  <a:pt x="21531" y="10363"/>
                  <a:pt x="21530" y="10393"/>
                </a:cubicBezTo>
                <a:cubicBezTo>
                  <a:pt x="21526" y="10484"/>
                  <a:pt x="21486" y="10594"/>
                  <a:pt x="21431" y="10666"/>
                </a:cubicBezTo>
                <a:cubicBezTo>
                  <a:pt x="21364" y="10753"/>
                  <a:pt x="21314" y="10832"/>
                  <a:pt x="21233" y="10914"/>
                </a:cubicBezTo>
                <a:cubicBezTo>
                  <a:pt x="21159" y="10988"/>
                  <a:pt x="21044" y="11062"/>
                  <a:pt x="21010" y="11162"/>
                </a:cubicBezTo>
                <a:cubicBezTo>
                  <a:pt x="21001" y="11187"/>
                  <a:pt x="21001" y="11277"/>
                  <a:pt x="21034" y="11286"/>
                </a:cubicBezTo>
                <a:cubicBezTo>
                  <a:pt x="21193" y="11330"/>
                  <a:pt x="21422" y="11286"/>
                  <a:pt x="21580" y="11261"/>
                </a:cubicBezTo>
                <a:cubicBezTo>
                  <a:pt x="21630" y="11253"/>
                  <a:pt x="21667" y="11255"/>
                  <a:pt x="21679" y="11212"/>
                </a:cubicBezTo>
                <a:cubicBezTo>
                  <a:pt x="21679" y="11160"/>
                  <a:pt x="21678" y="11143"/>
                  <a:pt x="21630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303800"/>
            <a:ext cx="2930760" cy="420480"/>
          </a:xfrm>
          <a:custGeom>
            <a:avLst/>
            <a:gdLst/>
            <a:ahLst/>
            <a:rect l="l" t="t" r="r" b="b"/>
            <a:pathLst>
              <a:path w="8137" h="1167">
                <a:moveTo>
                  <a:pt x="13940" y="12328"/>
                </a:moveTo>
                <a:cubicBezTo>
                  <a:pt x="13940" y="12372"/>
                  <a:pt x="13950" y="12413"/>
                  <a:pt x="13965" y="12452"/>
                </a:cubicBezTo>
                <a:cubicBezTo>
                  <a:pt x="13996" y="12529"/>
                  <a:pt x="14050" y="12580"/>
                  <a:pt x="14089" y="12650"/>
                </a:cubicBezTo>
                <a:cubicBezTo>
                  <a:pt x="14128" y="12719"/>
                  <a:pt x="14156" y="12767"/>
                  <a:pt x="14213" y="12824"/>
                </a:cubicBezTo>
                <a:cubicBezTo>
                  <a:pt x="14221" y="12832"/>
                  <a:pt x="14230" y="12841"/>
                  <a:pt x="14238" y="12849"/>
                </a:cubicBezTo>
                <a:cubicBezTo>
                  <a:pt x="14273" y="12802"/>
                  <a:pt x="14263" y="12762"/>
                  <a:pt x="14263" y="12700"/>
                </a:cubicBezTo>
                <a:cubicBezTo>
                  <a:pt x="14263" y="12675"/>
                  <a:pt x="14263" y="12651"/>
                  <a:pt x="14263" y="12626"/>
                </a:cubicBezTo>
              </a:path>
              <a:path w="8137" h="1167">
                <a:moveTo>
                  <a:pt x="14163" y="12229"/>
                </a:moveTo>
                <a:cubicBezTo>
                  <a:pt x="14163" y="12310"/>
                  <a:pt x="14154" y="12379"/>
                  <a:pt x="14114" y="12452"/>
                </a:cubicBezTo>
                <a:cubicBezTo>
                  <a:pt x="14062" y="12548"/>
                  <a:pt x="13996" y="12637"/>
                  <a:pt x="13940" y="12725"/>
                </a:cubicBezTo>
                <a:cubicBezTo>
                  <a:pt x="13916" y="12762"/>
                  <a:pt x="13891" y="12874"/>
                  <a:pt x="13866" y="12824"/>
                </a:cubicBezTo>
              </a:path>
              <a:path w="8137" h="1167">
                <a:moveTo>
                  <a:pt x="14412" y="12105"/>
                </a:moveTo>
                <a:cubicBezTo>
                  <a:pt x="14545" y="12081"/>
                  <a:pt x="14588" y="12072"/>
                  <a:pt x="14709" y="12129"/>
                </a:cubicBezTo>
                <a:cubicBezTo>
                  <a:pt x="14801" y="12172"/>
                  <a:pt x="14821" y="12283"/>
                  <a:pt x="14833" y="12378"/>
                </a:cubicBezTo>
                <a:cubicBezTo>
                  <a:pt x="14845" y="12474"/>
                  <a:pt x="14817" y="12539"/>
                  <a:pt x="14784" y="12626"/>
                </a:cubicBezTo>
                <a:cubicBezTo>
                  <a:pt x="14754" y="12706"/>
                  <a:pt x="14730" y="12802"/>
                  <a:pt x="14684" y="12874"/>
                </a:cubicBezTo>
                <a:cubicBezTo>
                  <a:pt x="14646" y="12934"/>
                  <a:pt x="14660" y="12950"/>
                  <a:pt x="14709" y="12998"/>
                </a:cubicBezTo>
                <a:cubicBezTo>
                  <a:pt x="14782" y="13070"/>
                  <a:pt x="14843" y="13027"/>
                  <a:pt x="14932" y="13047"/>
                </a:cubicBezTo>
                <a:cubicBezTo>
                  <a:pt x="15016" y="13066"/>
                  <a:pt x="15089" y="13072"/>
                  <a:pt x="15180" y="13072"/>
                </a:cubicBezTo>
                <a:cubicBezTo>
                  <a:pt x="15223" y="13072"/>
                  <a:pt x="15275" y="13090"/>
                  <a:pt x="15280" y="13047"/>
                </a:cubicBezTo>
                <a:cubicBezTo>
                  <a:pt x="15272" y="13039"/>
                  <a:pt x="15263" y="13030"/>
                  <a:pt x="15255" y="13022"/>
                </a:cubicBezTo>
              </a:path>
              <a:path w="8137" h="1167">
                <a:moveTo>
                  <a:pt x="15577" y="12402"/>
                </a:moveTo>
                <a:cubicBezTo>
                  <a:pt x="15640" y="12522"/>
                  <a:pt x="15698" y="12619"/>
                  <a:pt x="15776" y="12725"/>
                </a:cubicBezTo>
                <a:cubicBezTo>
                  <a:pt x="15817" y="12781"/>
                  <a:pt x="15875" y="12879"/>
                  <a:pt x="15949" y="12898"/>
                </a:cubicBezTo>
                <a:cubicBezTo>
                  <a:pt x="16030" y="12919"/>
                  <a:pt x="16020" y="12888"/>
                  <a:pt x="16049" y="12824"/>
                </a:cubicBezTo>
              </a:path>
              <a:path w="8137" h="1167">
                <a:moveTo>
                  <a:pt x="15925" y="12402"/>
                </a:moveTo>
                <a:cubicBezTo>
                  <a:pt x="15830" y="12472"/>
                  <a:pt x="15777" y="12538"/>
                  <a:pt x="15701" y="12626"/>
                </a:cubicBezTo>
                <a:cubicBezTo>
                  <a:pt x="15645" y="12692"/>
                  <a:pt x="15579" y="12736"/>
                  <a:pt x="15553" y="12824"/>
                </a:cubicBezTo>
                <a:cubicBezTo>
                  <a:pt x="15553" y="12849"/>
                  <a:pt x="15553" y="12857"/>
                  <a:pt x="15577" y="12849"/>
                </a:cubicBezTo>
              </a:path>
              <a:path w="8137" h="1167">
                <a:moveTo>
                  <a:pt x="16049" y="12154"/>
                </a:moveTo>
                <a:cubicBezTo>
                  <a:pt x="16140" y="12122"/>
                  <a:pt x="16229" y="12070"/>
                  <a:pt x="16321" y="12129"/>
                </a:cubicBezTo>
                <a:cubicBezTo>
                  <a:pt x="16431" y="12200"/>
                  <a:pt x="16464" y="12251"/>
                  <a:pt x="16446" y="12378"/>
                </a:cubicBezTo>
                <a:cubicBezTo>
                  <a:pt x="16426" y="12518"/>
                  <a:pt x="16353" y="12580"/>
                  <a:pt x="16297" y="12700"/>
                </a:cubicBezTo>
                <a:cubicBezTo>
                  <a:pt x="16266" y="12766"/>
                  <a:pt x="16226" y="12872"/>
                  <a:pt x="16247" y="12948"/>
                </a:cubicBezTo>
                <a:cubicBezTo>
                  <a:pt x="16268" y="13024"/>
                  <a:pt x="16326" y="13043"/>
                  <a:pt x="16396" y="13047"/>
                </a:cubicBezTo>
                <a:cubicBezTo>
                  <a:pt x="16508" y="13053"/>
                  <a:pt x="16568" y="13015"/>
                  <a:pt x="16669" y="12973"/>
                </a:cubicBezTo>
              </a:path>
              <a:path w="8137" h="1167">
                <a:moveTo>
                  <a:pt x="16842" y="12427"/>
                </a:moveTo>
                <a:cubicBezTo>
                  <a:pt x="16914" y="12537"/>
                  <a:pt x="16975" y="12654"/>
                  <a:pt x="17066" y="12750"/>
                </a:cubicBezTo>
                <a:cubicBezTo>
                  <a:pt x="17120" y="12807"/>
                  <a:pt x="17167" y="12839"/>
                  <a:pt x="17239" y="12849"/>
                </a:cubicBezTo>
              </a:path>
              <a:path w="8137" h="1167">
                <a:moveTo>
                  <a:pt x="17066" y="12477"/>
                </a:moveTo>
                <a:cubicBezTo>
                  <a:pt x="16994" y="12545"/>
                  <a:pt x="16848" y="12645"/>
                  <a:pt x="16793" y="12725"/>
                </a:cubicBezTo>
                <a:cubicBezTo>
                  <a:pt x="16793" y="12733"/>
                  <a:pt x="16793" y="12742"/>
                  <a:pt x="16793" y="12750"/>
                </a:cubicBezTo>
              </a:path>
              <a:path w="8137" h="1167">
                <a:moveTo>
                  <a:pt x="17537" y="12030"/>
                </a:moveTo>
                <a:cubicBezTo>
                  <a:pt x="17636" y="12071"/>
                  <a:pt x="17734" y="12087"/>
                  <a:pt x="17760" y="12204"/>
                </a:cubicBezTo>
                <a:cubicBezTo>
                  <a:pt x="17773" y="12264"/>
                  <a:pt x="17719" y="12402"/>
                  <a:pt x="17686" y="12452"/>
                </a:cubicBezTo>
                <a:cubicBezTo>
                  <a:pt x="17637" y="12525"/>
                  <a:pt x="17578" y="12568"/>
                  <a:pt x="17537" y="12650"/>
                </a:cubicBezTo>
                <a:cubicBezTo>
                  <a:pt x="17496" y="12732"/>
                  <a:pt x="17473" y="12763"/>
                  <a:pt x="17512" y="12849"/>
                </a:cubicBezTo>
                <a:cubicBezTo>
                  <a:pt x="17545" y="12922"/>
                  <a:pt x="17604" y="12960"/>
                  <a:pt x="17686" y="12973"/>
                </a:cubicBezTo>
                <a:cubicBezTo>
                  <a:pt x="17798" y="12990"/>
                  <a:pt x="17911" y="12951"/>
                  <a:pt x="18008" y="12898"/>
                </a:cubicBezTo>
                <a:cubicBezTo>
                  <a:pt x="18080" y="12851"/>
                  <a:pt x="18104" y="12838"/>
                  <a:pt x="18107" y="12774"/>
                </a:cubicBezTo>
              </a:path>
              <a:path w="8137" h="1167">
                <a:moveTo>
                  <a:pt x="18306" y="12204"/>
                </a:moveTo>
                <a:cubicBezTo>
                  <a:pt x="18343" y="12334"/>
                  <a:pt x="18384" y="12433"/>
                  <a:pt x="18455" y="12551"/>
                </a:cubicBezTo>
                <a:cubicBezTo>
                  <a:pt x="18520" y="12658"/>
                  <a:pt x="18589" y="12716"/>
                  <a:pt x="18678" y="12799"/>
                </a:cubicBezTo>
                <a:cubicBezTo>
                  <a:pt x="18729" y="12847"/>
                  <a:pt x="18732" y="12840"/>
                  <a:pt x="18777" y="12874"/>
                </a:cubicBezTo>
              </a:path>
              <a:path w="8137" h="1167">
                <a:moveTo>
                  <a:pt x="18579" y="12328"/>
                </a:moveTo>
                <a:cubicBezTo>
                  <a:pt x="18481" y="12467"/>
                  <a:pt x="18383" y="12615"/>
                  <a:pt x="18281" y="12750"/>
                </a:cubicBezTo>
                <a:cubicBezTo>
                  <a:pt x="18255" y="12785"/>
                  <a:pt x="18240" y="12805"/>
                  <a:pt x="18231" y="12849"/>
                </a:cubicBezTo>
              </a:path>
              <a:path w="8137" h="1167">
                <a:moveTo>
                  <a:pt x="18976" y="12030"/>
                </a:moveTo>
                <a:cubicBezTo>
                  <a:pt x="19111" y="12030"/>
                  <a:pt x="19197" y="12012"/>
                  <a:pt x="19298" y="12105"/>
                </a:cubicBezTo>
                <a:cubicBezTo>
                  <a:pt x="19400" y="12198"/>
                  <a:pt x="19377" y="12219"/>
                  <a:pt x="19323" y="12328"/>
                </a:cubicBezTo>
                <a:cubicBezTo>
                  <a:pt x="19289" y="12396"/>
                  <a:pt x="19254" y="12431"/>
                  <a:pt x="19199" y="12477"/>
                </a:cubicBezTo>
                <a:cubicBezTo>
                  <a:pt x="19169" y="12503"/>
                  <a:pt x="19156" y="12503"/>
                  <a:pt x="19124" y="12526"/>
                </a:cubicBezTo>
                <a:cubicBezTo>
                  <a:pt x="19130" y="12545"/>
                  <a:pt x="19169" y="12570"/>
                  <a:pt x="19199" y="12576"/>
                </a:cubicBezTo>
                <a:cubicBezTo>
                  <a:pt x="19290" y="12596"/>
                  <a:pt x="19320" y="12624"/>
                  <a:pt x="19397" y="12675"/>
                </a:cubicBezTo>
                <a:cubicBezTo>
                  <a:pt x="19484" y="12733"/>
                  <a:pt x="19491" y="12793"/>
                  <a:pt x="19496" y="12898"/>
                </a:cubicBezTo>
                <a:cubicBezTo>
                  <a:pt x="19500" y="12999"/>
                  <a:pt x="19441" y="13018"/>
                  <a:pt x="19372" y="13072"/>
                </a:cubicBezTo>
                <a:cubicBezTo>
                  <a:pt x="19317" y="13115"/>
                  <a:pt x="19250" y="13146"/>
                  <a:pt x="19174" y="13122"/>
                </a:cubicBezTo>
                <a:cubicBezTo>
                  <a:pt x="19116" y="13104"/>
                  <a:pt x="19128" y="13041"/>
                  <a:pt x="19124" y="12998"/>
                </a:cubicBezTo>
              </a:path>
              <a:path w="8137" h="1167">
                <a:moveTo>
                  <a:pt x="18901" y="11981"/>
                </a:moveTo>
                <a:cubicBezTo>
                  <a:pt x="19014" y="11981"/>
                  <a:pt x="19075" y="11981"/>
                  <a:pt x="19174" y="12030"/>
                </a:cubicBezTo>
                <a:cubicBezTo>
                  <a:pt x="19235" y="12061"/>
                  <a:pt x="19336" y="12166"/>
                  <a:pt x="19372" y="12229"/>
                </a:cubicBezTo>
                <a:cubicBezTo>
                  <a:pt x="19411" y="12298"/>
                  <a:pt x="19441" y="12421"/>
                  <a:pt x="19422" y="12502"/>
                </a:cubicBezTo>
                <a:cubicBezTo>
                  <a:pt x="19403" y="12579"/>
                  <a:pt x="19356" y="12677"/>
                  <a:pt x="19323" y="12750"/>
                </a:cubicBezTo>
                <a:cubicBezTo>
                  <a:pt x="19302" y="12797"/>
                  <a:pt x="19213" y="12899"/>
                  <a:pt x="19199" y="12948"/>
                </a:cubicBezTo>
                <a:cubicBezTo>
                  <a:pt x="19191" y="12976"/>
                  <a:pt x="19192" y="13035"/>
                  <a:pt x="19224" y="13047"/>
                </a:cubicBezTo>
                <a:cubicBezTo>
                  <a:pt x="19260" y="13061"/>
                  <a:pt x="19318" y="13033"/>
                  <a:pt x="19348" y="13022"/>
                </a:cubicBezTo>
                <a:cubicBezTo>
                  <a:pt x="19427" y="12992"/>
                  <a:pt x="19491" y="12973"/>
                  <a:pt x="19571" y="12948"/>
                </a:cubicBezTo>
                <a:cubicBezTo>
                  <a:pt x="19677" y="12915"/>
                  <a:pt x="19807" y="12909"/>
                  <a:pt x="19918" y="12898"/>
                </a:cubicBezTo>
                <a:cubicBezTo>
                  <a:pt x="19997" y="12890"/>
                  <a:pt x="20063" y="12890"/>
                  <a:pt x="20141" y="12874"/>
                </a:cubicBezTo>
              </a:path>
              <a:path w="8137" h="1167">
                <a:moveTo>
                  <a:pt x="18951" y="12055"/>
                </a:moveTo>
                <a:cubicBezTo>
                  <a:pt x="19032" y="12032"/>
                  <a:pt x="19116" y="11985"/>
                  <a:pt x="19199" y="11981"/>
                </a:cubicBezTo>
                <a:cubicBezTo>
                  <a:pt x="19289" y="11977"/>
                  <a:pt x="19367" y="12016"/>
                  <a:pt x="19447" y="12055"/>
                </a:cubicBezTo>
                <a:cubicBezTo>
                  <a:pt x="19532" y="12096"/>
                  <a:pt x="19578" y="12161"/>
                  <a:pt x="19596" y="12254"/>
                </a:cubicBezTo>
                <a:cubicBezTo>
                  <a:pt x="19619" y="12376"/>
                  <a:pt x="19570" y="12485"/>
                  <a:pt x="19496" y="12576"/>
                </a:cubicBezTo>
                <a:cubicBezTo>
                  <a:pt x="19434" y="12652"/>
                  <a:pt x="19365" y="12728"/>
                  <a:pt x="19298" y="12799"/>
                </a:cubicBezTo>
                <a:cubicBezTo>
                  <a:pt x="19243" y="12857"/>
                  <a:pt x="19181" y="12896"/>
                  <a:pt x="19124" y="12948"/>
                </a:cubicBezTo>
                <a:cubicBezTo>
                  <a:pt x="19090" y="12979"/>
                  <a:pt x="19105" y="12983"/>
                  <a:pt x="19100" y="13022"/>
                </a:cubicBezTo>
                <a:cubicBezTo>
                  <a:pt x="19154" y="13055"/>
                  <a:pt x="19173" y="13047"/>
                  <a:pt x="19248" y="13047"/>
                </a:cubicBezTo>
                <a:cubicBezTo>
                  <a:pt x="19339" y="13047"/>
                  <a:pt x="19401" y="13038"/>
                  <a:pt x="19496" y="13047"/>
                </a:cubicBezTo>
                <a:cubicBezTo>
                  <a:pt x="19614" y="13058"/>
                  <a:pt x="19704" y="13076"/>
                  <a:pt x="19819" y="13097"/>
                </a:cubicBezTo>
                <a:cubicBezTo>
                  <a:pt x="19880" y="13108"/>
                  <a:pt x="19955" y="13097"/>
                  <a:pt x="20017" y="13097"/>
                </a:cubicBezTo>
              </a:path>
              <a:path w="8137" h="1167">
                <a:moveTo>
                  <a:pt x="20439" y="12402"/>
                </a:moveTo>
                <a:cubicBezTo>
                  <a:pt x="20498" y="12549"/>
                  <a:pt x="20533" y="12631"/>
                  <a:pt x="20662" y="12725"/>
                </a:cubicBezTo>
                <a:cubicBezTo>
                  <a:pt x="20744" y="12784"/>
                  <a:pt x="20871" y="12847"/>
                  <a:pt x="20960" y="12799"/>
                </a:cubicBezTo>
                <a:cubicBezTo>
                  <a:pt x="20968" y="12791"/>
                  <a:pt x="20977" y="12782"/>
                  <a:pt x="20985" y="12774"/>
                </a:cubicBezTo>
              </a:path>
              <a:path w="8137" h="1167">
                <a:moveTo>
                  <a:pt x="20762" y="12378"/>
                </a:moveTo>
                <a:cubicBezTo>
                  <a:pt x="20658" y="12518"/>
                  <a:pt x="20539" y="12664"/>
                  <a:pt x="20464" y="12824"/>
                </a:cubicBezTo>
                <a:cubicBezTo>
                  <a:pt x="20438" y="12879"/>
                  <a:pt x="20427" y="12946"/>
                  <a:pt x="20414" y="12998"/>
                </a:cubicBezTo>
              </a:path>
              <a:path w="8137" h="1167">
                <a:moveTo>
                  <a:pt x="21084" y="11981"/>
                </a:moveTo>
                <a:cubicBezTo>
                  <a:pt x="21261" y="11963"/>
                  <a:pt x="21372" y="11914"/>
                  <a:pt x="21506" y="12030"/>
                </a:cubicBezTo>
                <a:cubicBezTo>
                  <a:pt x="21561" y="12078"/>
                  <a:pt x="21568" y="12186"/>
                  <a:pt x="21555" y="12254"/>
                </a:cubicBezTo>
                <a:cubicBezTo>
                  <a:pt x="21537" y="12348"/>
                  <a:pt x="21483" y="12474"/>
                  <a:pt x="21431" y="12551"/>
                </a:cubicBezTo>
                <a:cubicBezTo>
                  <a:pt x="21380" y="12626"/>
                  <a:pt x="21313" y="12702"/>
                  <a:pt x="21258" y="12774"/>
                </a:cubicBezTo>
                <a:cubicBezTo>
                  <a:pt x="21218" y="12826"/>
                  <a:pt x="21219" y="12898"/>
                  <a:pt x="21258" y="12948"/>
                </a:cubicBezTo>
                <a:cubicBezTo>
                  <a:pt x="21312" y="13017"/>
                  <a:pt x="21383" y="13005"/>
                  <a:pt x="21456" y="13022"/>
                </a:cubicBezTo>
                <a:cubicBezTo>
                  <a:pt x="21551" y="13044"/>
                  <a:pt x="21654" y="13084"/>
                  <a:pt x="21754" y="13072"/>
                </a:cubicBezTo>
                <a:cubicBezTo>
                  <a:pt x="21838" y="13062"/>
                  <a:pt x="21921" y="13042"/>
                  <a:pt x="22002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2080" y="5089680"/>
            <a:ext cx="3295800" cy="1268280"/>
          </a:xfrm>
          <a:custGeom>
            <a:avLst/>
            <a:gdLst/>
            <a:ahLst/>
            <a:rect l="l" t="t" r="r" b="b"/>
            <a:pathLst>
              <a:path w="9154" h="3523">
                <a:moveTo>
                  <a:pt x="4192" y="14982"/>
                </a:moveTo>
                <a:cubicBezTo>
                  <a:pt x="4192" y="15015"/>
                  <a:pt x="4192" y="15048"/>
                  <a:pt x="4192" y="15081"/>
                </a:cubicBezTo>
                <a:cubicBezTo>
                  <a:pt x="4187" y="15024"/>
                  <a:pt x="4175" y="14985"/>
                  <a:pt x="4167" y="14932"/>
                </a:cubicBezTo>
                <a:cubicBezTo>
                  <a:pt x="4154" y="14854"/>
                  <a:pt x="4128" y="14783"/>
                  <a:pt x="4093" y="14709"/>
                </a:cubicBezTo>
                <a:cubicBezTo>
                  <a:pt x="4053" y="14625"/>
                  <a:pt x="4023" y="14533"/>
                  <a:pt x="3944" y="14486"/>
                </a:cubicBezTo>
                <a:cubicBezTo>
                  <a:pt x="3870" y="14443"/>
                  <a:pt x="3845" y="14441"/>
                  <a:pt x="3770" y="14461"/>
                </a:cubicBezTo>
                <a:cubicBezTo>
                  <a:pt x="3713" y="14476"/>
                  <a:pt x="3634" y="14588"/>
                  <a:pt x="3597" y="14635"/>
                </a:cubicBezTo>
                <a:cubicBezTo>
                  <a:pt x="3518" y="14736"/>
                  <a:pt x="3503" y="14861"/>
                  <a:pt x="3473" y="14982"/>
                </a:cubicBezTo>
                <a:cubicBezTo>
                  <a:pt x="3440" y="15113"/>
                  <a:pt x="3404" y="15241"/>
                  <a:pt x="3423" y="15379"/>
                </a:cubicBezTo>
                <a:cubicBezTo>
                  <a:pt x="3437" y="15478"/>
                  <a:pt x="3454" y="15636"/>
                  <a:pt x="3497" y="15726"/>
                </a:cubicBezTo>
                <a:cubicBezTo>
                  <a:pt x="3530" y="15795"/>
                  <a:pt x="3585" y="15877"/>
                  <a:pt x="3646" y="15925"/>
                </a:cubicBezTo>
                <a:cubicBezTo>
                  <a:pt x="3705" y="15972"/>
                  <a:pt x="3722" y="15943"/>
                  <a:pt x="3770" y="15925"/>
                </a:cubicBezTo>
                <a:cubicBezTo>
                  <a:pt x="3859" y="15892"/>
                  <a:pt x="3851" y="15799"/>
                  <a:pt x="3894" y="15726"/>
                </a:cubicBezTo>
                <a:cubicBezTo>
                  <a:pt x="3950" y="15630"/>
                  <a:pt x="3988" y="15537"/>
                  <a:pt x="4018" y="15429"/>
                </a:cubicBezTo>
                <a:cubicBezTo>
                  <a:pt x="4039" y="15355"/>
                  <a:pt x="4045" y="15292"/>
                  <a:pt x="4068" y="15230"/>
                </a:cubicBezTo>
                <a:cubicBezTo>
                  <a:pt x="4068" y="15418"/>
                  <a:pt x="4031" y="15649"/>
                  <a:pt x="4093" y="15825"/>
                </a:cubicBezTo>
                <a:cubicBezTo>
                  <a:pt x="4114" y="15886"/>
                  <a:pt x="4158" y="15967"/>
                  <a:pt x="4217" y="15999"/>
                </a:cubicBezTo>
                <a:cubicBezTo>
                  <a:pt x="4233" y="15999"/>
                  <a:pt x="4250" y="15999"/>
                  <a:pt x="4266" y="15999"/>
                </a:cubicBezTo>
              </a:path>
              <a:path w="9154" h="3523">
                <a:moveTo>
                  <a:pt x="4390" y="15627"/>
                </a:moveTo>
                <a:cubicBezTo>
                  <a:pt x="4350" y="15683"/>
                  <a:pt x="4376" y="15671"/>
                  <a:pt x="4390" y="15701"/>
                </a:cubicBezTo>
                <a:cubicBezTo>
                  <a:pt x="4411" y="15745"/>
                  <a:pt x="4422" y="15725"/>
                  <a:pt x="4465" y="15701"/>
                </a:cubicBezTo>
                <a:cubicBezTo>
                  <a:pt x="4512" y="15674"/>
                  <a:pt x="4555" y="15651"/>
                  <a:pt x="4589" y="15677"/>
                </a:cubicBezTo>
                <a:cubicBezTo>
                  <a:pt x="4629" y="15707"/>
                  <a:pt x="4614" y="15755"/>
                  <a:pt x="4614" y="15801"/>
                </a:cubicBezTo>
                <a:cubicBezTo>
                  <a:pt x="4614" y="15859"/>
                  <a:pt x="4589" y="15919"/>
                  <a:pt x="4564" y="15974"/>
                </a:cubicBezTo>
                <a:cubicBezTo>
                  <a:pt x="4537" y="16035"/>
                  <a:pt x="4480" y="16094"/>
                  <a:pt x="4440" y="16148"/>
                </a:cubicBezTo>
                <a:cubicBezTo>
                  <a:pt x="4411" y="16186"/>
                  <a:pt x="4372" y="16201"/>
                  <a:pt x="4341" y="16222"/>
                </a:cubicBezTo>
                <a:cubicBezTo>
                  <a:pt x="4260" y="16276"/>
                  <a:pt x="4384" y="16199"/>
                  <a:pt x="4390" y="16197"/>
                </a:cubicBezTo>
                <a:cubicBezTo>
                  <a:pt x="4428" y="16184"/>
                  <a:pt x="4484" y="16202"/>
                  <a:pt x="4514" y="16222"/>
                </a:cubicBezTo>
                <a:cubicBezTo>
                  <a:pt x="4573" y="16262"/>
                  <a:pt x="4599" y="16332"/>
                  <a:pt x="4663" y="16371"/>
                </a:cubicBezTo>
                <a:cubicBezTo>
                  <a:pt x="4714" y="16401"/>
                  <a:pt x="4731" y="16396"/>
                  <a:pt x="4787" y="16396"/>
                </a:cubicBezTo>
              </a:path>
              <a:path w="9154" h="3523">
                <a:moveTo>
                  <a:pt x="4862" y="15801"/>
                </a:moveTo>
                <a:cubicBezTo>
                  <a:pt x="4912" y="15801"/>
                  <a:pt x="4920" y="15790"/>
                  <a:pt x="4961" y="15776"/>
                </a:cubicBezTo>
                <a:cubicBezTo>
                  <a:pt x="4990" y="15766"/>
                  <a:pt x="5045" y="15772"/>
                  <a:pt x="5060" y="15801"/>
                </a:cubicBezTo>
                <a:cubicBezTo>
                  <a:pt x="5075" y="15830"/>
                  <a:pt x="5066" y="15861"/>
                  <a:pt x="5085" y="15900"/>
                </a:cubicBezTo>
                <a:cubicBezTo>
                  <a:pt x="5117" y="15965"/>
                  <a:pt x="5117" y="16001"/>
                  <a:pt x="5085" y="16073"/>
                </a:cubicBezTo>
                <a:cubicBezTo>
                  <a:pt x="5059" y="16130"/>
                  <a:pt x="5047" y="16194"/>
                  <a:pt x="5011" y="16247"/>
                </a:cubicBezTo>
                <a:cubicBezTo>
                  <a:pt x="4980" y="16293"/>
                  <a:pt x="4928" y="16367"/>
                  <a:pt x="4887" y="16396"/>
                </a:cubicBezTo>
                <a:cubicBezTo>
                  <a:pt x="4862" y="16396"/>
                  <a:pt x="4854" y="16396"/>
                  <a:pt x="4862" y="16421"/>
                </a:cubicBezTo>
                <a:cubicBezTo>
                  <a:pt x="4933" y="16421"/>
                  <a:pt x="4979" y="16415"/>
                  <a:pt x="5035" y="16446"/>
                </a:cubicBezTo>
                <a:cubicBezTo>
                  <a:pt x="5084" y="16474"/>
                  <a:pt x="5149" y="16513"/>
                  <a:pt x="5209" y="16495"/>
                </a:cubicBezTo>
                <a:cubicBezTo>
                  <a:pt x="5259" y="16470"/>
                  <a:pt x="5275" y="16462"/>
                  <a:pt x="5308" y="16446"/>
                </a:cubicBezTo>
              </a:path>
              <a:path w="9154" h="3523">
                <a:moveTo>
                  <a:pt x="5407" y="15205"/>
                </a:moveTo>
                <a:cubicBezTo>
                  <a:pt x="5474" y="15205"/>
                  <a:pt x="5545" y="15209"/>
                  <a:pt x="5606" y="15230"/>
                </a:cubicBezTo>
                <a:cubicBezTo>
                  <a:pt x="5686" y="15257"/>
                  <a:pt x="5767" y="15274"/>
                  <a:pt x="5854" y="15280"/>
                </a:cubicBezTo>
                <a:cubicBezTo>
                  <a:pt x="5862" y="15280"/>
                  <a:pt x="5871" y="15280"/>
                  <a:pt x="5879" y="15280"/>
                </a:cubicBezTo>
              </a:path>
              <a:path w="9154" h="3523">
                <a:moveTo>
                  <a:pt x="5556" y="15404"/>
                </a:moveTo>
                <a:cubicBezTo>
                  <a:pt x="5634" y="15477"/>
                  <a:pt x="5655" y="15528"/>
                  <a:pt x="5755" y="15528"/>
                </a:cubicBezTo>
                <a:cubicBezTo>
                  <a:pt x="5802" y="15528"/>
                  <a:pt x="5845" y="15503"/>
                  <a:pt x="5879" y="15478"/>
                </a:cubicBezTo>
              </a:path>
              <a:path w="9154" h="3523">
                <a:moveTo>
                  <a:pt x="6821" y="14982"/>
                </a:moveTo>
                <a:cubicBezTo>
                  <a:pt x="6840" y="14905"/>
                  <a:pt x="6867" y="14858"/>
                  <a:pt x="6821" y="14784"/>
                </a:cubicBezTo>
                <a:cubicBezTo>
                  <a:pt x="6789" y="14733"/>
                  <a:pt x="6748" y="14671"/>
                  <a:pt x="6697" y="14635"/>
                </a:cubicBezTo>
                <a:cubicBezTo>
                  <a:pt x="6633" y="14589"/>
                  <a:pt x="6588" y="14605"/>
                  <a:pt x="6524" y="14585"/>
                </a:cubicBezTo>
                <a:cubicBezTo>
                  <a:pt x="6482" y="14572"/>
                  <a:pt x="6399" y="14567"/>
                  <a:pt x="6375" y="14635"/>
                </a:cubicBezTo>
                <a:cubicBezTo>
                  <a:pt x="6350" y="14705"/>
                  <a:pt x="6390" y="14795"/>
                  <a:pt x="6400" y="14858"/>
                </a:cubicBezTo>
                <a:cubicBezTo>
                  <a:pt x="6416" y="14953"/>
                  <a:pt x="6448" y="15001"/>
                  <a:pt x="6499" y="15081"/>
                </a:cubicBezTo>
                <a:cubicBezTo>
                  <a:pt x="6553" y="15165"/>
                  <a:pt x="6592" y="15250"/>
                  <a:pt x="6648" y="15329"/>
                </a:cubicBezTo>
                <a:cubicBezTo>
                  <a:pt x="6722" y="15434"/>
                  <a:pt x="6776" y="15581"/>
                  <a:pt x="6821" y="15701"/>
                </a:cubicBezTo>
                <a:cubicBezTo>
                  <a:pt x="6857" y="15799"/>
                  <a:pt x="6871" y="15871"/>
                  <a:pt x="6871" y="15974"/>
                </a:cubicBezTo>
                <a:cubicBezTo>
                  <a:pt x="6871" y="16003"/>
                  <a:pt x="6857" y="16085"/>
                  <a:pt x="6821" y="16098"/>
                </a:cubicBezTo>
                <a:cubicBezTo>
                  <a:pt x="6783" y="16112"/>
                  <a:pt x="6723" y="16070"/>
                  <a:pt x="6697" y="16049"/>
                </a:cubicBezTo>
                <a:cubicBezTo>
                  <a:pt x="6630" y="15994"/>
                  <a:pt x="6647" y="15943"/>
                  <a:pt x="6623" y="15875"/>
                </a:cubicBezTo>
                <a:cubicBezTo>
                  <a:pt x="6601" y="15814"/>
                  <a:pt x="6583" y="15745"/>
                  <a:pt x="6598" y="15677"/>
                </a:cubicBezTo>
                <a:cubicBezTo>
                  <a:pt x="6615" y="15601"/>
                  <a:pt x="6660" y="15526"/>
                  <a:pt x="6672" y="15453"/>
                </a:cubicBezTo>
                <a:cubicBezTo>
                  <a:pt x="6687" y="15362"/>
                  <a:pt x="6709" y="15293"/>
                  <a:pt x="6747" y="15205"/>
                </a:cubicBezTo>
                <a:cubicBezTo>
                  <a:pt x="6771" y="15149"/>
                  <a:pt x="6797" y="15079"/>
                  <a:pt x="6821" y="15032"/>
                </a:cubicBezTo>
                <a:cubicBezTo>
                  <a:pt x="6839" y="14997"/>
                  <a:pt x="6882" y="14971"/>
                  <a:pt x="6896" y="14957"/>
                </a:cubicBezTo>
                <a:cubicBezTo>
                  <a:pt x="6904" y="14949"/>
                  <a:pt x="6913" y="14940"/>
                  <a:pt x="6921" y="14932"/>
                </a:cubicBezTo>
              </a:path>
              <a:path w="9154" h="3523">
                <a:moveTo>
                  <a:pt x="7069" y="15900"/>
                </a:moveTo>
                <a:cubicBezTo>
                  <a:pt x="7069" y="16018"/>
                  <a:pt x="7051" y="16112"/>
                  <a:pt x="7045" y="16222"/>
                </a:cubicBezTo>
                <a:cubicBezTo>
                  <a:pt x="7043" y="16255"/>
                  <a:pt x="7026" y="16394"/>
                  <a:pt x="7045" y="16346"/>
                </a:cubicBezTo>
                <a:cubicBezTo>
                  <a:pt x="7066" y="16295"/>
                  <a:pt x="7094" y="16246"/>
                  <a:pt x="7119" y="16197"/>
                </a:cubicBezTo>
              </a:path>
              <a:path w="9154" h="3523">
                <a:moveTo>
                  <a:pt x="7367" y="15056"/>
                </a:moveTo>
                <a:cubicBezTo>
                  <a:pt x="7457" y="15008"/>
                  <a:pt x="7493" y="14955"/>
                  <a:pt x="7590" y="15007"/>
                </a:cubicBezTo>
                <a:cubicBezTo>
                  <a:pt x="7643" y="15035"/>
                  <a:pt x="7666" y="15027"/>
                  <a:pt x="7689" y="15081"/>
                </a:cubicBezTo>
                <a:cubicBezTo>
                  <a:pt x="7713" y="15137"/>
                  <a:pt x="7720" y="15157"/>
                  <a:pt x="7689" y="15205"/>
                </a:cubicBezTo>
                <a:cubicBezTo>
                  <a:pt x="7644" y="15274"/>
                  <a:pt x="7628" y="15262"/>
                  <a:pt x="7565" y="15304"/>
                </a:cubicBezTo>
                <a:cubicBezTo>
                  <a:pt x="7529" y="15328"/>
                  <a:pt x="7506" y="15366"/>
                  <a:pt x="7466" y="15379"/>
                </a:cubicBezTo>
                <a:cubicBezTo>
                  <a:pt x="7423" y="15393"/>
                  <a:pt x="7434" y="15372"/>
                  <a:pt x="7392" y="15404"/>
                </a:cubicBezTo>
                <a:cubicBezTo>
                  <a:pt x="7443" y="15404"/>
                  <a:pt x="7445" y="15389"/>
                  <a:pt x="7466" y="15379"/>
                </a:cubicBezTo>
                <a:cubicBezTo>
                  <a:pt x="7512" y="15356"/>
                  <a:pt x="7576" y="15398"/>
                  <a:pt x="7615" y="15404"/>
                </a:cubicBezTo>
                <a:cubicBezTo>
                  <a:pt x="7686" y="15416"/>
                  <a:pt x="7685" y="15400"/>
                  <a:pt x="7739" y="15453"/>
                </a:cubicBezTo>
                <a:cubicBezTo>
                  <a:pt x="7783" y="15497"/>
                  <a:pt x="7810" y="15544"/>
                  <a:pt x="7813" y="15602"/>
                </a:cubicBezTo>
                <a:cubicBezTo>
                  <a:pt x="7816" y="15663"/>
                  <a:pt x="7811" y="15722"/>
                  <a:pt x="7789" y="15776"/>
                </a:cubicBezTo>
                <a:cubicBezTo>
                  <a:pt x="7761" y="15847"/>
                  <a:pt x="7721" y="15858"/>
                  <a:pt x="7665" y="15900"/>
                </a:cubicBezTo>
                <a:cubicBezTo>
                  <a:pt x="7629" y="15927"/>
                  <a:pt x="7589" y="15944"/>
                  <a:pt x="7541" y="15949"/>
                </a:cubicBezTo>
                <a:cubicBezTo>
                  <a:pt x="7518" y="15951"/>
                  <a:pt x="7452" y="15923"/>
                  <a:pt x="7441" y="15900"/>
                </a:cubicBezTo>
                <a:cubicBezTo>
                  <a:pt x="7413" y="15845"/>
                  <a:pt x="7427" y="15850"/>
                  <a:pt x="7441" y="15776"/>
                </a:cubicBezTo>
              </a:path>
              <a:path w="9154" h="3523">
                <a:moveTo>
                  <a:pt x="7987" y="15056"/>
                </a:moveTo>
                <a:cubicBezTo>
                  <a:pt x="8087" y="14987"/>
                  <a:pt x="8105" y="14954"/>
                  <a:pt x="8210" y="15007"/>
                </a:cubicBezTo>
                <a:cubicBezTo>
                  <a:pt x="8255" y="15030"/>
                  <a:pt x="8306" y="15053"/>
                  <a:pt x="8310" y="15106"/>
                </a:cubicBezTo>
                <a:cubicBezTo>
                  <a:pt x="8314" y="15165"/>
                  <a:pt x="8320" y="15229"/>
                  <a:pt x="8285" y="15280"/>
                </a:cubicBezTo>
                <a:cubicBezTo>
                  <a:pt x="8266" y="15309"/>
                  <a:pt x="8215" y="15344"/>
                  <a:pt x="8186" y="15354"/>
                </a:cubicBezTo>
                <a:cubicBezTo>
                  <a:pt x="8151" y="15366"/>
                  <a:pt x="8049" y="15379"/>
                  <a:pt x="8086" y="15379"/>
                </a:cubicBezTo>
                <a:cubicBezTo>
                  <a:pt x="8094" y="15379"/>
                  <a:pt x="8103" y="15379"/>
                  <a:pt x="8111" y="15379"/>
                </a:cubicBezTo>
                <a:cubicBezTo>
                  <a:pt x="8168" y="15379"/>
                  <a:pt x="8189" y="15389"/>
                  <a:pt x="8235" y="15404"/>
                </a:cubicBezTo>
                <a:cubicBezTo>
                  <a:pt x="8278" y="15418"/>
                  <a:pt x="8299" y="15443"/>
                  <a:pt x="8334" y="15478"/>
                </a:cubicBezTo>
                <a:cubicBezTo>
                  <a:pt x="8377" y="15521"/>
                  <a:pt x="8359" y="15593"/>
                  <a:pt x="8359" y="15652"/>
                </a:cubicBezTo>
                <a:cubicBezTo>
                  <a:pt x="8359" y="15721"/>
                  <a:pt x="8351" y="15769"/>
                  <a:pt x="8334" y="15825"/>
                </a:cubicBezTo>
                <a:cubicBezTo>
                  <a:pt x="8331" y="15834"/>
                  <a:pt x="8314" y="15922"/>
                  <a:pt x="8310" y="15925"/>
                </a:cubicBezTo>
                <a:cubicBezTo>
                  <a:pt x="8285" y="15945"/>
                  <a:pt x="8289" y="15936"/>
                  <a:pt x="8260" y="15974"/>
                </a:cubicBezTo>
                <a:cubicBezTo>
                  <a:pt x="8260" y="15909"/>
                  <a:pt x="8270" y="15884"/>
                  <a:pt x="8285" y="15825"/>
                </a:cubicBezTo>
                <a:cubicBezTo>
                  <a:pt x="8298" y="15772"/>
                  <a:pt x="8307" y="15706"/>
                  <a:pt x="8310" y="15652"/>
                </a:cubicBezTo>
                <a:cubicBezTo>
                  <a:pt x="8314" y="15581"/>
                  <a:pt x="8330" y="15522"/>
                  <a:pt x="8334" y="15453"/>
                </a:cubicBezTo>
                <a:cubicBezTo>
                  <a:pt x="8338" y="15385"/>
                  <a:pt x="8310" y="15327"/>
                  <a:pt x="8310" y="15255"/>
                </a:cubicBezTo>
                <a:cubicBezTo>
                  <a:pt x="8310" y="15203"/>
                  <a:pt x="8285" y="15123"/>
                  <a:pt x="8260" y="15081"/>
                </a:cubicBezTo>
                <a:cubicBezTo>
                  <a:pt x="8246" y="15058"/>
                  <a:pt x="8186" y="14993"/>
                  <a:pt x="8161" y="14982"/>
                </a:cubicBezTo>
                <a:cubicBezTo>
                  <a:pt x="8138" y="14972"/>
                  <a:pt x="8086" y="14960"/>
                  <a:pt x="8062" y="14957"/>
                </a:cubicBezTo>
                <a:cubicBezTo>
                  <a:pt x="8002" y="14950"/>
                  <a:pt x="7984" y="14971"/>
                  <a:pt x="7962" y="14982"/>
                </a:cubicBezTo>
                <a:cubicBezTo>
                  <a:pt x="7926" y="15001"/>
                  <a:pt x="7894" y="15005"/>
                  <a:pt x="7888" y="15056"/>
                </a:cubicBezTo>
                <a:cubicBezTo>
                  <a:pt x="7881" y="15120"/>
                  <a:pt x="7870" y="15095"/>
                  <a:pt x="7888" y="15131"/>
                </a:cubicBezTo>
                <a:cubicBezTo>
                  <a:pt x="7909" y="15173"/>
                  <a:pt x="7876" y="15188"/>
                  <a:pt x="7913" y="15230"/>
                </a:cubicBezTo>
                <a:cubicBezTo>
                  <a:pt x="7945" y="15266"/>
                  <a:pt x="7979" y="15282"/>
                  <a:pt x="8012" y="15304"/>
                </a:cubicBezTo>
                <a:cubicBezTo>
                  <a:pt x="8061" y="15336"/>
                  <a:pt x="8074" y="15363"/>
                  <a:pt x="8136" y="15379"/>
                </a:cubicBezTo>
                <a:cubicBezTo>
                  <a:pt x="8157" y="15384"/>
                  <a:pt x="8188" y="15379"/>
                  <a:pt x="8210" y="15379"/>
                </a:cubicBezTo>
              </a:path>
              <a:path w="9154" h="3523">
                <a:moveTo>
                  <a:pt x="8210" y="15329"/>
                </a:moveTo>
                <a:cubicBezTo>
                  <a:pt x="8154" y="15329"/>
                  <a:pt x="8177" y="15349"/>
                  <a:pt x="8136" y="15354"/>
                </a:cubicBezTo>
                <a:cubicBezTo>
                  <a:pt x="8116" y="15357"/>
                  <a:pt x="8056" y="15369"/>
                  <a:pt x="8037" y="15379"/>
                </a:cubicBezTo>
                <a:cubicBezTo>
                  <a:pt x="7999" y="15400"/>
                  <a:pt x="7956" y="15455"/>
                  <a:pt x="7938" y="15478"/>
                </a:cubicBezTo>
                <a:cubicBezTo>
                  <a:pt x="7906" y="15519"/>
                  <a:pt x="7913" y="15551"/>
                  <a:pt x="7913" y="15602"/>
                </a:cubicBezTo>
                <a:cubicBezTo>
                  <a:pt x="7913" y="15659"/>
                  <a:pt x="7952" y="15704"/>
                  <a:pt x="7987" y="15751"/>
                </a:cubicBezTo>
                <a:cubicBezTo>
                  <a:pt x="8025" y="15802"/>
                  <a:pt x="8056" y="15842"/>
                  <a:pt x="8111" y="15875"/>
                </a:cubicBezTo>
                <a:cubicBezTo>
                  <a:pt x="8162" y="15906"/>
                  <a:pt x="8230" y="15920"/>
                  <a:pt x="8285" y="15925"/>
                </a:cubicBezTo>
                <a:cubicBezTo>
                  <a:pt x="8339" y="15929"/>
                  <a:pt x="8362" y="15929"/>
                  <a:pt x="8384" y="15900"/>
                </a:cubicBezTo>
                <a:cubicBezTo>
                  <a:pt x="8417" y="15856"/>
                  <a:pt x="8409" y="15834"/>
                  <a:pt x="8409" y="15776"/>
                </a:cubicBezTo>
              </a:path>
              <a:path w="9154" h="3523">
                <a:moveTo>
                  <a:pt x="8682" y="15180"/>
                </a:moveTo>
                <a:cubicBezTo>
                  <a:pt x="8682" y="15152"/>
                  <a:pt x="8679" y="15142"/>
                  <a:pt x="8657" y="15131"/>
                </a:cubicBezTo>
                <a:cubicBezTo>
                  <a:pt x="8627" y="15141"/>
                  <a:pt x="8595" y="15151"/>
                  <a:pt x="8558" y="15180"/>
                </a:cubicBezTo>
                <a:cubicBezTo>
                  <a:pt x="8526" y="15205"/>
                  <a:pt x="8512" y="15265"/>
                  <a:pt x="8508" y="15304"/>
                </a:cubicBezTo>
                <a:cubicBezTo>
                  <a:pt x="8503" y="15356"/>
                  <a:pt x="8537" y="15446"/>
                  <a:pt x="8582" y="15478"/>
                </a:cubicBezTo>
                <a:cubicBezTo>
                  <a:pt x="8633" y="15515"/>
                  <a:pt x="8671" y="15548"/>
                  <a:pt x="8731" y="15553"/>
                </a:cubicBezTo>
                <a:cubicBezTo>
                  <a:pt x="8796" y="15559"/>
                  <a:pt x="8811" y="15547"/>
                  <a:pt x="8855" y="15503"/>
                </a:cubicBezTo>
                <a:cubicBezTo>
                  <a:pt x="8891" y="15467"/>
                  <a:pt x="8921" y="15423"/>
                  <a:pt x="8930" y="15379"/>
                </a:cubicBezTo>
                <a:cubicBezTo>
                  <a:pt x="8941" y="15322"/>
                  <a:pt x="8903" y="15248"/>
                  <a:pt x="8880" y="15205"/>
                </a:cubicBezTo>
                <a:cubicBezTo>
                  <a:pt x="8845" y="15140"/>
                  <a:pt x="8830" y="15110"/>
                  <a:pt x="8756" y="15106"/>
                </a:cubicBezTo>
                <a:cubicBezTo>
                  <a:pt x="8710" y="15103"/>
                  <a:pt x="8618" y="15090"/>
                  <a:pt x="8582" y="15131"/>
                </a:cubicBezTo>
                <a:cubicBezTo>
                  <a:pt x="8568" y="15147"/>
                  <a:pt x="8555" y="15183"/>
                  <a:pt x="8533" y="15205"/>
                </a:cubicBezTo>
              </a:path>
              <a:path w="9154" h="3523">
                <a:moveTo>
                  <a:pt x="8657" y="15528"/>
                </a:moveTo>
                <a:cubicBezTo>
                  <a:pt x="8605" y="15557"/>
                  <a:pt x="8575" y="15585"/>
                  <a:pt x="8533" y="15627"/>
                </a:cubicBezTo>
                <a:cubicBezTo>
                  <a:pt x="8494" y="15666"/>
                  <a:pt x="8508" y="15722"/>
                  <a:pt x="8508" y="15776"/>
                </a:cubicBezTo>
                <a:cubicBezTo>
                  <a:pt x="8508" y="15833"/>
                  <a:pt x="8530" y="15853"/>
                  <a:pt x="8558" y="15900"/>
                </a:cubicBezTo>
                <a:cubicBezTo>
                  <a:pt x="8582" y="15941"/>
                  <a:pt x="8609" y="15989"/>
                  <a:pt x="8657" y="15999"/>
                </a:cubicBezTo>
                <a:cubicBezTo>
                  <a:pt x="8725" y="16014"/>
                  <a:pt x="8754" y="15980"/>
                  <a:pt x="8806" y="15949"/>
                </a:cubicBezTo>
                <a:cubicBezTo>
                  <a:pt x="8877" y="15907"/>
                  <a:pt x="8924" y="15837"/>
                  <a:pt x="8930" y="15751"/>
                </a:cubicBezTo>
                <a:cubicBezTo>
                  <a:pt x="8935" y="15673"/>
                  <a:pt x="8938" y="15614"/>
                  <a:pt x="8905" y="15553"/>
                </a:cubicBezTo>
                <a:cubicBezTo>
                  <a:pt x="8880" y="15506"/>
                  <a:pt x="8854" y="15469"/>
                  <a:pt x="8806" y="15453"/>
                </a:cubicBezTo>
                <a:cubicBezTo>
                  <a:pt x="8777" y="15443"/>
                  <a:pt x="8736" y="15468"/>
                  <a:pt x="8731" y="15478"/>
                </a:cubicBezTo>
                <a:cubicBezTo>
                  <a:pt x="8731" y="15503"/>
                  <a:pt x="8731" y="15511"/>
                  <a:pt x="8731" y="15528"/>
                </a:cubicBezTo>
              </a:path>
              <a:path w="9154" h="3523">
                <a:moveTo>
                  <a:pt x="9103" y="15751"/>
                </a:moveTo>
                <a:cubicBezTo>
                  <a:pt x="9156" y="15813"/>
                  <a:pt x="9153" y="15803"/>
                  <a:pt x="9153" y="15875"/>
                </a:cubicBezTo>
                <a:cubicBezTo>
                  <a:pt x="9153" y="15938"/>
                  <a:pt x="9163" y="15993"/>
                  <a:pt x="9128" y="16049"/>
                </a:cubicBezTo>
                <a:cubicBezTo>
                  <a:pt x="9097" y="16099"/>
                  <a:pt x="9087" y="16156"/>
                  <a:pt x="9054" y="16197"/>
                </a:cubicBezTo>
                <a:cubicBezTo>
                  <a:pt x="9034" y="16222"/>
                  <a:pt x="8963" y="16259"/>
                  <a:pt x="8954" y="16272"/>
                </a:cubicBezTo>
                <a:cubicBezTo>
                  <a:pt x="8929" y="16309"/>
                  <a:pt x="8930" y="16298"/>
                  <a:pt x="8930" y="16247"/>
                </a:cubicBezTo>
              </a:path>
              <a:path w="9154" h="3523">
                <a:moveTo>
                  <a:pt x="9674" y="15156"/>
                </a:moveTo>
                <a:cubicBezTo>
                  <a:pt x="9664" y="15207"/>
                  <a:pt x="9626" y="15284"/>
                  <a:pt x="9599" y="15329"/>
                </a:cubicBezTo>
                <a:cubicBezTo>
                  <a:pt x="9562" y="15391"/>
                  <a:pt x="9547" y="15438"/>
                  <a:pt x="9525" y="15503"/>
                </a:cubicBezTo>
                <a:cubicBezTo>
                  <a:pt x="9493" y="15598"/>
                  <a:pt x="9510" y="15636"/>
                  <a:pt x="9525" y="15726"/>
                </a:cubicBezTo>
                <a:cubicBezTo>
                  <a:pt x="9536" y="15791"/>
                  <a:pt x="9546" y="15845"/>
                  <a:pt x="9575" y="15900"/>
                </a:cubicBezTo>
                <a:cubicBezTo>
                  <a:pt x="9595" y="15939"/>
                  <a:pt x="9615" y="15995"/>
                  <a:pt x="9649" y="15999"/>
                </a:cubicBezTo>
                <a:cubicBezTo>
                  <a:pt x="9700" y="16005"/>
                  <a:pt x="9737" y="16006"/>
                  <a:pt x="9773" y="15974"/>
                </a:cubicBezTo>
                <a:cubicBezTo>
                  <a:pt x="9810" y="15941"/>
                  <a:pt x="9830" y="15915"/>
                  <a:pt x="9847" y="15875"/>
                </a:cubicBezTo>
                <a:cubicBezTo>
                  <a:pt x="9862" y="15840"/>
                  <a:pt x="9901" y="15778"/>
                  <a:pt x="9847" y="15751"/>
                </a:cubicBezTo>
                <a:cubicBezTo>
                  <a:pt x="9805" y="15729"/>
                  <a:pt x="9772" y="15777"/>
                  <a:pt x="9748" y="15801"/>
                </a:cubicBezTo>
                <a:cubicBezTo>
                  <a:pt x="9705" y="15843"/>
                  <a:pt x="9684" y="15917"/>
                  <a:pt x="9674" y="15974"/>
                </a:cubicBezTo>
                <a:cubicBezTo>
                  <a:pt x="9668" y="16012"/>
                  <a:pt x="9671" y="16124"/>
                  <a:pt x="9699" y="16148"/>
                </a:cubicBezTo>
                <a:cubicBezTo>
                  <a:pt x="9707" y="16148"/>
                  <a:pt x="9715" y="16148"/>
                  <a:pt x="9723" y="16148"/>
                </a:cubicBezTo>
              </a:path>
              <a:path w="9154" h="3523">
                <a:moveTo>
                  <a:pt x="10096" y="15354"/>
                </a:moveTo>
                <a:cubicBezTo>
                  <a:pt x="10052" y="15398"/>
                  <a:pt x="10013" y="15469"/>
                  <a:pt x="9996" y="15528"/>
                </a:cubicBezTo>
                <a:cubicBezTo>
                  <a:pt x="9973" y="15607"/>
                  <a:pt x="9971" y="15693"/>
                  <a:pt x="9971" y="15776"/>
                </a:cubicBezTo>
                <a:cubicBezTo>
                  <a:pt x="9971" y="15858"/>
                  <a:pt x="9958" y="15948"/>
                  <a:pt x="9996" y="16024"/>
                </a:cubicBezTo>
                <a:cubicBezTo>
                  <a:pt x="10018" y="16068"/>
                  <a:pt x="10022" y="16116"/>
                  <a:pt x="10071" y="16148"/>
                </a:cubicBezTo>
                <a:cubicBezTo>
                  <a:pt x="10121" y="16180"/>
                  <a:pt x="10153" y="16185"/>
                  <a:pt x="10195" y="16148"/>
                </a:cubicBezTo>
                <a:cubicBezTo>
                  <a:pt x="10248" y="16101"/>
                  <a:pt x="10284" y="16090"/>
                  <a:pt x="10319" y="16024"/>
                </a:cubicBezTo>
                <a:cubicBezTo>
                  <a:pt x="10358" y="15951"/>
                  <a:pt x="10390" y="15884"/>
                  <a:pt x="10393" y="15801"/>
                </a:cubicBezTo>
                <a:cubicBezTo>
                  <a:pt x="10396" y="15724"/>
                  <a:pt x="10394" y="15624"/>
                  <a:pt x="10368" y="15553"/>
                </a:cubicBezTo>
                <a:cubicBezTo>
                  <a:pt x="10336" y="15467"/>
                  <a:pt x="10302" y="15438"/>
                  <a:pt x="10244" y="15379"/>
                </a:cubicBezTo>
                <a:cubicBezTo>
                  <a:pt x="10210" y="15344"/>
                  <a:pt x="10181" y="15355"/>
                  <a:pt x="10145" y="15379"/>
                </a:cubicBezTo>
                <a:cubicBezTo>
                  <a:pt x="10088" y="15417"/>
                  <a:pt x="10090" y="15450"/>
                  <a:pt x="10071" y="15503"/>
                </a:cubicBezTo>
                <a:cubicBezTo>
                  <a:pt x="10048" y="15568"/>
                  <a:pt x="10046" y="15608"/>
                  <a:pt x="10046" y="15677"/>
                </a:cubicBezTo>
                <a:cubicBezTo>
                  <a:pt x="10046" y="15744"/>
                  <a:pt x="10036" y="15736"/>
                  <a:pt x="10096" y="15776"/>
                </a:cubicBezTo>
              </a:path>
              <a:path w="9154" h="3523">
                <a:moveTo>
                  <a:pt x="10790" y="15453"/>
                </a:moveTo>
                <a:cubicBezTo>
                  <a:pt x="10773" y="15415"/>
                  <a:pt x="10760" y="15349"/>
                  <a:pt x="10716" y="15329"/>
                </a:cubicBezTo>
                <a:cubicBezTo>
                  <a:pt x="10696" y="15320"/>
                  <a:pt x="10644" y="15288"/>
                  <a:pt x="10616" y="15304"/>
                </a:cubicBezTo>
                <a:cubicBezTo>
                  <a:pt x="10579" y="15325"/>
                  <a:pt x="10570" y="15370"/>
                  <a:pt x="10567" y="15404"/>
                </a:cubicBezTo>
                <a:cubicBezTo>
                  <a:pt x="10562" y="15460"/>
                  <a:pt x="10575" y="15527"/>
                  <a:pt x="10592" y="15577"/>
                </a:cubicBezTo>
                <a:cubicBezTo>
                  <a:pt x="10615" y="15643"/>
                  <a:pt x="10659" y="15691"/>
                  <a:pt x="10691" y="15751"/>
                </a:cubicBezTo>
                <a:cubicBezTo>
                  <a:pt x="10720" y="15806"/>
                  <a:pt x="10776" y="15862"/>
                  <a:pt x="10790" y="15925"/>
                </a:cubicBezTo>
                <a:cubicBezTo>
                  <a:pt x="10804" y="15987"/>
                  <a:pt x="10836" y="16030"/>
                  <a:pt x="10840" y="16098"/>
                </a:cubicBezTo>
                <a:cubicBezTo>
                  <a:pt x="10844" y="16173"/>
                  <a:pt x="10835" y="16234"/>
                  <a:pt x="10790" y="16297"/>
                </a:cubicBezTo>
                <a:cubicBezTo>
                  <a:pt x="10761" y="16339"/>
                  <a:pt x="10715" y="16366"/>
                  <a:pt x="10666" y="16371"/>
                </a:cubicBezTo>
                <a:cubicBezTo>
                  <a:pt x="10626" y="16375"/>
                  <a:pt x="10586" y="16362"/>
                  <a:pt x="10567" y="16321"/>
                </a:cubicBezTo>
                <a:cubicBezTo>
                  <a:pt x="10551" y="16285"/>
                  <a:pt x="10529" y="16217"/>
                  <a:pt x="10542" y="16173"/>
                </a:cubicBezTo>
                <a:cubicBezTo>
                  <a:pt x="10564" y="16100"/>
                  <a:pt x="10601" y="16027"/>
                  <a:pt x="10616" y="15949"/>
                </a:cubicBezTo>
                <a:cubicBezTo>
                  <a:pt x="10633" y="15859"/>
                  <a:pt x="10687" y="15803"/>
                  <a:pt x="10716" y="15726"/>
                </a:cubicBezTo>
                <a:cubicBezTo>
                  <a:pt x="10733" y="15680"/>
                  <a:pt x="10778" y="15597"/>
                  <a:pt x="10790" y="15553"/>
                </a:cubicBezTo>
                <a:cubicBezTo>
                  <a:pt x="10796" y="15531"/>
                  <a:pt x="10843" y="15426"/>
                  <a:pt x="10840" y="15404"/>
                </a:cubicBezTo>
                <a:cubicBezTo>
                  <a:pt x="10815" y="15354"/>
                  <a:pt x="10807" y="15337"/>
                  <a:pt x="10790" y="15304"/>
                </a:cubicBezTo>
              </a:path>
              <a:path w="9154" h="3523">
                <a:moveTo>
                  <a:pt x="2853" y="14139"/>
                </a:moveTo>
                <a:cubicBezTo>
                  <a:pt x="2839" y="14321"/>
                  <a:pt x="2830" y="14496"/>
                  <a:pt x="2828" y="14684"/>
                </a:cubicBezTo>
                <a:cubicBezTo>
                  <a:pt x="2822" y="15123"/>
                  <a:pt x="2838" y="15565"/>
                  <a:pt x="2778" y="15999"/>
                </a:cubicBezTo>
                <a:cubicBezTo>
                  <a:pt x="2759" y="16056"/>
                  <a:pt x="2750" y="16063"/>
                  <a:pt x="2753" y="16098"/>
                </a:cubicBezTo>
                <a:cubicBezTo>
                  <a:pt x="2737" y="16003"/>
                  <a:pt x="2710" y="15971"/>
                  <a:pt x="2704" y="15875"/>
                </a:cubicBezTo>
                <a:cubicBezTo>
                  <a:pt x="2683" y="15523"/>
                  <a:pt x="2684" y="15159"/>
                  <a:pt x="2679" y="14808"/>
                </a:cubicBezTo>
                <a:cubicBezTo>
                  <a:pt x="2678" y="14703"/>
                  <a:pt x="2668" y="14583"/>
                  <a:pt x="2704" y="14486"/>
                </a:cubicBezTo>
                <a:cubicBezTo>
                  <a:pt x="2727" y="14423"/>
                  <a:pt x="2741" y="14386"/>
                  <a:pt x="2803" y="14337"/>
                </a:cubicBezTo>
                <a:cubicBezTo>
                  <a:pt x="2860" y="14291"/>
                  <a:pt x="2931" y="14306"/>
                  <a:pt x="3001" y="14288"/>
                </a:cubicBezTo>
                <a:cubicBezTo>
                  <a:pt x="3114" y="14259"/>
                  <a:pt x="3284" y="14267"/>
                  <a:pt x="3398" y="14263"/>
                </a:cubicBezTo>
                <a:cubicBezTo>
                  <a:pt x="3600" y="14256"/>
                  <a:pt x="3792" y="14222"/>
                  <a:pt x="3994" y="14213"/>
                </a:cubicBezTo>
                <a:cubicBezTo>
                  <a:pt x="4187" y="14205"/>
                  <a:pt x="4373" y="14174"/>
                  <a:pt x="4564" y="14163"/>
                </a:cubicBezTo>
                <a:cubicBezTo>
                  <a:pt x="4778" y="14151"/>
                  <a:pt x="4995" y="14144"/>
                  <a:pt x="5209" y="14139"/>
                </a:cubicBezTo>
                <a:cubicBezTo>
                  <a:pt x="5760" y="14126"/>
                  <a:pt x="6322" y="14127"/>
                  <a:pt x="6871" y="14163"/>
                </a:cubicBezTo>
                <a:cubicBezTo>
                  <a:pt x="7153" y="14181"/>
                  <a:pt x="7433" y="14204"/>
                  <a:pt x="7714" y="14238"/>
                </a:cubicBezTo>
                <a:cubicBezTo>
                  <a:pt x="8664" y="14353"/>
                  <a:pt x="9616" y="14490"/>
                  <a:pt x="10567" y="14560"/>
                </a:cubicBezTo>
                <a:cubicBezTo>
                  <a:pt x="10711" y="14571"/>
                  <a:pt x="10871" y="14585"/>
                  <a:pt x="11013" y="14610"/>
                </a:cubicBezTo>
                <a:cubicBezTo>
                  <a:pt x="11112" y="14628"/>
                  <a:pt x="11198" y="14635"/>
                  <a:pt x="11286" y="14684"/>
                </a:cubicBezTo>
                <a:cubicBezTo>
                  <a:pt x="11420" y="14760"/>
                  <a:pt x="11460" y="14883"/>
                  <a:pt x="11485" y="15032"/>
                </a:cubicBezTo>
                <a:cubicBezTo>
                  <a:pt x="11510" y="15182"/>
                  <a:pt x="11503" y="15351"/>
                  <a:pt x="11509" y="15503"/>
                </a:cubicBezTo>
                <a:cubicBezTo>
                  <a:pt x="11516" y="15670"/>
                  <a:pt x="11520" y="15833"/>
                  <a:pt x="11534" y="15999"/>
                </a:cubicBezTo>
                <a:cubicBezTo>
                  <a:pt x="11548" y="16173"/>
                  <a:pt x="11547" y="16346"/>
                  <a:pt x="11559" y="16520"/>
                </a:cubicBezTo>
                <a:cubicBezTo>
                  <a:pt x="11569" y="16672"/>
                  <a:pt x="11591" y="16817"/>
                  <a:pt x="11609" y="16966"/>
                </a:cubicBezTo>
                <a:cubicBezTo>
                  <a:pt x="11618" y="17042"/>
                  <a:pt x="11626" y="17114"/>
                  <a:pt x="11633" y="17190"/>
                </a:cubicBezTo>
                <a:cubicBezTo>
                  <a:pt x="11633" y="17198"/>
                  <a:pt x="11633" y="17206"/>
                  <a:pt x="11633" y="17214"/>
                </a:cubicBezTo>
                <a:cubicBezTo>
                  <a:pt x="11591" y="17206"/>
                  <a:pt x="11538" y="17195"/>
                  <a:pt x="11485" y="17190"/>
                </a:cubicBezTo>
                <a:cubicBezTo>
                  <a:pt x="11411" y="17182"/>
                  <a:pt x="11343" y="17164"/>
                  <a:pt x="11261" y="17165"/>
                </a:cubicBezTo>
                <a:cubicBezTo>
                  <a:pt x="11186" y="17166"/>
                  <a:pt x="11118" y="17188"/>
                  <a:pt x="11038" y="17190"/>
                </a:cubicBezTo>
                <a:cubicBezTo>
                  <a:pt x="10860" y="17194"/>
                  <a:pt x="10692" y="17172"/>
                  <a:pt x="10517" y="17165"/>
                </a:cubicBezTo>
                <a:cubicBezTo>
                  <a:pt x="10170" y="17152"/>
                  <a:pt x="9820" y="17168"/>
                  <a:pt x="9475" y="17190"/>
                </a:cubicBezTo>
                <a:cubicBezTo>
                  <a:pt x="9262" y="17204"/>
                  <a:pt x="9044" y="17223"/>
                  <a:pt x="8830" y="17239"/>
                </a:cubicBezTo>
                <a:cubicBezTo>
                  <a:pt x="8638" y="17254"/>
                  <a:pt x="8451" y="17283"/>
                  <a:pt x="8260" y="17314"/>
                </a:cubicBezTo>
                <a:cubicBezTo>
                  <a:pt x="8063" y="17346"/>
                  <a:pt x="7863" y="17379"/>
                  <a:pt x="7665" y="17388"/>
                </a:cubicBezTo>
                <a:cubicBezTo>
                  <a:pt x="7456" y="17398"/>
                  <a:pt x="7252" y="17427"/>
                  <a:pt x="7045" y="17438"/>
                </a:cubicBezTo>
                <a:cubicBezTo>
                  <a:pt x="6838" y="17449"/>
                  <a:pt x="6631" y="17457"/>
                  <a:pt x="6424" y="17462"/>
                </a:cubicBezTo>
                <a:cubicBezTo>
                  <a:pt x="6216" y="17467"/>
                  <a:pt x="6010" y="17453"/>
                  <a:pt x="5804" y="17438"/>
                </a:cubicBezTo>
                <a:cubicBezTo>
                  <a:pt x="5605" y="17424"/>
                  <a:pt x="5408" y="17425"/>
                  <a:pt x="5209" y="17413"/>
                </a:cubicBezTo>
                <a:cubicBezTo>
                  <a:pt x="4978" y="17399"/>
                  <a:pt x="4748" y="17388"/>
                  <a:pt x="4514" y="17388"/>
                </a:cubicBezTo>
                <a:cubicBezTo>
                  <a:pt x="4193" y="17388"/>
                  <a:pt x="3916" y="17419"/>
                  <a:pt x="3597" y="17462"/>
                </a:cubicBezTo>
                <a:cubicBezTo>
                  <a:pt x="3435" y="17484"/>
                  <a:pt x="3286" y="17525"/>
                  <a:pt x="3125" y="17562"/>
                </a:cubicBezTo>
                <a:cubicBezTo>
                  <a:pt x="3037" y="17582"/>
                  <a:pt x="2939" y="17631"/>
                  <a:pt x="2853" y="17636"/>
                </a:cubicBezTo>
                <a:cubicBezTo>
                  <a:pt x="2794" y="17639"/>
                  <a:pt x="2756" y="17636"/>
                  <a:pt x="2704" y="17636"/>
                </a:cubicBezTo>
                <a:cubicBezTo>
                  <a:pt x="2681" y="17613"/>
                  <a:pt x="2677" y="17605"/>
                  <a:pt x="2654" y="17611"/>
                </a:cubicBezTo>
                <a:cubicBezTo>
                  <a:pt x="2660" y="17353"/>
                  <a:pt x="2676" y="17099"/>
                  <a:pt x="2679" y="16842"/>
                </a:cubicBezTo>
                <a:cubicBezTo>
                  <a:pt x="2684" y="16283"/>
                  <a:pt x="2600" y="15778"/>
                  <a:pt x="2480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83240" y="5473800"/>
            <a:ext cx="642960" cy="330120"/>
          </a:xfrm>
          <a:custGeom>
            <a:avLst/>
            <a:gdLst/>
            <a:ahLst/>
            <a:rect l="l" t="t" r="r" b="b"/>
            <a:pathLst>
              <a:path w="1787" h="919">
                <a:moveTo>
                  <a:pt x="18008" y="15354"/>
                </a:moveTo>
                <a:cubicBezTo>
                  <a:pt x="18030" y="15452"/>
                  <a:pt x="18083" y="15535"/>
                  <a:pt x="18132" y="15627"/>
                </a:cubicBezTo>
                <a:cubicBezTo>
                  <a:pt x="18197" y="15748"/>
                  <a:pt x="18281" y="15903"/>
                  <a:pt x="18380" y="15999"/>
                </a:cubicBezTo>
                <a:cubicBezTo>
                  <a:pt x="18490" y="16086"/>
                  <a:pt x="18513" y="16115"/>
                  <a:pt x="18604" y="16123"/>
                </a:cubicBezTo>
              </a:path>
              <a:path w="1787" h="919">
                <a:moveTo>
                  <a:pt x="18479" y="15379"/>
                </a:moveTo>
                <a:cubicBezTo>
                  <a:pt x="18390" y="15519"/>
                  <a:pt x="18336" y="15659"/>
                  <a:pt x="18256" y="15801"/>
                </a:cubicBezTo>
                <a:cubicBezTo>
                  <a:pt x="18212" y="15878"/>
                  <a:pt x="18162" y="15969"/>
                  <a:pt x="18132" y="16049"/>
                </a:cubicBezTo>
                <a:cubicBezTo>
                  <a:pt x="18132" y="16077"/>
                  <a:pt x="18129" y="16087"/>
                  <a:pt x="18107" y="16098"/>
                </a:cubicBezTo>
              </a:path>
              <a:path w="1787" h="919">
                <a:moveTo>
                  <a:pt x="18479" y="15230"/>
                </a:moveTo>
                <a:cubicBezTo>
                  <a:pt x="18581" y="15213"/>
                  <a:pt x="18728" y="15171"/>
                  <a:pt x="18827" y="15230"/>
                </a:cubicBezTo>
                <a:cubicBezTo>
                  <a:pt x="18903" y="15275"/>
                  <a:pt x="18977" y="15397"/>
                  <a:pt x="19000" y="15478"/>
                </a:cubicBezTo>
                <a:cubicBezTo>
                  <a:pt x="19026" y="15569"/>
                  <a:pt x="18939" y="15633"/>
                  <a:pt x="18901" y="15701"/>
                </a:cubicBezTo>
                <a:cubicBezTo>
                  <a:pt x="18857" y="15780"/>
                  <a:pt x="18795" y="15843"/>
                  <a:pt x="18752" y="15925"/>
                </a:cubicBezTo>
                <a:cubicBezTo>
                  <a:pt x="18730" y="15966"/>
                  <a:pt x="18691" y="16000"/>
                  <a:pt x="18703" y="16049"/>
                </a:cubicBezTo>
                <a:cubicBezTo>
                  <a:pt x="18720" y="16121"/>
                  <a:pt x="18754" y="16119"/>
                  <a:pt x="18827" y="16123"/>
                </a:cubicBezTo>
                <a:cubicBezTo>
                  <a:pt x="18933" y="16128"/>
                  <a:pt x="19046" y="16116"/>
                  <a:pt x="19149" y="16098"/>
                </a:cubicBezTo>
                <a:cubicBezTo>
                  <a:pt x="19296" y="16072"/>
                  <a:pt x="19400" y="16086"/>
                  <a:pt x="19546" y="16098"/>
                </a:cubicBezTo>
                <a:cubicBezTo>
                  <a:pt x="19632" y="16105"/>
                  <a:pt x="19708" y="16116"/>
                  <a:pt x="19794" y="161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1800" y="4875120"/>
            <a:ext cx="2892240" cy="376200"/>
          </a:xfrm>
          <a:custGeom>
            <a:avLst/>
            <a:gdLst/>
            <a:ahLst/>
            <a:rect l="l" t="t" r="r" b="b"/>
            <a:pathLst>
              <a:path w="8038" h="1043">
                <a:moveTo>
                  <a:pt x="15553" y="13965"/>
                </a:moveTo>
                <a:cubicBezTo>
                  <a:pt x="15608" y="14096"/>
                  <a:pt x="15656" y="14238"/>
                  <a:pt x="15726" y="14362"/>
                </a:cubicBezTo>
                <a:cubicBezTo>
                  <a:pt x="15754" y="14411"/>
                  <a:pt x="15841" y="14541"/>
                  <a:pt x="15900" y="14560"/>
                </a:cubicBezTo>
                <a:cubicBezTo>
                  <a:pt x="15976" y="14585"/>
                  <a:pt x="15992" y="14509"/>
                  <a:pt x="15999" y="14461"/>
                </a:cubicBezTo>
              </a:path>
              <a:path w="8038" h="1043">
                <a:moveTo>
                  <a:pt x="15850" y="13990"/>
                </a:moveTo>
                <a:cubicBezTo>
                  <a:pt x="15767" y="14104"/>
                  <a:pt x="15699" y="14217"/>
                  <a:pt x="15627" y="14337"/>
                </a:cubicBezTo>
                <a:cubicBezTo>
                  <a:pt x="15588" y="14402"/>
                  <a:pt x="15520" y="14467"/>
                  <a:pt x="15503" y="14536"/>
                </a:cubicBezTo>
              </a:path>
              <a:path w="8038" h="1043">
                <a:moveTo>
                  <a:pt x="16098" y="13816"/>
                </a:moveTo>
                <a:cubicBezTo>
                  <a:pt x="16211" y="13835"/>
                  <a:pt x="16434" y="13824"/>
                  <a:pt x="16470" y="13990"/>
                </a:cubicBezTo>
                <a:cubicBezTo>
                  <a:pt x="16499" y="14125"/>
                  <a:pt x="16358" y="14237"/>
                  <a:pt x="16297" y="14337"/>
                </a:cubicBezTo>
                <a:cubicBezTo>
                  <a:pt x="16255" y="14406"/>
                  <a:pt x="16220" y="14453"/>
                  <a:pt x="16272" y="14511"/>
                </a:cubicBezTo>
                <a:cubicBezTo>
                  <a:pt x="16334" y="14580"/>
                  <a:pt x="16391" y="14560"/>
                  <a:pt x="16470" y="14536"/>
                </a:cubicBezTo>
                <a:cubicBezTo>
                  <a:pt x="16545" y="14511"/>
                  <a:pt x="16569" y="14503"/>
                  <a:pt x="16619" y="14486"/>
                </a:cubicBezTo>
              </a:path>
              <a:path w="8038" h="1043">
                <a:moveTo>
                  <a:pt x="16991" y="13965"/>
                </a:moveTo>
                <a:cubicBezTo>
                  <a:pt x="17077" y="14132"/>
                  <a:pt x="17154" y="14266"/>
                  <a:pt x="17264" y="14412"/>
                </a:cubicBezTo>
                <a:cubicBezTo>
                  <a:pt x="17325" y="14492"/>
                  <a:pt x="17387" y="14525"/>
                  <a:pt x="17462" y="14585"/>
                </a:cubicBezTo>
              </a:path>
              <a:path w="8038" h="1043">
                <a:moveTo>
                  <a:pt x="17264" y="14015"/>
                </a:moveTo>
                <a:cubicBezTo>
                  <a:pt x="17174" y="14144"/>
                  <a:pt x="17015" y="14322"/>
                  <a:pt x="16966" y="14486"/>
                </a:cubicBezTo>
                <a:cubicBezTo>
                  <a:pt x="16952" y="14532"/>
                  <a:pt x="16952" y="14561"/>
                  <a:pt x="16991" y="14536"/>
                </a:cubicBezTo>
              </a:path>
              <a:path w="8038" h="1043">
                <a:moveTo>
                  <a:pt x="17611" y="13667"/>
                </a:moveTo>
                <a:cubicBezTo>
                  <a:pt x="17753" y="13703"/>
                  <a:pt x="17939" y="13692"/>
                  <a:pt x="17959" y="13866"/>
                </a:cubicBezTo>
                <a:cubicBezTo>
                  <a:pt x="17972" y="13977"/>
                  <a:pt x="17945" y="14007"/>
                  <a:pt x="17884" y="14089"/>
                </a:cubicBezTo>
                <a:cubicBezTo>
                  <a:pt x="17843" y="14145"/>
                  <a:pt x="17753" y="14247"/>
                  <a:pt x="17735" y="14312"/>
                </a:cubicBezTo>
                <a:cubicBezTo>
                  <a:pt x="17721" y="14363"/>
                  <a:pt x="17742" y="14430"/>
                  <a:pt x="17785" y="14461"/>
                </a:cubicBezTo>
                <a:cubicBezTo>
                  <a:pt x="17877" y="14526"/>
                  <a:pt x="17981" y="14538"/>
                  <a:pt x="18083" y="14511"/>
                </a:cubicBezTo>
                <a:cubicBezTo>
                  <a:pt x="18108" y="14503"/>
                  <a:pt x="18132" y="14494"/>
                  <a:pt x="18157" y="14486"/>
                </a:cubicBezTo>
              </a:path>
              <a:path w="8038" h="1043">
                <a:moveTo>
                  <a:pt x="18380" y="13940"/>
                </a:moveTo>
                <a:cubicBezTo>
                  <a:pt x="18453" y="14039"/>
                  <a:pt x="18523" y="14146"/>
                  <a:pt x="18604" y="14238"/>
                </a:cubicBezTo>
                <a:cubicBezTo>
                  <a:pt x="18702" y="14348"/>
                  <a:pt x="18797" y="14417"/>
                  <a:pt x="18926" y="14486"/>
                </a:cubicBezTo>
              </a:path>
              <a:path w="8038" h="1043">
                <a:moveTo>
                  <a:pt x="18628" y="14139"/>
                </a:moveTo>
                <a:cubicBezTo>
                  <a:pt x="18597" y="14196"/>
                  <a:pt x="18465" y="14383"/>
                  <a:pt x="18455" y="14486"/>
                </a:cubicBezTo>
                <a:cubicBezTo>
                  <a:pt x="18455" y="14529"/>
                  <a:pt x="18460" y="14520"/>
                  <a:pt x="18479" y="14436"/>
                </a:cubicBezTo>
              </a:path>
              <a:path w="8038" h="1043">
                <a:moveTo>
                  <a:pt x="18901" y="13667"/>
                </a:moveTo>
                <a:cubicBezTo>
                  <a:pt x="19034" y="13673"/>
                  <a:pt x="19152" y="13644"/>
                  <a:pt x="19224" y="13767"/>
                </a:cubicBezTo>
                <a:cubicBezTo>
                  <a:pt x="19278" y="13859"/>
                  <a:pt x="19266" y="13892"/>
                  <a:pt x="19224" y="13990"/>
                </a:cubicBezTo>
                <a:cubicBezTo>
                  <a:pt x="19190" y="14068"/>
                  <a:pt x="19120" y="14106"/>
                  <a:pt x="19075" y="14163"/>
                </a:cubicBezTo>
                <a:cubicBezTo>
                  <a:pt x="19041" y="14206"/>
                  <a:pt x="19025" y="14259"/>
                  <a:pt x="19025" y="14312"/>
                </a:cubicBezTo>
                <a:cubicBezTo>
                  <a:pt x="19025" y="14372"/>
                  <a:pt x="19120" y="14424"/>
                  <a:pt x="19174" y="14436"/>
                </a:cubicBezTo>
                <a:cubicBezTo>
                  <a:pt x="19281" y="14459"/>
                  <a:pt x="19356" y="14424"/>
                  <a:pt x="19447" y="14387"/>
                </a:cubicBezTo>
                <a:cubicBezTo>
                  <a:pt x="19472" y="14379"/>
                  <a:pt x="19496" y="14370"/>
                  <a:pt x="19521" y="14362"/>
                </a:cubicBezTo>
              </a:path>
              <a:path w="8038" h="1043">
                <a:moveTo>
                  <a:pt x="19695" y="13841"/>
                </a:moveTo>
                <a:cubicBezTo>
                  <a:pt x="19748" y="13959"/>
                  <a:pt x="19805" y="14089"/>
                  <a:pt x="19893" y="14188"/>
                </a:cubicBezTo>
                <a:cubicBezTo>
                  <a:pt x="19989" y="14296"/>
                  <a:pt x="20043" y="14335"/>
                  <a:pt x="20166" y="14387"/>
                </a:cubicBezTo>
              </a:path>
              <a:path w="8038" h="1043">
                <a:moveTo>
                  <a:pt x="19968" y="13891"/>
                </a:moveTo>
                <a:cubicBezTo>
                  <a:pt x="19829" y="14035"/>
                  <a:pt x="19752" y="14101"/>
                  <a:pt x="19670" y="14263"/>
                </a:cubicBezTo>
                <a:cubicBezTo>
                  <a:pt x="19637" y="14329"/>
                  <a:pt x="19636" y="14292"/>
                  <a:pt x="19621" y="14337"/>
                </a:cubicBezTo>
              </a:path>
              <a:path w="8038" h="1043">
                <a:moveTo>
                  <a:pt x="20414" y="13643"/>
                </a:moveTo>
                <a:cubicBezTo>
                  <a:pt x="20497" y="13666"/>
                  <a:pt x="20646" y="13690"/>
                  <a:pt x="20687" y="13791"/>
                </a:cubicBezTo>
                <a:cubicBezTo>
                  <a:pt x="20724" y="13882"/>
                  <a:pt x="20653" y="13914"/>
                  <a:pt x="20613" y="13965"/>
                </a:cubicBezTo>
                <a:cubicBezTo>
                  <a:pt x="20562" y="14029"/>
                  <a:pt x="20506" y="14062"/>
                  <a:pt x="20439" y="14114"/>
                </a:cubicBezTo>
                <a:cubicBezTo>
                  <a:pt x="20401" y="14143"/>
                  <a:pt x="20354" y="14215"/>
                  <a:pt x="20365" y="14263"/>
                </a:cubicBezTo>
                <a:cubicBezTo>
                  <a:pt x="20379" y="14324"/>
                  <a:pt x="20441" y="14384"/>
                  <a:pt x="20489" y="14412"/>
                </a:cubicBezTo>
                <a:cubicBezTo>
                  <a:pt x="20568" y="14458"/>
                  <a:pt x="20677" y="14470"/>
                  <a:pt x="20762" y="14436"/>
                </a:cubicBezTo>
                <a:cubicBezTo>
                  <a:pt x="20787" y="14420"/>
                  <a:pt x="20811" y="14403"/>
                  <a:pt x="20836" y="14387"/>
                </a:cubicBezTo>
              </a:path>
              <a:path w="8038" h="1043">
                <a:moveTo>
                  <a:pt x="20935" y="13742"/>
                </a:moveTo>
                <a:cubicBezTo>
                  <a:pt x="21041" y="13884"/>
                  <a:pt x="21115" y="13988"/>
                  <a:pt x="21258" y="14089"/>
                </a:cubicBezTo>
                <a:cubicBezTo>
                  <a:pt x="21345" y="14151"/>
                  <a:pt x="21358" y="14170"/>
                  <a:pt x="21456" y="14188"/>
                </a:cubicBezTo>
              </a:path>
              <a:path w="8038" h="1043">
                <a:moveTo>
                  <a:pt x="21307" y="13841"/>
                </a:moveTo>
                <a:cubicBezTo>
                  <a:pt x="21165" y="13946"/>
                  <a:pt x="21082" y="14024"/>
                  <a:pt x="20985" y="14163"/>
                </a:cubicBezTo>
                <a:cubicBezTo>
                  <a:pt x="20955" y="14193"/>
                  <a:pt x="20944" y="14207"/>
                  <a:pt x="20935" y="14238"/>
                </a:cubicBezTo>
              </a:path>
              <a:path w="8038" h="1043">
                <a:moveTo>
                  <a:pt x="21456" y="13568"/>
                </a:moveTo>
                <a:cubicBezTo>
                  <a:pt x="21590" y="13576"/>
                  <a:pt x="21656" y="13574"/>
                  <a:pt x="21754" y="13667"/>
                </a:cubicBezTo>
                <a:cubicBezTo>
                  <a:pt x="21800" y="13711"/>
                  <a:pt x="21822" y="13774"/>
                  <a:pt x="21803" y="13841"/>
                </a:cubicBezTo>
                <a:cubicBezTo>
                  <a:pt x="21781" y="13918"/>
                  <a:pt x="21698" y="13953"/>
                  <a:pt x="21654" y="14015"/>
                </a:cubicBezTo>
                <a:cubicBezTo>
                  <a:pt x="21623" y="14058"/>
                  <a:pt x="21583" y="14136"/>
                  <a:pt x="21580" y="14188"/>
                </a:cubicBezTo>
                <a:cubicBezTo>
                  <a:pt x="21578" y="14224"/>
                  <a:pt x="21615" y="14346"/>
                  <a:pt x="21654" y="14362"/>
                </a:cubicBezTo>
                <a:cubicBezTo>
                  <a:pt x="21805" y="14424"/>
                  <a:pt x="21927" y="14364"/>
                  <a:pt x="22051" y="14288"/>
                </a:cubicBezTo>
              </a:path>
              <a:path w="8038" h="1043">
                <a:moveTo>
                  <a:pt x="22299" y="13643"/>
                </a:moveTo>
                <a:cubicBezTo>
                  <a:pt x="22268" y="13685"/>
                  <a:pt x="22215" y="13736"/>
                  <a:pt x="22200" y="13791"/>
                </a:cubicBezTo>
                <a:cubicBezTo>
                  <a:pt x="22176" y="13877"/>
                  <a:pt x="22182" y="13931"/>
                  <a:pt x="22200" y="14015"/>
                </a:cubicBezTo>
                <a:cubicBezTo>
                  <a:pt x="22209" y="14058"/>
                  <a:pt x="22221" y="14100"/>
                  <a:pt x="22225" y="14139"/>
                </a:cubicBezTo>
                <a:cubicBezTo>
                  <a:pt x="22231" y="14191"/>
                  <a:pt x="22237" y="14175"/>
                  <a:pt x="22250" y="14213"/>
                </a:cubicBezTo>
                <a:cubicBezTo>
                  <a:pt x="22218" y="14166"/>
                  <a:pt x="22234" y="14210"/>
                  <a:pt x="22250" y="14163"/>
                </a:cubicBezTo>
              </a:path>
              <a:path w="8038" h="1043">
                <a:moveTo>
                  <a:pt x="22051" y="13767"/>
                </a:moveTo>
                <a:cubicBezTo>
                  <a:pt x="22133" y="13893"/>
                  <a:pt x="22209" y="13975"/>
                  <a:pt x="22299" y="14089"/>
                </a:cubicBezTo>
                <a:cubicBezTo>
                  <a:pt x="22366" y="14173"/>
                  <a:pt x="22434" y="14272"/>
                  <a:pt x="22523" y="14337"/>
                </a:cubicBezTo>
                <a:cubicBezTo>
                  <a:pt x="22560" y="14364"/>
                  <a:pt x="22607" y="14402"/>
                  <a:pt x="22647" y="14412"/>
                </a:cubicBezTo>
              </a:path>
              <a:path w="8038" h="1043">
                <a:moveTo>
                  <a:pt x="22423" y="13543"/>
                </a:moveTo>
                <a:cubicBezTo>
                  <a:pt x="22347" y="13683"/>
                  <a:pt x="22299" y="13793"/>
                  <a:pt x="22250" y="13940"/>
                </a:cubicBezTo>
                <a:cubicBezTo>
                  <a:pt x="22218" y="14035"/>
                  <a:pt x="22169" y="14140"/>
                  <a:pt x="22151" y="14238"/>
                </a:cubicBezTo>
                <a:cubicBezTo>
                  <a:pt x="22140" y="14296"/>
                  <a:pt x="22114" y="14336"/>
                  <a:pt x="22101" y="14387"/>
                </a:cubicBezTo>
              </a:path>
              <a:path w="8038" h="1043">
                <a:moveTo>
                  <a:pt x="22647" y="13643"/>
                </a:moveTo>
                <a:cubicBezTo>
                  <a:pt x="22722" y="13612"/>
                  <a:pt x="22831" y="13543"/>
                  <a:pt x="22920" y="13568"/>
                </a:cubicBezTo>
                <a:cubicBezTo>
                  <a:pt x="22965" y="13581"/>
                  <a:pt x="23003" y="13590"/>
                  <a:pt x="23019" y="13643"/>
                </a:cubicBezTo>
                <a:cubicBezTo>
                  <a:pt x="23035" y="13697"/>
                  <a:pt x="23010" y="13792"/>
                  <a:pt x="22994" y="13841"/>
                </a:cubicBezTo>
                <a:cubicBezTo>
                  <a:pt x="22977" y="13893"/>
                  <a:pt x="22948" y="13970"/>
                  <a:pt x="22920" y="14015"/>
                </a:cubicBezTo>
                <a:cubicBezTo>
                  <a:pt x="22892" y="14061"/>
                  <a:pt x="22873" y="14106"/>
                  <a:pt x="22870" y="14163"/>
                </a:cubicBezTo>
                <a:cubicBezTo>
                  <a:pt x="22867" y="14210"/>
                  <a:pt x="22867" y="14228"/>
                  <a:pt x="22895" y="14263"/>
                </a:cubicBezTo>
                <a:cubicBezTo>
                  <a:pt x="22916" y="14290"/>
                  <a:pt x="22929" y="14291"/>
                  <a:pt x="22969" y="14312"/>
                </a:cubicBezTo>
                <a:cubicBezTo>
                  <a:pt x="23048" y="14353"/>
                  <a:pt x="23154" y="14359"/>
                  <a:pt x="23242" y="14362"/>
                </a:cubicBezTo>
                <a:cubicBezTo>
                  <a:pt x="23364" y="14366"/>
                  <a:pt x="23423" y="14349"/>
                  <a:pt x="23540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ages 644-645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#1-17,21,27,55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21Z</dcterms:created>
  <dc:creator>jnewman</dc:creator>
  <dc:description/>
  <dc:language>en-US</dc:language>
  <cp:lastModifiedBy>abeason</cp:lastModifiedBy>
  <dcterms:modified xsi:type="dcterms:W3CDTF">2009-03-17T18:07:42Z</dcterms:modified>
  <cp:revision>11</cp:revision>
  <dc:subject/>
  <dc:title>Lesson 9.3</dc:title>
</cp:coreProperties>
</file>